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B475-5981-47A4-A142-7C6A44666BA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292F-D138-45A5-A428-B7FF114364B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210-AFE1-460F-8656-5B245768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FD1-1AEA-4419-ADB3-A57021F6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2C1-6C3B-4C77-81F1-4A961956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11D-32ED-4796-9A44-0A70B97E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1E05-B5BB-4DE8-BEFC-6A8AE131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ACE1-0A6B-43CE-BC71-2775525E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FC7A-A219-4467-AD6E-81BCAB77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821E-1F13-418B-9A6B-560668A3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208B-8568-417C-9290-B63E1960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95A8-6D68-4737-AF09-70EA74F0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BDC0-1947-4B2E-8479-3A1C5610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E31-6850-42F4-9830-8DE7757C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4848-4B94-419F-BD3B-9CD1DDD3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DE34-854E-4C24-AB43-4B5E8918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4B16-F626-4195-9534-964ABA9D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DEC7-A4F9-407D-B34C-4772F4FD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18CE-2AE2-4CBF-9445-47A41899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41A4A-AF8C-43E6-807C-6A66C9B8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9A282-69EC-4B7A-94EB-58878BF0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549CE-BFE4-4A42-A7C5-76BAF637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FDD5D-089B-4F52-85D9-DD065770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BE618-F82B-4BA2-A948-72C3EDA0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87E6-9F1C-4EB0-8CC1-74DE48CA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F922-6686-43AB-AA63-65378175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97D3-FEB5-4425-ACE9-374D336B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B9C82-7C04-4B6F-9E13-17E9D8F2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7282-1289-440C-949F-6D134F02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A92E6-A4CA-41BB-8027-9AB09F64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2C9B2-C758-42C6-B6AC-6036F4AC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48D86-0987-4CC1-8212-ECAAC3F4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F5D7B-B783-431F-AEFF-71F4E85F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35481-2749-4FFF-91E6-CABE78B2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0D8CE-BDBD-4C8C-9223-32C2C640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5DC-60EB-49C9-B327-39C2B21E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B3960-E1D6-4566-B818-67A99458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D214-71E6-4EE8-816A-EAB2ACDF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33F35-7850-40AB-8DE5-FC009135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62242-7FB8-415E-AF9B-B7DFD7BF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00352-CD25-4EB1-812C-6A59CFB9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F15C9-2BC4-4627-8B5A-620F22E1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B0C54-EC6C-415C-8E4D-825AD9B9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38137-3984-4578-8B2C-F08DC3E7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9513D-3C63-4D8F-9AD3-D1F3EAE1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D9D-8231-45EF-9375-5DD892CE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134-235B-4503-9776-B7B65D6D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C7A-123D-4CD2-8766-088FCA9D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FEB-6C3F-4861-9EE0-28F36916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35F-8F99-4F69-B11D-8C0D0790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B162-F0C1-4431-A330-15575BB6AB8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2BA3-523B-4ECB-BB37-4A4C97680E1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B295-2658-4BC2-8988-D488CA40AFF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9BB4-7E71-4A10-98FC-B18936C85B6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1371600" y="1530360"/>
            <a:ext cx="6845400" cy="2309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98720" y="4519440"/>
            <a:ext cx="501336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plat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4"/>
              <p:cNvSpPr txBox="1"/>
              <p:nvPr/>
            </p:nvSpPr>
            <p:spPr>
              <a:xfrm>
                <a:off x="2124000" y="3933720"/>
                <a:ext cx="201636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0" name="Group 9"/>
          <p:cNvGrpSpPr/>
          <p:nvPr/>
        </p:nvGrpSpPr>
        <p:grpSpPr>
          <a:xfrm>
            <a:off x="5508720" y="3213000"/>
            <a:ext cx="2735280" cy="2363400"/>
            <a:chOff x="5508720" y="3213000"/>
            <a:chExt cx="2735280" cy="2363400"/>
          </a:xfrm>
        </p:grpSpPr>
        <p:sp>
          <p:nvSpPr>
            <p:cNvPr id="271" name="Rectangle 10"/>
            <p:cNvSpPr/>
            <p:nvPr/>
          </p:nvSpPr>
          <p:spPr>
            <a:xfrm>
              <a:off x="5960520" y="4158360"/>
              <a:ext cx="1806840" cy="14180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6261480" y="4473360"/>
              <a:ext cx="602280" cy="4726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7315560" y="4946400"/>
              <a:ext cx="300960" cy="63000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13"/>
            <p:cNvSpPr/>
            <p:nvPr/>
          </p:nvSpPr>
          <p:spPr>
            <a:xfrm>
              <a:off x="6111000" y="3213000"/>
              <a:ext cx="300960" cy="630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14"/>
            <p:cNvSpPr/>
            <p:nvPr/>
          </p:nvSpPr>
          <p:spPr>
            <a:xfrm>
              <a:off x="5508720" y="3370320"/>
              <a:ext cx="2735280" cy="787680"/>
            </a:xfrm>
            <a:prstGeom prst="triangle">
              <a:avLst>
                <a:gd name="adj" fmla="val 5044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Line 15"/>
            <p:cNvSpPr/>
            <p:nvPr/>
          </p:nvSpPr>
          <p:spPr>
            <a:xfrm>
              <a:off x="6562800" y="4473360"/>
              <a:ext cx="0" cy="47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Line 16"/>
            <p:cNvSpPr/>
            <p:nvPr/>
          </p:nvSpPr>
          <p:spPr>
            <a:xfrm>
              <a:off x="7466040" y="526140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" name="Line 19"/>
          <p:cNvSpPr/>
          <p:nvPr/>
        </p:nvSpPr>
        <p:spPr>
          <a:xfrm flipV="1">
            <a:off x="5529240" y="3357360"/>
            <a:ext cx="1347840" cy="77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6877080" y="3357720"/>
            <a:ext cx="1366920" cy="79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5508720" y="4149720"/>
            <a:ext cx="273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Picture 23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453708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taisn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9"/>
              <p:cNvSpPr txBox="1"/>
              <p:nvPr/>
            </p:nvSpPr>
            <p:spPr>
              <a:xfrm>
                <a:off x="2843280" y="4221000"/>
                <a:ext cx="19414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&lt;=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84" name="Picture 8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2004840" cy="201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"/>
          <p:cNvPicPr/>
          <p:nvPr/>
        </p:nvPicPr>
        <p:blipFill>
          <a:blip r:embed="rId3"/>
          <a:stretch/>
        </p:blipFill>
        <p:spPr>
          <a:xfrm rot="19824600">
            <a:off x="5702400" y="2633400"/>
            <a:ext cx="2342880" cy="3000240"/>
          </a:xfrm>
          <a:prstGeom prst="rect">
            <a:avLst/>
          </a:prstGeom>
          <a:ln w="0">
            <a:noFill/>
          </a:ln>
        </p:spPr>
      </p:pic>
      <p:sp>
        <p:nvSpPr>
          <p:cNvPr id="286" name="Line 12"/>
          <p:cNvSpPr/>
          <p:nvPr/>
        </p:nvSpPr>
        <p:spPr>
          <a:xfrm flipH="1">
            <a:off x="6156000" y="2708280"/>
            <a:ext cx="647640" cy="18003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6156360" y="4508640"/>
            <a:ext cx="1944720" cy="4330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Line 14"/>
          <p:cNvSpPr/>
          <p:nvPr/>
        </p:nvSpPr>
        <p:spPr>
          <a:xfrm flipH="1" flipV="1">
            <a:off x="6803640" y="2708280"/>
            <a:ext cx="1297080" cy="22334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malu – šaurleņķa trijstūris </a:t>
            </a:r>
            <a:r>
              <a:rPr b="0" lang="en-US" sz="4500" spc="-1" strike="noStrike">
                <a:solidFill>
                  <a:srgbClr val="0000ff"/>
                </a:solidFill>
                <a:latin typeface="Calibri"/>
              </a:rPr>
              <a:t>(regulārs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0"/>
              <p:cNvSpPr txBox="1"/>
              <p:nvPr/>
            </p:nvSpPr>
            <p:spPr>
              <a:xfrm>
                <a:off x="2629080" y="4292640"/>
                <a:ext cx="23731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1" name="Picture 6" descr="image"/>
          <p:cNvPicPr/>
          <p:nvPr/>
        </p:nvPicPr>
        <p:blipFill>
          <a:blip r:embed="rId2"/>
          <a:stretch/>
        </p:blipFill>
        <p:spPr>
          <a:xfrm>
            <a:off x="5076720" y="1989000"/>
            <a:ext cx="2159280" cy="1717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A wooden rack set up for eight-ball. Note 1 ball in front, centered 8 ball, staggered ball pattern, and different rear corners."/>
          <p:cNvPicPr/>
          <p:nvPr/>
        </p:nvPicPr>
        <p:blipFill>
          <a:blip r:embed="rId3"/>
          <a:stretch/>
        </p:blipFill>
        <p:spPr>
          <a:xfrm>
            <a:off x="6443640" y="4437000"/>
            <a:ext cx="1714680" cy="1282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"/>
          <p:cNvPicPr/>
          <p:nvPr/>
        </p:nvPicPr>
        <p:blipFill>
          <a:blip r:embed="rId4"/>
          <a:stretch/>
        </p:blipFill>
        <p:spPr>
          <a:xfrm>
            <a:off x="1258920" y="2133720"/>
            <a:ext cx="2592360" cy="1998720"/>
          </a:xfrm>
          <a:prstGeom prst="rect">
            <a:avLst/>
          </a:prstGeom>
          <a:ln w="0">
            <a:noFill/>
          </a:ln>
        </p:spPr>
      </p:pic>
      <p:sp>
        <p:nvSpPr>
          <p:cNvPr id="294" name="Line 13"/>
          <p:cNvSpPr/>
          <p:nvPr/>
        </p:nvSpPr>
        <p:spPr>
          <a:xfrm flipH="1">
            <a:off x="5148000" y="3645000"/>
            <a:ext cx="20876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14"/>
          <p:cNvSpPr/>
          <p:nvPr/>
        </p:nvSpPr>
        <p:spPr>
          <a:xfrm flipV="1">
            <a:off x="5148360" y="1989000"/>
            <a:ext cx="1008000" cy="1656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6156360" y="1989000"/>
            <a:ext cx="1079640" cy="1656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16"/>
          <p:cNvSpPr/>
          <p:nvPr/>
        </p:nvSpPr>
        <p:spPr>
          <a:xfrm flipH="1">
            <a:off x="6588000" y="4508640"/>
            <a:ext cx="720720" cy="1081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6588000" y="5589720"/>
            <a:ext cx="1513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Line 18"/>
          <p:cNvSpPr/>
          <p:nvPr/>
        </p:nvSpPr>
        <p:spPr>
          <a:xfrm flipH="1" flipV="1">
            <a:off x="7308360" y="4437000"/>
            <a:ext cx="792360" cy="1152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6"/>
          <p:cNvSpPr/>
          <p:nvPr/>
        </p:nvSpPr>
        <p:spPr>
          <a:xfrm>
            <a:off x="1979640" y="2708280"/>
            <a:ext cx="54720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aldies par uzmanību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04617b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r>
              <a:rPr b="1" lang="en-US" sz="6000" spc="-1" strike="noStrike">
                <a:solidFill>
                  <a:srgbClr val="04617b"/>
                </a:solidFill>
                <a:latin typeface="Comic Sans MS"/>
              </a:rPr>
              <a:t>   </a:t>
            </a:r>
            <a:r>
              <a:rPr b="1" lang="en-US" sz="6000" spc="-1" strike="noStrike">
                <a:solidFill>
                  <a:srgbClr val="04617b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1042920" y="981000"/>
            <a:ext cx="6842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īcij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ijstūr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uc daudzstūri, kuram ir trīs malas. Trijstūri var definēt arī kā plaknes apgabalu, ko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Comic Sans MS"/>
                <a:hlinkClick r:id="rId2" action="ppaction://hlinksldjump"/>
              </a:rPr>
              <a:t>ierobežo trīs nogriežņ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971640" y="3789360"/>
            <a:ext cx="73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jstūrim ABC ir trīs malas AB, BC, AC, trīs virsotnes A, B, C un trīs leņķ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B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bkuram trijstūrim visu iekšējo leņķu summa ir vienāda ar  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bkurš trijstūris ir izliekta figūra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1547640" y="2276640"/>
            <a:ext cx="2089440" cy="1339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3780000" y="27082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ēlā redzams trijstūris ABC, to pieraksta šādi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AB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539640" y="12589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Kuras no dotajām figūrām ir trijstūri?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āpē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6804000" y="3645000"/>
            <a:ext cx="1873440" cy="1366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1258920" y="2349360"/>
            <a:ext cx="1584360" cy="1224000"/>
          </a:xfrm>
          <a:prstGeom prst="hexagon">
            <a:avLst>
              <a:gd name="adj" fmla="val 3236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26"/>
          <p:cNvGrpSpPr/>
          <p:nvPr/>
        </p:nvGrpSpPr>
        <p:grpSpPr>
          <a:xfrm>
            <a:off x="1186920" y="4365720"/>
            <a:ext cx="1943640" cy="1152360"/>
            <a:chOff x="1186920" y="4365720"/>
            <a:chExt cx="1943640" cy="1152360"/>
          </a:xfrm>
        </p:grpSpPr>
        <p:sp>
          <p:nvSpPr>
            <p:cNvPr id="212" name="Line 11"/>
            <p:cNvSpPr/>
            <p:nvPr/>
          </p:nvSpPr>
          <p:spPr>
            <a:xfrm flipH="1">
              <a:off x="1186920" y="4437000"/>
              <a:ext cx="79236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12"/>
            <p:cNvSpPr/>
            <p:nvPr/>
          </p:nvSpPr>
          <p:spPr>
            <a:xfrm>
              <a:off x="2195280" y="4365720"/>
              <a:ext cx="9352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1260360" y="5373360"/>
              <a:ext cx="1440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5" name="Group 24"/>
          <p:cNvGrpSpPr/>
          <p:nvPr/>
        </p:nvGrpSpPr>
        <p:grpSpPr>
          <a:xfrm>
            <a:off x="5867280" y="2565360"/>
            <a:ext cx="2087280" cy="431640"/>
            <a:chOff x="5867280" y="2565360"/>
            <a:chExt cx="2087280" cy="431640"/>
          </a:xfrm>
        </p:grpSpPr>
        <p:sp>
          <p:nvSpPr>
            <p:cNvPr id="216" name="Line 14"/>
            <p:cNvSpPr/>
            <p:nvPr/>
          </p:nvSpPr>
          <p:spPr>
            <a:xfrm>
              <a:off x="5867280" y="25653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6082920" y="278100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6298920" y="299700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4284720" y="4437000"/>
            <a:ext cx="2519280" cy="1584360"/>
            <a:chOff x="4284720" y="4437000"/>
            <a:chExt cx="2519280" cy="1584360"/>
          </a:xfrm>
        </p:grpSpPr>
        <p:sp>
          <p:nvSpPr>
            <p:cNvPr id="220" name="Line 17"/>
            <p:cNvSpPr/>
            <p:nvPr/>
          </p:nvSpPr>
          <p:spPr>
            <a:xfrm flipH="1">
              <a:off x="4284720" y="4437000"/>
              <a:ext cx="10792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Line 18"/>
            <p:cNvSpPr/>
            <p:nvPr/>
          </p:nvSpPr>
          <p:spPr>
            <a:xfrm>
              <a:off x="5364000" y="4437000"/>
              <a:ext cx="144000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19"/>
            <p:cNvSpPr/>
            <p:nvPr/>
          </p:nvSpPr>
          <p:spPr>
            <a:xfrm>
              <a:off x="4716360" y="5950080"/>
              <a:ext cx="2087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3" name="Group 23"/>
          <p:cNvGrpSpPr/>
          <p:nvPr/>
        </p:nvGrpSpPr>
        <p:grpSpPr>
          <a:xfrm>
            <a:off x="3564000" y="2708280"/>
            <a:ext cx="1655640" cy="1079280"/>
            <a:chOff x="3564000" y="2708280"/>
            <a:chExt cx="1655640" cy="1079280"/>
          </a:xfrm>
        </p:grpSpPr>
        <p:sp>
          <p:nvSpPr>
            <p:cNvPr id="224" name="Line 20"/>
            <p:cNvSpPr/>
            <p:nvPr/>
          </p:nvSpPr>
          <p:spPr>
            <a:xfrm flipH="1">
              <a:off x="3564000" y="2779560"/>
              <a:ext cx="107928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21"/>
            <p:cNvSpPr/>
            <p:nvPr/>
          </p:nvSpPr>
          <p:spPr>
            <a:xfrm>
              <a:off x="4211640" y="2708280"/>
              <a:ext cx="86508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22"/>
            <p:cNvSpPr/>
            <p:nvPr/>
          </p:nvSpPr>
          <p:spPr>
            <a:xfrm>
              <a:off x="3635280" y="3355920"/>
              <a:ext cx="158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929720" y="6215040"/>
            <a:ext cx="1023840" cy="476280"/>
          </a:xfrm>
          <a:custGeom>
            <a:avLst/>
            <a:gdLst>
              <a:gd name="textAreaLeft" fmla="*/ 30600 w 1023840"/>
              <a:gd name="textAreaRight" fmla="*/ 993240 w 10238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6414" h="21600">
                <a:moveTo>
                  <a:pt x="0" y="0"/>
                </a:moveTo>
                <a:lnTo>
                  <a:pt x="46414" y="0"/>
                </a:lnTo>
                <a:lnTo>
                  <a:pt x="46414" y="21600"/>
                </a:lnTo>
                <a:lnTo>
                  <a:pt x="0" y="21600"/>
                </a:lnTo>
                <a:close/>
              </a:path>
              <a:path fill="lightenLess" w="46414" h="21600">
                <a:moveTo>
                  <a:pt x="0" y="0"/>
                </a:moveTo>
                <a:lnTo>
                  <a:pt x="46414" y="0"/>
                </a:lnTo>
                <a:lnTo>
                  <a:pt x="45014" y="1400"/>
                </a:lnTo>
                <a:lnTo>
                  <a:pt x="1400" y="1400"/>
                </a:lnTo>
                <a:close/>
              </a:path>
              <a:path fill="darken" w="46414" h="21600">
                <a:moveTo>
                  <a:pt x="46414" y="0"/>
                </a:moveTo>
                <a:lnTo>
                  <a:pt x="46414" y="21600"/>
                </a:lnTo>
                <a:lnTo>
                  <a:pt x="45014" y="20200"/>
                </a:lnTo>
                <a:lnTo>
                  <a:pt x="45014" y="1400"/>
                </a:lnTo>
                <a:close/>
              </a:path>
              <a:path fill="darkenLess" w="46414" h="21600">
                <a:moveTo>
                  <a:pt x="46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14" y="20200"/>
                </a:lnTo>
                <a:close/>
              </a:path>
              <a:path fill="lighten" w="46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14" h="21600">
                <a:moveTo>
                  <a:pt x="16200" y="10800"/>
                </a:moveTo>
                <a:lnTo>
                  <a:pt x="30213" y="3794"/>
                </a:lnTo>
                <a:lnTo>
                  <a:pt x="30213" y="17806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dbf5f9"/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Trijstūru iedalījums pēc malām un leņķie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428760" y="2357280"/>
            <a:ext cx="8464320" cy="42148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785880" y="18572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ini tabulu ar atbilstošo zīmējumu! </a:t>
            </a: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Pārbaudi sevi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dbf5f9"/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Trijstūru iedalījums pēc malām un leņķie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5" descr="9E9D532A"/>
          <p:cNvPicPr/>
          <p:nvPr/>
        </p:nvPicPr>
        <p:blipFill>
          <a:blip r:embed="rId2"/>
          <a:srcRect l="886" t="4901" r="3587" b="4255"/>
          <a:stretch/>
        </p:blipFill>
        <p:spPr>
          <a:xfrm>
            <a:off x="214200" y="1714680"/>
            <a:ext cx="8777520" cy="48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ff"/>
                </a:solidFill>
                <a:latin typeface="Calibri"/>
              </a:rPr>
              <a:t>Dažādmalu – šaurleņķu trijstūr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12" descr="Juras_perle"/>
          <p:cNvPicPr/>
          <p:nvPr/>
        </p:nvPicPr>
        <p:blipFill>
          <a:blip r:embed="rId2"/>
          <a:stretch/>
        </p:blipFill>
        <p:spPr>
          <a:xfrm>
            <a:off x="6084720" y="2708280"/>
            <a:ext cx="2044800" cy="24001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6"/>
              <p:cNvSpPr txBox="1"/>
              <p:nvPr/>
            </p:nvSpPr>
            <p:spPr>
              <a:xfrm>
                <a:off x="3419640" y="4292640"/>
                <a:ext cx="194292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Line 19"/>
          <p:cNvSpPr/>
          <p:nvPr/>
        </p:nvSpPr>
        <p:spPr>
          <a:xfrm>
            <a:off x="6156360" y="2924280"/>
            <a:ext cx="1800360" cy="730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20"/>
          <p:cNvSpPr/>
          <p:nvPr/>
        </p:nvSpPr>
        <p:spPr>
          <a:xfrm flipH="1">
            <a:off x="7020000" y="2997360"/>
            <a:ext cx="936720" cy="194436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22"/>
          <p:cNvSpPr/>
          <p:nvPr/>
        </p:nvSpPr>
        <p:spPr>
          <a:xfrm flipH="1" flipV="1">
            <a:off x="6156000" y="2924280"/>
            <a:ext cx="863640" cy="20174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24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951280" cy="23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Dažādmalu – plat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Picture 15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3114720" cy="23814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16"/>
              <p:cNvSpPr txBox="1"/>
              <p:nvPr/>
            </p:nvSpPr>
            <p:spPr>
              <a:xfrm>
                <a:off x="3059280" y="4365720"/>
                <a:ext cx="175248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45" name="Picture 23" descr="shuupuljkreesls_600"/>
          <p:cNvPicPr/>
          <p:nvPr/>
        </p:nvPicPr>
        <p:blipFill>
          <a:blip r:embed="rId3"/>
          <a:stretch/>
        </p:blipFill>
        <p:spPr>
          <a:xfrm>
            <a:off x="5867280" y="2276640"/>
            <a:ext cx="2592360" cy="2179440"/>
          </a:xfrm>
          <a:prstGeom prst="rect">
            <a:avLst/>
          </a:prstGeom>
          <a:ln w="0">
            <a:noFill/>
          </a:ln>
        </p:spPr>
      </p:pic>
      <p:sp>
        <p:nvSpPr>
          <p:cNvPr id="246" name="Line 24"/>
          <p:cNvSpPr/>
          <p:nvPr/>
        </p:nvSpPr>
        <p:spPr>
          <a:xfrm>
            <a:off x="6443640" y="2637000"/>
            <a:ext cx="216000" cy="122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6659640" y="3860640"/>
            <a:ext cx="1081080" cy="360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26"/>
          <p:cNvSpPr/>
          <p:nvPr/>
        </p:nvSpPr>
        <p:spPr>
          <a:xfrm flipH="1" flipV="1">
            <a:off x="6443280" y="2637000"/>
            <a:ext cx="1297080" cy="1584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Dažādmalu – taisn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9"/>
              <p:cNvSpPr txBox="1"/>
              <p:nvPr/>
            </p:nvSpPr>
            <p:spPr>
              <a:xfrm>
                <a:off x="2411280" y="4221000"/>
                <a:ext cx="172728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1" name="Picture 9" descr="5556_1"/>
          <p:cNvPicPr/>
          <p:nvPr/>
        </p:nvPicPr>
        <p:blipFill>
          <a:blip r:embed="rId2"/>
          <a:stretch/>
        </p:blipFill>
        <p:spPr>
          <a:xfrm>
            <a:off x="5651640" y="2708280"/>
            <a:ext cx="2081160" cy="3095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/>
          <p:cNvPicPr/>
          <p:nvPr/>
        </p:nvPicPr>
        <p:blipFill>
          <a:blip r:embed="rId3"/>
          <a:stretch/>
        </p:blipFill>
        <p:spPr>
          <a:xfrm>
            <a:off x="1258920" y="1989000"/>
            <a:ext cx="3362400" cy="2133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17"/>
          <p:cNvSpPr/>
          <p:nvPr/>
        </p:nvSpPr>
        <p:spPr>
          <a:xfrm flipV="1">
            <a:off x="6588000" y="5013360"/>
            <a:ext cx="863640" cy="71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6588000" y="2924280"/>
            <a:ext cx="863640" cy="20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6588000" y="2924280"/>
            <a:ext cx="0" cy="21603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ff"/>
                </a:solidFill>
                <a:latin typeface="Calibri"/>
              </a:rPr>
              <a:t>Vienādsānu – šaurleņķa trijstūri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1"/>
              <p:cNvSpPr txBox="1"/>
              <p:nvPr/>
            </p:nvSpPr>
            <p:spPr>
              <a:xfrm>
                <a:off x="3276720" y="4581360"/>
                <a:ext cx="179856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9" name="Picture 7" descr="D4DE70B5"/>
          <p:cNvPicPr/>
          <p:nvPr/>
        </p:nvPicPr>
        <p:blipFill>
          <a:blip r:embed="rId2"/>
          <a:stretch/>
        </p:blipFill>
        <p:spPr>
          <a:xfrm>
            <a:off x="6227640" y="4005360"/>
            <a:ext cx="2162160" cy="1762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j0157763"/>
          <p:cNvPicPr/>
          <p:nvPr/>
        </p:nvPicPr>
        <p:blipFill>
          <a:blip r:embed="rId3"/>
          <a:stretch/>
        </p:blipFill>
        <p:spPr>
          <a:xfrm>
            <a:off x="6012000" y="2060640"/>
            <a:ext cx="1633320" cy="1655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"/>
          <p:cNvPicPr/>
          <p:nvPr/>
        </p:nvPicPr>
        <p:blipFill>
          <a:blip r:embed="rId4"/>
          <a:stretch/>
        </p:blipFill>
        <p:spPr>
          <a:xfrm>
            <a:off x="1547640" y="2205000"/>
            <a:ext cx="2303640" cy="2266920"/>
          </a:xfrm>
          <a:prstGeom prst="rect">
            <a:avLst/>
          </a:prstGeom>
          <a:ln w="0">
            <a:noFill/>
          </a:ln>
        </p:spPr>
      </p:pic>
      <p:sp>
        <p:nvSpPr>
          <p:cNvPr id="262" name="Line 13"/>
          <p:cNvSpPr/>
          <p:nvPr/>
        </p:nvSpPr>
        <p:spPr>
          <a:xfrm>
            <a:off x="6443640" y="3500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14"/>
          <p:cNvSpPr/>
          <p:nvPr/>
        </p:nvSpPr>
        <p:spPr>
          <a:xfrm flipV="1">
            <a:off x="6443640" y="2060280"/>
            <a:ext cx="360360" cy="143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6804000" y="2060640"/>
            <a:ext cx="432000" cy="143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7250040" y="4292280"/>
            <a:ext cx="851040" cy="70812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8101080" y="4292640"/>
            <a:ext cx="0" cy="12970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18"/>
          <p:cNvSpPr/>
          <p:nvPr/>
        </p:nvSpPr>
        <p:spPr>
          <a:xfrm flipH="1" flipV="1">
            <a:off x="7256520" y="4992840"/>
            <a:ext cx="844560" cy="596880"/>
          </a:xfrm>
          <a:prstGeom prst="line">
            <a:avLst/>
          </a:prstGeom>
          <a:ln w="381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21:11:06Z</dcterms:created>
  <dc:creator>User</dc:creator>
  <dc:description/>
  <dc:language>en-US</dc:language>
  <cp:lastModifiedBy>Aira</cp:lastModifiedBy>
  <dcterms:modified xsi:type="dcterms:W3CDTF">2010-07-15T14:03:52Z</dcterms:modified>
  <cp:revision>56</cp:revision>
  <dc:subject/>
  <dc:title>Trijstūru iedalījums pēc malām un leņķiem</dc:title>
</cp:coreProperties>
</file>