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34CF-8962-45EC-ADAA-8F9186E6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7BAF-AF48-46C1-864B-8C4C110D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1164-1782-4480-A845-AEF4F950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151C-34E1-470B-92F2-35995781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18D3-6902-4F75-A400-AD1E44DC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875E-FA2C-4563-9FC3-5E00C1B4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E078-2417-4BA0-9835-13318370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B116-F944-43DA-B5AF-E68F48C7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0539-8127-46FB-9F42-DEEEE862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24CD-1402-42FC-8F84-EF14C778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D474-CB03-45C7-9895-0A77734E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CF01-DAC6-45AA-8A2A-32E827CA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2348-A84F-46BF-AE5C-6DD56494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93E3-9062-4E4F-BF45-3D875E0B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CA99-32AA-4606-93ED-FA8D4518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3306-26B3-48EA-AFB4-CF13422D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0103-2786-4DDC-ABB9-0749A0D5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A68-6943-4804-B5F0-6CCB438B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E0E-94D0-4E91-B622-A7B113F3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DED2-2A1A-4C25-991E-4B3944DC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88B7-0913-442D-B51D-2E44F518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E10F-83C4-4EF0-8B34-769BEA0C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B788-A8CC-46B0-A9C6-159DF9DA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9C85-D423-4377-8395-F8FA04FC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F179-38F3-485C-ACEB-03DAC6BD301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29E7-3AF1-4848-94CB-D7B533F05B2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3366"/>
                </a:solidFill>
                <a:latin typeface="Arial"/>
              </a:rPr>
              <a:t>Leņķu veid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92360" y="4243320"/>
            <a:ext cx="5984640" cy="144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28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ir lielāks nekā taisns un mazāks nekā izstiepts leņķis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platu leņķ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850920" y="4869000"/>
            <a:ext cx="20890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843280" y="3789000"/>
            <a:ext cx="1008000" cy="107964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0295600">
            <a:off x="3558600" y="4465080"/>
            <a:ext cx="68328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14" y="887"/>
                </a:moveTo>
                <a:arcTo wR="10800" hR="10800" stAng="-6803064" swAng="6803064"/>
                <a:lnTo>
                  <a:pt x="10800" y="10800"/>
                </a:lnTo>
                <a:close/>
              </a:path>
              <a:path fill="none" w="21600" h="21600">
                <a:moveTo>
                  <a:pt x="6514" y="887"/>
                </a:moveTo>
                <a:arcTo wR="10800" hR="10800" stAng="-6803064" swAng="6803064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Rokas ir atvērta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ai satvertu kāju u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ait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tvērt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219640" y="2421000"/>
            <a:ext cx="3419640" cy="298116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26920" y="21333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lielāks nekā izstiepts leņķis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atvērtu leņķi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276720" y="4581000"/>
            <a:ext cx="1224000" cy="576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4581360"/>
            <a:ext cx="16556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993120" y="4292640"/>
            <a:ext cx="126540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8" y="4641"/>
                </a:moveTo>
                <a:arcTo wR="10800" hR="10800" stAng="-8713779" swAng="8052537"/>
                <a:lnTo>
                  <a:pt x="10800" y="10800"/>
                </a:lnTo>
                <a:close/>
              </a:path>
              <a:path fill="none" w="21600" h="21600">
                <a:moveTo>
                  <a:pt x="1928" y="4641"/>
                </a:moveTo>
                <a:arcTo wR="10800" hR="10800" stAng="-8713779" swAng="8052537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ieviete pilnībā izliekusi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iln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5724360" y="1773360"/>
            <a:ext cx="3175200" cy="474984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10920" y="2420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sastāv no diviem izstieptiem leņķiem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pilnu leņķi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lt-LT" sz="2800" spc="-1" strike="noStrike">
                <a:solidFill>
                  <a:srgbClr val="003366"/>
                </a:solidFill>
                <a:latin typeface="Arial"/>
              </a:rPr>
              <a:t>nulles leņķi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41720"/>
            <a:ext cx="122400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92360" y="4508640"/>
            <a:ext cx="865440" cy="86508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ēģini nosaukt vēl citus piemērus, kur dabā sastopami dažādu leņķu veidi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56360" y="2996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666"/>
                </a:solidFill>
                <a:latin typeface="Arial"/>
              </a:rPr>
              <a:t>Paldies, leņķu vārdā!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Atcerēsimies! Kas ir leņķi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Atrodi zīmējumā vism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rīs leņķus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iemēram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&lt;LKJ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&lt;IH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&lt;N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42080" y="1600200"/>
            <a:ext cx="253980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Karatists izstiepis kājas  špagatā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Izstiept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6372360" y="3068640"/>
            <a:ext cx="2387520" cy="2598840"/>
          </a:xfrm>
          <a:prstGeom prst="rect">
            <a:avLst/>
          </a:prstGeom>
          <a:ln w="0">
            <a:noFill/>
          </a:ln>
        </p:spPr>
      </p:pic>
      <p:sp>
        <p:nvSpPr>
          <p:cNvPr id="102" name="Straight Connector 5"/>
          <p:cNvSpPr/>
          <p:nvPr/>
        </p:nvSpPr>
        <p:spPr>
          <a:xfrm>
            <a:off x="7235280" y="3068640"/>
            <a:ext cx="990360" cy="2598840"/>
          </a:xfrm>
          <a:prstGeom prst="line">
            <a:avLst/>
          </a:prstGeom>
          <a:ln w="38160">
            <a:solidFill>
              <a:srgbClr val="003366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0000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ura malas ir pretēji stari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izstieptu leņķi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720" y="4724280"/>
            <a:ext cx="273528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rot="21448800">
            <a:off x="5297040" y="450828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" y="10288"/>
                </a:moveTo>
                <a:arcTo wR="10800" hR="10800" stAng="-10636955" swAng="10636955"/>
                <a:lnTo>
                  <a:pt x="10800" y="10800"/>
                </a:lnTo>
                <a:close/>
              </a:path>
              <a:path fill="none" w="21600" h="21600">
                <a:moveTo>
                  <a:pt x="12" y="10288"/>
                </a:moveTo>
                <a:arcTo wR="10800" hR="10800" stAng="-10636955" swAng="10636955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Sieviete izstiepusi kāj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ejas solī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aisn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5435640" y="2276640"/>
            <a:ext cx="3390840" cy="402588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usi no izstiepta leņķa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taisnu leņķ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48360" y="5013360"/>
            <a:ext cx="16556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148360" y="4220640"/>
            <a:ext cx="0" cy="792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8360" y="4797360"/>
            <a:ext cx="21564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Dziedātāja pielikusi mikrafon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tuvu mutei, atstājot šaur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vietu starp delnu un plec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Šaur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3073320" cy="408960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Definī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Leņķi, kas ir mazāks nekā taisns leņķis, sauc par </a:t>
            </a:r>
            <a:r>
              <a:rPr b="1" lang="lt-LT" sz="2800" spc="-1" strike="noStrike">
                <a:solidFill>
                  <a:srgbClr val="003366"/>
                </a:solidFill>
                <a:latin typeface="Arial"/>
              </a:rPr>
              <a:t>šauru leņķ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1800" y="4581360"/>
            <a:ext cx="1344600" cy="657360"/>
          </a:xfrm>
          <a:custGeom>
            <a:avLst/>
            <a:gdLst/>
            <a:ahLst/>
            <a:rect l="l" t="t" r="r" b="b"/>
            <a:pathLst>
              <a:path w="847" h="414">
                <a:moveTo>
                  <a:pt x="847" y="414"/>
                </a:moveTo>
                <a:cubicBezTo>
                  <a:pt x="565" y="414"/>
                  <a:pt x="282" y="414"/>
                  <a:pt x="0" y="414"/>
                </a:cubicBezTo>
                <a:lnTo>
                  <a:pt x="770" y="0"/>
                </a:ln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360" y="4868640"/>
            <a:ext cx="430920" cy="72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40" y="158"/>
                </a:moveTo>
                <a:arcTo wR="10800" hR="10800" stAng="-4811308" swAng="4811308"/>
                <a:lnTo>
                  <a:pt x="10800" y="10800"/>
                </a:lnTo>
                <a:close/>
              </a:path>
              <a:path fill="none" w="21600" h="21600">
                <a:moveTo>
                  <a:pt x="12640" y="158"/>
                </a:moveTo>
                <a:arcTo wR="10800" hR="10800" stAng="-4811308" swAng="4811308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1187280" y="4724280"/>
            <a:ext cx="1584360" cy="433440"/>
          </a:xfrm>
          <a:custGeom>
            <a:avLst/>
            <a:gdLst>
              <a:gd name="textAreaLeft" fmla="*/ 28080 w 1584360"/>
              <a:gd name="textAreaRight" fmla="*/ 1556280 w 1584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8907" h="21600">
                <a:moveTo>
                  <a:pt x="0" y="0"/>
                </a:moveTo>
                <a:lnTo>
                  <a:pt x="78907" y="0"/>
                </a:lnTo>
                <a:lnTo>
                  <a:pt x="78907" y="21600"/>
                </a:lnTo>
                <a:lnTo>
                  <a:pt x="0" y="21600"/>
                </a:lnTo>
                <a:close/>
              </a:path>
              <a:path fill="lightenLess" w="78907" h="21600">
                <a:moveTo>
                  <a:pt x="0" y="0"/>
                </a:moveTo>
                <a:lnTo>
                  <a:pt x="78907" y="0"/>
                </a:lnTo>
                <a:lnTo>
                  <a:pt x="77507" y="1400"/>
                </a:lnTo>
                <a:lnTo>
                  <a:pt x="1400" y="1400"/>
                </a:lnTo>
                <a:close/>
              </a:path>
              <a:path fill="darken" w="78907" h="21600">
                <a:moveTo>
                  <a:pt x="78907" y="0"/>
                </a:moveTo>
                <a:lnTo>
                  <a:pt x="78907" y="21600"/>
                </a:lnTo>
                <a:lnTo>
                  <a:pt x="77507" y="20200"/>
                </a:lnTo>
                <a:lnTo>
                  <a:pt x="77507" y="1400"/>
                </a:lnTo>
                <a:close/>
              </a:path>
              <a:path fill="darkenLess" w="78907" h="21600">
                <a:moveTo>
                  <a:pt x="78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07" y="20200"/>
                </a:lnTo>
                <a:close/>
              </a:path>
              <a:path fill="lighten" w="78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griez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6666"/>
                </a:solidFill>
                <a:latin typeface="Arial"/>
              </a:rPr>
              <a:t>Kā sauc šo leņķi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Baletdejotāja izpild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Mazā gulbīša deju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3366"/>
                </a:solidFill>
                <a:latin typeface="Arial"/>
              </a:rPr>
              <a:t>Plats leņķ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5651640" y="2781360"/>
            <a:ext cx="3085920" cy="346716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4284720" y="5445000"/>
            <a:ext cx="1366920" cy="505080"/>
          </a:xfrm>
          <a:custGeom>
            <a:avLst/>
            <a:gdLst>
              <a:gd name="textAreaLeft" fmla="*/ 32400 w 1366920"/>
              <a:gd name="textAreaRight" fmla="*/ 1334520 w 13669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31" h="21600">
                <a:moveTo>
                  <a:pt x="0" y="0"/>
                </a:moveTo>
                <a:lnTo>
                  <a:pt x="58431" y="0"/>
                </a:lnTo>
                <a:lnTo>
                  <a:pt x="58431" y="21600"/>
                </a:lnTo>
                <a:lnTo>
                  <a:pt x="0" y="21600"/>
                </a:lnTo>
                <a:close/>
              </a:path>
              <a:path fill="lightenLess" w="58431" h="21600">
                <a:moveTo>
                  <a:pt x="0" y="0"/>
                </a:moveTo>
                <a:lnTo>
                  <a:pt x="58431" y="0"/>
                </a:lnTo>
                <a:lnTo>
                  <a:pt x="57031" y="1400"/>
                </a:lnTo>
                <a:lnTo>
                  <a:pt x="1400" y="1400"/>
                </a:lnTo>
                <a:close/>
              </a:path>
              <a:path fill="darken" w="58431" h="21600">
                <a:moveTo>
                  <a:pt x="58431" y="0"/>
                </a:moveTo>
                <a:lnTo>
                  <a:pt x="58431" y="21600"/>
                </a:lnTo>
                <a:lnTo>
                  <a:pt x="57031" y="20200"/>
                </a:lnTo>
                <a:lnTo>
                  <a:pt x="57031" y="1400"/>
                </a:lnTo>
                <a:close/>
              </a:path>
              <a:path fill="darkenLess" w="58431" h="21600">
                <a:moveTo>
                  <a:pt x="584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31" y="20200"/>
                </a:lnTo>
                <a:close/>
              </a:path>
              <a:path fill="lighten" w="584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finīcij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1:34:28Z</dcterms:created>
  <dc:creator>Students</dc:creator>
  <dc:description/>
  <dc:language>en-US</dc:language>
  <cp:lastModifiedBy>Aira</cp:lastModifiedBy>
  <dcterms:modified xsi:type="dcterms:W3CDTF">2010-07-15T13:48:46Z</dcterms:modified>
  <cp:revision>6</cp:revision>
  <dc:subject/>
  <dc:title>Leņķu veidi</dc:title>
</cp:coreProperties>
</file>