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B17-E5CA-4E95-A65C-3D1B710B27B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8B56-B86A-4D27-BE9C-AA15474B79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FD1-87FE-4E31-9D48-59AFC500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739-D419-4E03-A8E1-A6469E51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C9B-F360-49D2-BEC7-4E73E23E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27D-A187-48AB-8DB8-E517B4FD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58D7-2835-444A-9CDF-C7DEA2D0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349B-DDA4-4E5F-9649-694294EA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1C18-9969-4410-B163-B05440A6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29AC-AABB-4DF9-95BE-03D2B929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4AAF-AAF5-4910-8BF2-28407808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3325-CD0F-4AB0-B513-F8A6766A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438B-5C4B-4E52-B9AC-27E2EA4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DC9-FF1F-41CF-A4CE-817FF18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5A40-E881-4C1C-A699-684F7B3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554C-1B5A-48D6-A063-1E3C3637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4EBB-1227-44DA-AAC6-3CD8483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589D-A562-4476-910F-76E5EC99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7121-8461-4532-8F3C-C374E5F1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A2183-7A53-4319-A9B4-041AB0E0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4AA8-5E3C-4F20-89F6-AF059FD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2553-DE12-4759-A8C3-8E391F5F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AD26-D791-480B-A829-3021280E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3596-4B33-4734-B72F-06E02E9D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E07-766E-43C2-8188-BED7C27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83A5-1A29-4E23-BDA5-0EEF3141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3B36-37D1-40CE-99DB-8CB6231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A1E4-84A2-4EFF-8252-F808E32A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F3B7-CC54-4739-859E-1FDF57D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BB2C-983D-45BE-AAF2-D54F0134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0C2B-C189-4345-8FEB-C7981F2B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E95F-6968-492E-8675-37007A02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EC84-074E-41A1-A404-6C58F796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118A-C39C-4570-8350-C3CAA0B9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8FDC7-31B9-44FB-A29E-80158AD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6ED-A8E6-4E22-86A5-6A2F67C3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F5AB0-2DA7-484A-9DDD-7192CB74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C05D-936B-4DDE-B52B-5944978A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F33F-8818-4806-BA50-6860825A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D203-74DB-4577-8A4B-2AB28EEF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9A4A-0CF0-402B-B10B-49DCB3D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1673-8655-4E55-A43A-5FBA9BAC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9E46-517D-4A86-B11A-B94A8D1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77AD-2B20-43E6-BA76-497F3B30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CDB9-C46D-478D-B68F-C1DED88A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F5D-C186-4497-AC17-62529032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100-8976-4BDC-AE21-56B7C35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DC0-B0E5-4AFE-BD27-A4F43B7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1D9-AFD2-4865-81DF-27C835F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058-FECF-43C1-A106-1276017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BD4E-A68D-4A07-8155-75E87B2969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83CC-BC30-45E2-9138-ECDE67B41E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BD7-EC2E-447B-8B98-2E601BF3CB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D8B-2270-45D5-9AE9-C705704FBB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1371600" y="1530360"/>
            <a:ext cx="6845400" cy="2309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98720" y="4519440"/>
            <a:ext cx="50133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2124000" y="3933720"/>
                <a:ext cx="2016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Group 9"/>
          <p:cNvGrpSpPr/>
          <p:nvPr/>
        </p:nvGrpSpPr>
        <p:grpSpPr>
          <a:xfrm>
            <a:off x="5508720" y="3213000"/>
            <a:ext cx="2735280" cy="2363400"/>
            <a:chOff x="5508720" y="3213000"/>
            <a:chExt cx="2735280" cy="2363400"/>
          </a:xfrm>
        </p:grpSpPr>
        <p:sp>
          <p:nvSpPr>
            <p:cNvPr id="271" name="Rectangle 10"/>
            <p:cNvSpPr/>
            <p:nvPr/>
          </p:nvSpPr>
          <p:spPr>
            <a:xfrm>
              <a:off x="5960520" y="4158360"/>
              <a:ext cx="1806840" cy="141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6261480" y="4473360"/>
              <a:ext cx="602280" cy="472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7315560" y="4946400"/>
              <a:ext cx="300960" cy="630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6111000" y="3213000"/>
              <a:ext cx="300960" cy="630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14"/>
            <p:cNvSpPr/>
            <p:nvPr/>
          </p:nvSpPr>
          <p:spPr>
            <a:xfrm>
              <a:off x="5508720" y="3370320"/>
              <a:ext cx="2735280" cy="787680"/>
            </a:xfrm>
            <a:prstGeom prst="triangle">
              <a:avLst>
                <a:gd name="adj" fmla="val 5044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562800" y="4473360"/>
              <a:ext cx="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7466040" y="526140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Line 19"/>
          <p:cNvSpPr/>
          <p:nvPr/>
        </p:nvSpPr>
        <p:spPr>
          <a:xfrm flipV="1">
            <a:off x="5529240" y="3357360"/>
            <a:ext cx="1347840" cy="7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877080" y="3357720"/>
            <a:ext cx="136692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5508720" y="4149720"/>
            <a:ext cx="27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5370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2843280" y="4221000"/>
                <a:ext cx="1941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&lt;=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200484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 rot="19824600">
            <a:off x="5702400" y="2633400"/>
            <a:ext cx="2342880" cy="3000240"/>
          </a:xfrm>
          <a:prstGeom prst="rect">
            <a:avLst/>
          </a:prstGeom>
          <a:ln w="0">
            <a:noFill/>
          </a:ln>
        </p:spPr>
      </p:pic>
      <p:sp>
        <p:nvSpPr>
          <p:cNvPr id="286" name="Line 12"/>
          <p:cNvSpPr/>
          <p:nvPr/>
        </p:nvSpPr>
        <p:spPr>
          <a:xfrm flipH="1">
            <a:off x="6156000" y="2708280"/>
            <a:ext cx="647640" cy="180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156360" y="4508640"/>
            <a:ext cx="1944720" cy="433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4"/>
          <p:cNvSpPr/>
          <p:nvPr/>
        </p:nvSpPr>
        <p:spPr>
          <a:xfrm flipH="1" flipV="1">
            <a:off x="6803640" y="2708280"/>
            <a:ext cx="1297080" cy="2233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malu – šaurleņķa trijstūris </a:t>
            </a: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(regulār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2629080" y="4292640"/>
                <a:ext cx="2373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1" name="Picture 6" descr="image"/>
          <p:cNvPicPr/>
          <p:nvPr/>
        </p:nvPicPr>
        <p:blipFill>
          <a:blip r:embed="rId2"/>
          <a:stretch/>
        </p:blipFill>
        <p:spPr>
          <a:xfrm>
            <a:off x="5076720" y="1989000"/>
            <a:ext cx="2159280" cy="171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A wooden rack set up for eight-ball. Note 1 ball in front, centered 8 ball, staggered ball pattern, and different rear corners."/>
          <p:cNvPicPr/>
          <p:nvPr/>
        </p:nvPicPr>
        <p:blipFill>
          <a:blip r:embed="rId3"/>
          <a:stretch/>
        </p:blipFill>
        <p:spPr>
          <a:xfrm>
            <a:off x="6443640" y="443700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1258920" y="2133720"/>
            <a:ext cx="2592360" cy="1998720"/>
          </a:xfrm>
          <a:prstGeom prst="rect">
            <a:avLst/>
          </a:prstGeom>
          <a:ln w="0">
            <a:noFill/>
          </a:ln>
        </p:spPr>
      </p:pic>
      <p:sp>
        <p:nvSpPr>
          <p:cNvPr id="294" name="Line 13"/>
          <p:cNvSpPr/>
          <p:nvPr/>
        </p:nvSpPr>
        <p:spPr>
          <a:xfrm flipH="1">
            <a:off x="5148000" y="3645000"/>
            <a:ext cx="2087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5148360" y="1989000"/>
            <a:ext cx="100800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156360" y="1989000"/>
            <a:ext cx="107964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6"/>
          <p:cNvSpPr/>
          <p:nvPr/>
        </p:nvSpPr>
        <p:spPr>
          <a:xfrm flipH="1">
            <a:off x="6588000" y="4508640"/>
            <a:ext cx="720720" cy="10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588000" y="5589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H="1" flipV="1">
            <a:off x="7308360" y="4437000"/>
            <a:ext cx="79236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979640" y="2708280"/>
            <a:ext cx="5472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2920" y="981000"/>
            <a:ext cx="68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ī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jstū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c daudzstūri, kuram ir trīs malas. Trijstūri var definēt arī kā plaknes apgabalu, ko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erobežo trīs nogriežņ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1640" y="378936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jstūrim ABC ir trīs malas AB, BC, AC, trīs virsotnes A, B, C un trīs leņķ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am trijstūrim visu iekšējo leņķu summa ir vienāda ar 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š trijstūris ir izliekta figū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089440" cy="133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780000" y="2708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ēlā redzams trijstūris ABC, to pieraksta šād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AB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258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Kuras no dotajām figūrām ir trijstūri?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āpē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804000" y="3645000"/>
            <a:ext cx="1873440" cy="136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258920" y="2349360"/>
            <a:ext cx="1584360" cy="1224000"/>
          </a:xfrm>
          <a:prstGeom prst="hexagon">
            <a:avLst>
              <a:gd name="adj" fmla="val 3236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1186920" y="4365720"/>
            <a:ext cx="1943640" cy="1152360"/>
            <a:chOff x="1186920" y="4365720"/>
            <a:chExt cx="1943640" cy="1152360"/>
          </a:xfrm>
        </p:grpSpPr>
        <p:sp>
          <p:nvSpPr>
            <p:cNvPr id="212" name="Line 11"/>
            <p:cNvSpPr/>
            <p:nvPr/>
          </p:nvSpPr>
          <p:spPr>
            <a:xfrm flipH="1">
              <a:off x="1186920" y="4437000"/>
              <a:ext cx="79236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2195280" y="4365720"/>
              <a:ext cx="935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60360" y="5373360"/>
              <a:ext cx="144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867280" y="2565360"/>
            <a:ext cx="2087280" cy="431640"/>
            <a:chOff x="5867280" y="2565360"/>
            <a:chExt cx="2087280" cy="431640"/>
          </a:xfrm>
        </p:grpSpPr>
        <p:sp>
          <p:nvSpPr>
            <p:cNvPr id="216" name="Line 14"/>
            <p:cNvSpPr/>
            <p:nvPr/>
          </p:nvSpPr>
          <p:spPr>
            <a:xfrm>
              <a:off x="5867280" y="25653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082920" y="2781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298920" y="2997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4284720" y="4437000"/>
            <a:ext cx="2519280" cy="1584360"/>
            <a:chOff x="4284720" y="4437000"/>
            <a:chExt cx="2519280" cy="1584360"/>
          </a:xfrm>
        </p:grpSpPr>
        <p:sp>
          <p:nvSpPr>
            <p:cNvPr id="220" name="Line 17"/>
            <p:cNvSpPr/>
            <p:nvPr/>
          </p:nvSpPr>
          <p:spPr>
            <a:xfrm flipH="1">
              <a:off x="4284720" y="443700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8"/>
            <p:cNvSpPr/>
            <p:nvPr/>
          </p:nvSpPr>
          <p:spPr>
            <a:xfrm>
              <a:off x="5364000" y="4437000"/>
              <a:ext cx="14400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716360" y="5950080"/>
              <a:ext cx="2087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23"/>
          <p:cNvGrpSpPr/>
          <p:nvPr/>
        </p:nvGrpSpPr>
        <p:grpSpPr>
          <a:xfrm>
            <a:off x="3564000" y="2708280"/>
            <a:ext cx="1655640" cy="1079280"/>
            <a:chOff x="3564000" y="2708280"/>
            <a:chExt cx="1655640" cy="1079280"/>
          </a:xfrm>
        </p:grpSpPr>
        <p:sp>
          <p:nvSpPr>
            <p:cNvPr id="224" name="Line 20"/>
            <p:cNvSpPr/>
            <p:nvPr/>
          </p:nvSpPr>
          <p:spPr>
            <a:xfrm flipH="1">
              <a:off x="3564000" y="2779560"/>
              <a:ext cx="1079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4211640" y="2708280"/>
              <a:ext cx="8650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2"/>
            <p:cNvSpPr/>
            <p:nvPr/>
          </p:nvSpPr>
          <p:spPr>
            <a:xfrm>
              <a:off x="3635280" y="3355920"/>
              <a:ext cx="158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929720" y="6215040"/>
            <a:ext cx="1023840" cy="476280"/>
          </a:xfrm>
          <a:custGeom>
            <a:avLst/>
            <a:gdLst>
              <a:gd name="textAreaLeft" fmla="*/ 30600 w 1023840"/>
              <a:gd name="textAreaRight" fmla="*/ 993240 w 1023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6414" h="21600">
                <a:moveTo>
                  <a:pt x="0" y="0"/>
                </a:moveTo>
                <a:lnTo>
                  <a:pt x="46414" y="0"/>
                </a:lnTo>
                <a:lnTo>
                  <a:pt x="46414" y="21600"/>
                </a:lnTo>
                <a:lnTo>
                  <a:pt x="0" y="21600"/>
                </a:lnTo>
                <a:close/>
              </a:path>
              <a:path fill="lightenLess" w="46414" h="21600">
                <a:moveTo>
                  <a:pt x="0" y="0"/>
                </a:moveTo>
                <a:lnTo>
                  <a:pt x="46414" y="0"/>
                </a:lnTo>
                <a:lnTo>
                  <a:pt x="45014" y="1400"/>
                </a:lnTo>
                <a:lnTo>
                  <a:pt x="1400" y="1400"/>
                </a:lnTo>
                <a:close/>
              </a:path>
              <a:path fill="darken" w="46414" h="21600">
                <a:moveTo>
                  <a:pt x="46414" y="0"/>
                </a:moveTo>
                <a:lnTo>
                  <a:pt x="46414" y="21600"/>
                </a:lnTo>
                <a:lnTo>
                  <a:pt x="45014" y="20200"/>
                </a:lnTo>
                <a:lnTo>
                  <a:pt x="45014" y="1400"/>
                </a:lnTo>
                <a:close/>
              </a:path>
              <a:path fill="darkenLess" w="46414" h="21600">
                <a:moveTo>
                  <a:pt x="46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14" y="20200"/>
                </a:lnTo>
                <a:close/>
              </a:path>
              <a:path fill="lighten" w="46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14" h="21600">
                <a:moveTo>
                  <a:pt x="16200" y="10800"/>
                </a:moveTo>
                <a:lnTo>
                  <a:pt x="30213" y="3794"/>
                </a:lnTo>
                <a:lnTo>
                  <a:pt x="30213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643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85880" y="1857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ini tabulu ar atbilstošo zīmējumu!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ārbaudi sev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5" descr="9E9D532A"/>
          <p:cNvPicPr/>
          <p:nvPr/>
        </p:nvPicPr>
        <p:blipFill>
          <a:blip r:embed="rId2"/>
          <a:srcRect l="886" t="4901" r="3587" b="4255"/>
          <a:stretch/>
        </p:blipFill>
        <p:spPr>
          <a:xfrm>
            <a:off x="214200" y="1714680"/>
            <a:ext cx="877752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Dažādmalu – šaurleņķu trijstūr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2" descr="Juras_perle"/>
          <p:cNvPicPr/>
          <p:nvPr/>
        </p:nvPicPr>
        <p:blipFill>
          <a:blip r:embed="rId2"/>
          <a:stretch/>
        </p:blipFill>
        <p:spPr>
          <a:xfrm>
            <a:off x="6084720" y="2708280"/>
            <a:ext cx="2044800" cy="24001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419640" y="4292640"/>
                <a:ext cx="19429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Line 19"/>
          <p:cNvSpPr/>
          <p:nvPr/>
        </p:nvSpPr>
        <p:spPr>
          <a:xfrm>
            <a:off x="6156360" y="2924280"/>
            <a:ext cx="1800360" cy="7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20"/>
          <p:cNvSpPr/>
          <p:nvPr/>
        </p:nvSpPr>
        <p:spPr>
          <a:xfrm flipH="1">
            <a:off x="7020000" y="2997360"/>
            <a:ext cx="936720" cy="194436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2"/>
          <p:cNvSpPr/>
          <p:nvPr/>
        </p:nvSpPr>
        <p:spPr>
          <a:xfrm flipH="1" flipV="1">
            <a:off x="6156000" y="2924280"/>
            <a:ext cx="863640" cy="2017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4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95128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15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3114720" cy="2381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3059280" y="4365720"/>
                <a:ext cx="1752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5" name="Picture 23" descr="shuupuljkreesls_600"/>
          <p:cNvPicPr/>
          <p:nvPr/>
        </p:nvPicPr>
        <p:blipFill>
          <a:blip r:embed="rId3"/>
          <a:stretch/>
        </p:blipFill>
        <p:spPr>
          <a:xfrm>
            <a:off x="5867280" y="2276640"/>
            <a:ext cx="2592360" cy="2179440"/>
          </a:xfrm>
          <a:prstGeom prst="rect">
            <a:avLst/>
          </a:prstGeom>
          <a:ln w="0">
            <a:noFill/>
          </a:ln>
        </p:spPr>
      </p:pic>
      <p:sp>
        <p:nvSpPr>
          <p:cNvPr id="246" name="Line 24"/>
          <p:cNvSpPr/>
          <p:nvPr/>
        </p:nvSpPr>
        <p:spPr>
          <a:xfrm>
            <a:off x="6443640" y="2637000"/>
            <a:ext cx="21600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6659640" y="3860640"/>
            <a:ext cx="1081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26"/>
          <p:cNvSpPr/>
          <p:nvPr/>
        </p:nvSpPr>
        <p:spPr>
          <a:xfrm flipH="1" flipV="1">
            <a:off x="6443280" y="2637000"/>
            <a:ext cx="1297080" cy="1584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9"/>
              <p:cNvSpPr txBox="1"/>
              <p:nvPr/>
            </p:nvSpPr>
            <p:spPr>
              <a:xfrm>
                <a:off x="2411280" y="4221000"/>
                <a:ext cx="1727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1" name="Picture 9" descr="5556_1"/>
          <p:cNvPicPr/>
          <p:nvPr/>
        </p:nvPicPr>
        <p:blipFill>
          <a:blip r:embed="rId2"/>
          <a:stretch/>
        </p:blipFill>
        <p:spPr>
          <a:xfrm>
            <a:off x="5651640" y="2708280"/>
            <a:ext cx="208116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62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 flipV="1">
            <a:off x="6588000" y="5013360"/>
            <a:ext cx="863640" cy="7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6588000" y="2924280"/>
            <a:ext cx="863640" cy="20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588000" y="2924280"/>
            <a:ext cx="0" cy="21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šaur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276720" y="4581360"/>
                <a:ext cx="1798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9" name="Picture 7" descr="D4DE70B5"/>
          <p:cNvPicPr/>
          <p:nvPr/>
        </p:nvPicPr>
        <p:blipFill>
          <a:blip r:embed="rId2"/>
          <a:stretch/>
        </p:blipFill>
        <p:spPr>
          <a:xfrm>
            <a:off x="6227640" y="400536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157763"/>
          <p:cNvPicPr/>
          <p:nvPr/>
        </p:nvPicPr>
        <p:blipFill>
          <a:blip r:embed="rId3"/>
          <a:stretch/>
        </p:blipFill>
        <p:spPr>
          <a:xfrm>
            <a:off x="6012000" y="2060640"/>
            <a:ext cx="163332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2303640" cy="226692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>
            <a:off x="6443640" y="3500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6443640" y="2060280"/>
            <a:ext cx="36036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6804000" y="2060640"/>
            <a:ext cx="43200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7250040" y="4292280"/>
            <a:ext cx="851040" cy="7081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8101080" y="4292640"/>
            <a:ext cx="0" cy="1297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7256520" y="4992840"/>
            <a:ext cx="844560" cy="596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1:11:06Z</dcterms:created>
  <dc:creator>User</dc:creator>
  <dc:description/>
  <dc:language>en-US</dc:language>
  <cp:lastModifiedBy>Aira</cp:lastModifiedBy>
  <dcterms:modified xsi:type="dcterms:W3CDTF">2010-07-15T14:03:52Z</dcterms:modified>
  <cp:revision>56</cp:revision>
  <dc:subject/>
  <dc:title>Trijstūru iedalījums pēc malām un leņķiem</dc:title>
</cp:coreProperties>
</file>