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0FD-9BC2-4054-85EC-B576B30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BA9-EE99-4F7B-B420-EBF3F68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96A-A9EB-4C68-86EA-A499B047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16B-9D82-4C9B-91F7-39E3FB29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74B5-3F51-49CE-93BB-B338C3A3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9B02-B325-4832-BE16-AD8D0054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F704-4F55-46F3-AD0A-D344D60D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9D71-D5A5-4422-B0FF-DEB2279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A2EF-C277-441C-9D78-84130BC1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9651-CBF8-4750-8E45-3676624B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9977-51F9-4E24-A1D7-5FEB6393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234-4808-403F-ADE6-13687EF6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FB1D-CB89-4DF5-9FE9-DD24EEBB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E057-C5AA-442C-A225-557CF910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CB08-083E-4727-B021-8845EFE1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F34D-870D-4AB2-A544-57D79222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FF5-6A2A-4FB1-B1E8-85F8B377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4D0-7D1D-4A51-9D60-905AF100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2EC-1837-48E2-9008-5FBB21FE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922-BFC5-44D5-8083-F94A2D2F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DE5-1C8D-41EC-AC72-17412584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611-E22F-42F4-B8E4-A801DB89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107-0263-4537-BCEF-091332E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21A-D5E6-408A-9986-3E32D29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DB65-957B-46F2-848D-F350EBBA38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F90C-8081-4EA6-AF0C-68DA63574A2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Leņķu ve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lielāks nekā taisns un maz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lat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0920" y="4869000"/>
            <a:ext cx="20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843280" y="3789000"/>
            <a:ext cx="1008000" cy="1079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295600">
            <a:off x="3558600" y="4465080"/>
            <a:ext cx="683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4" y="887"/>
                </a:moveTo>
                <a:arcTo wR="10800" hR="10800" stAng="-6803064" swAng="6803064"/>
                <a:lnTo>
                  <a:pt x="10800" y="10800"/>
                </a:lnTo>
                <a:close/>
              </a:path>
              <a:path fill="none" w="21600" h="21600">
                <a:moveTo>
                  <a:pt x="6514" y="887"/>
                </a:moveTo>
                <a:arcTo wR="10800" hR="10800" stAng="-6803064" swAng="6803064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okas ir atvērta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ai satvertu kāju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i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vēr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419640" cy="29811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liel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atvēr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76720" y="4581000"/>
            <a:ext cx="122400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581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93120" y="4292640"/>
            <a:ext cx="126540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8" y="4641"/>
                </a:moveTo>
                <a:arcTo wR="10800" hR="10800" stAng="-8713779" swAng="8052537"/>
                <a:lnTo>
                  <a:pt x="10800" y="10800"/>
                </a:lnTo>
                <a:close/>
              </a:path>
              <a:path fill="none" w="21600" h="21600">
                <a:moveTo>
                  <a:pt x="1928" y="4641"/>
                </a:moveTo>
                <a:arcTo wR="10800" hR="10800" stAng="-8713779" swAng="8052537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pilnībā izliekus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l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1752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sastāv no diviem izstieptiem leņķiem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ilnu leņķi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nulles leņķ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41720"/>
            <a:ext cx="122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508640"/>
            <a:ext cx="865440" cy="865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ēģini nosaukt vēl citus piemērus, kur dabā sastopami dažādu leņķu veidi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636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666"/>
                </a:solidFill>
                <a:latin typeface="Arial"/>
              </a:rPr>
              <a:t>Paldies, leņķu vārdā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tcerēsimies! Kas ir leņķ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rodi zīmējumā vism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īs leņķu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emē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LK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IH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N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42080" y="1600200"/>
            <a:ext cx="2539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ratists izstiepis kājas  špagatā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zstiep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387520" cy="25988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5"/>
          <p:cNvSpPr/>
          <p:nvPr/>
        </p:nvSpPr>
        <p:spPr>
          <a:xfrm>
            <a:off x="7235280" y="3068640"/>
            <a:ext cx="990360" cy="2598840"/>
          </a:xfrm>
          <a:prstGeom prst="line">
            <a:avLst/>
          </a:prstGeom>
          <a:ln w="38160">
            <a:solidFill>
              <a:srgbClr val="00336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ura malas ir pretēji stari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izstiep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4724280"/>
            <a:ext cx="273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21448800">
            <a:off x="5297040" y="450828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" y="10288"/>
                </a:moveTo>
                <a:arcTo wR="10800" hR="10800" stAng="-10636955" swAng="10636955"/>
                <a:lnTo>
                  <a:pt x="10800" y="10800"/>
                </a:lnTo>
                <a:close/>
              </a:path>
              <a:path fill="none" w="21600" h="21600">
                <a:moveTo>
                  <a:pt x="12" y="10288"/>
                </a:moveTo>
                <a:arcTo wR="10800" hR="10800" stAng="-10636955" swAng="1063695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izstiepusi kāj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ejas solī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is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90840" cy="40258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usi no izstiepta leņķa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taisn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5013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48360" y="422064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2156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ziedātāja pielikusi mikrafo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vu mutei, atstājot šaur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u starp delnu un plec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ur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73320" cy="40896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mazāks nekā taisn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šaur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1800" y="4581360"/>
            <a:ext cx="1344600" cy="657360"/>
          </a:xfrm>
          <a:custGeom>
            <a:avLst/>
            <a:gdLst/>
            <a:ahLst/>
            <a:rect l="l" t="t" r="r" b="b"/>
            <a:pathLst>
              <a:path w="847" h="414">
                <a:moveTo>
                  <a:pt x="847" y="414"/>
                </a:moveTo>
                <a:cubicBezTo>
                  <a:pt x="565" y="414"/>
                  <a:pt x="282" y="414"/>
                  <a:pt x="0" y="414"/>
                </a:cubicBezTo>
                <a:lnTo>
                  <a:pt x="770" y="0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360" y="4868640"/>
            <a:ext cx="430920" cy="7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40" y="158"/>
                </a:moveTo>
                <a:arcTo wR="10800" hR="10800" stAng="-4811308" swAng="4811308"/>
                <a:lnTo>
                  <a:pt x="10800" y="10800"/>
                </a:lnTo>
                <a:close/>
              </a:path>
              <a:path fill="none" w="21600" h="21600">
                <a:moveTo>
                  <a:pt x="12640" y="158"/>
                </a:moveTo>
                <a:arcTo wR="10800" hR="10800" stAng="-4811308" swAng="4811308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Baletdejotāja izpild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zā gulbīša deju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la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308592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1:34:28Z</dcterms:created>
  <dc:creator>Students</dc:creator>
  <dc:description/>
  <dc:language>en-US</dc:language>
  <cp:lastModifiedBy>Aira</cp:lastModifiedBy>
  <dcterms:modified xsi:type="dcterms:W3CDTF">2010-07-15T13:48:46Z</dcterms:modified>
  <cp:revision>6</cp:revision>
  <dc:subject/>
  <dc:title>Leņķu veidi</dc:title>
</cp:coreProperties>
</file>