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2757-349F-43B1-81FC-EC91F435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7B9F-32DB-434C-869C-0CE51386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2047-2079-4D87-A17D-E0406A2D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77EE-E13E-4D48-843C-E1CA5420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A6D3-57F2-4729-996F-9181C344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EBE9-AD26-42EF-A1DD-182F3BCD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39C1-4ADB-4D58-AE65-C21B9509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3BDD-3189-45CF-983B-13A52DC8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7811-B65A-47D5-9758-6CAEC1F5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03CE-4921-4CDB-9ABD-5142E18A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13E7-E419-4D4D-8F53-A419C101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73B1-1F37-450A-A39D-C03F5AD9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220B-842B-458A-9A5C-ED1487A94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1412640"/>
            <a:ext cx="6624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Times New Roman"/>
              </a:rPr>
              <a:t>Taisnleņķa trijstūris un tā elementu aprēķināša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8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312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2514600" y="1905120"/>
            <a:ext cx="0" cy="24382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85400" y="29455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61520" y="3013560"/>
            <a:ext cx="173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32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=bctg</a:t>
            </a: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32560" y="336240"/>
            <a:ext cx="38109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 h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- augst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62240" y="2099160"/>
            <a:ext cx="97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lv-LV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=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9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48320" y="3386160"/>
            <a:ext cx="22287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lv-LV" sz="40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lv-LV" sz="4000" spc="-1" strike="noStrike">
                <a:solidFill>
                  <a:srgbClr val="ff3300"/>
                </a:solidFill>
                <a:latin typeface="Times New Roman"/>
              </a:rPr>
              <a:t>=bcos</a:t>
            </a:r>
            <a:r>
              <a:rPr b="0" lang="lv-LV" sz="4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348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 flipH="1">
            <a:off x="2514240" y="3657600"/>
            <a:ext cx="106668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1480" y="3402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29000" y="3733920"/>
            <a:ext cx="258840" cy="152280"/>
          </a:xfrm>
          <a:custGeom>
            <a:avLst/>
            <a:gdLst/>
            <a:ahLst/>
            <a:rect l="l" t="t" r="r" b="b"/>
            <a:pathLst>
              <a:path w="163" h="96">
                <a:moveTo>
                  <a:pt x="0" y="0"/>
                </a:moveTo>
                <a:lnTo>
                  <a:pt x="48" y="96"/>
                </a:lnTo>
                <a:lnTo>
                  <a:pt x="163" y="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572000" y="2209680"/>
                <a:ext cx="31240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4578840" y="564840"/>
            <a:ext cx="37101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 augst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0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4191120" y="1371600"/>
                <a:ext cx="4190760" cy="26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ctg</m:t>
                                        </m:r>
                                        <m:r>
                                          <m:t xml:space="preserve">β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83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384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 flipH="1" flipV="1">
            <a:off x="2514240" y="3048120"/>
            <a:ext cx="1523880" cy="1295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05040" y="3402720"/>
            <a:ext cx="52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38280" y="365760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38280" y="25909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051800" y="549000"/>
            <a:ext cx="3643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a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med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495680" y="4724280"/>
                <a:ext cx="36576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t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β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98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1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4343400" y="1371600"/>
                <a:ext cx="4114800" cy="24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t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β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b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0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421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 flipV="1">
            <a:off x="2514240" y="1904760"/>
            <a:ext cx="762120" cy="2438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594160" y="3402720"/>
            <a:ext cx="53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58128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971800" y="42670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24520" y="549000"/>
            <a:ext cx="3679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-med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648320" y="4495680"/>
                <a:ext cx="350496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5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2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457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2505240" y="3103560"/>
            <a:ext cx="776160" cy="1235160"/>
          </a:xfrm>
          <a:custGeom>
            <a:avLst/>
            <a:gdLst/>
            <a:ahLst/>
            <a:rect l="l" t="t" r="r" b="b"/>
            <a:pathLst>
              <a:path w="489" h="778">
                <a:moveTo>
                  <a:pt x="0" y="778"/>
                </a:moveTo>
                <a:lnTo>
                  <a:pt x="489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98480" y="3097800"/>
            <a:ext cx="51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895480" y="2590560"/>
            <a:ext cx="15264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3505320" y="358128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57600" y="1264680"/>
            <a:ext cx="48769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lv-LV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 - apvilktas riņķa līnijas rādi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4952880" y="3962520"/>
                <a:ext cx="236232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3789360" y="228240"/>
            <a:ext cx="35794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 m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med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4952880" y="1828800"/>
                <a:ext cx="15591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3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3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495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2505240" y="3510000"/>
            <a:ext cx="1500120" cy="811080"/>
          </a:xfrm>
          <a:custGeom>
            <a:avLst/>
            <a:gdLst/>
            <a:ahLst/>
            <a:rect l="l" t="t" r="r" b="b"/>
            <a:pathLst>
              <a:path w="945" h="511">
                <a:moveTo>
                  <a:pt x="0" y="0"/>
                </a:moveTo>
                <a:lnTo>
                  <a:pt x="945" y="511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69920" y="325044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505320" y="4114800"/>
            <a:ext cx="3038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3581280" y="380988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343400" y="1600200"/>
                <a:ext cx="4267080" cy="22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</m:e>
                                  <m:sup>
                                    <m:r>
                                      <m:t xml:space="preserve">o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</m:e>
                                  <m:sup>
                                    <m:r>
                                      <m:t xml:space="preserve">o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4876920" y="4572000"/>
                <a:ext cx="266688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4350600" y="320400"/>
            <a:ext cx="3571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bisekt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4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4343400" y="1295280"/>
                <a:ext cx="3352680" cy="273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ctg</m:t>
                            </m:r>
                            <m:r>
                              <m:t xml:space="preserve">β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32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533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2514600" y="1905120"/>
            <a:ext cx="714240" cy="2415960"/>
          </a:xfrm>
          <a:custGeom>
            <a:avLst/>
            <a:gdLst/>
            <a:ahLst/>
            <a:rect l="l" t="t" r="r" b="b"/>
            <a:pathLst>
              <a:path w="450" h="1522">
                <a:moveTo>
                  <a:pt x="0" y="0"/>
                </a:moveTo>
                <a:lnTo>
                  <a:pt x="450" y="1522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56040" y="32504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2362680" y="2437560"/>
            <a:ext cx="30384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514600" y="2361240"/>
            <a:ext cx="30456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350600" y="396360"/>
            <a:ext cx="35719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bisekt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4800600" y="4114800"/>
                <a:ext cx="2428920" cy="19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tg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β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7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5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569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2514600" y="3157560"/>
            <a:ext cx="784080" cy="1185840"/>
          </a:xfrm>
          <a:custGeom>
            <a:avLst/>
            <a:gdLst/>
            <a:ahLst/>
            <a:rect l="l" t="t" r="r" b="b"/>
            <a:pathLst>
              <a:path w="494" h="747">
                <a:moveTo>
                  <a:pt x="494" y="0"/>
                </a:moveTo>
                <a:lnTo>
                  <a:pt x="0" y="747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674440" y="3250440"/>
            <a:ext cx="3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514600" y="4114800"/>
            <a:ext cx="3045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362680" y="3886200"/>
            <a:ext cx="3038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29560" y="2856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90520" y="1599120"/>
            <a:ext cx="45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DA=180°-45 °-(90 °-</a:t>
            </a:r>
            <a:r>
              <a:rPr b="0" lang="lv-LV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)=45 °+ </a:t>
            </a:r>
            <a:r>
              <a:rPr b="0" lang="lv-LV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114800" y="2362320"/>
                <a:ext cx="41911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4" name=""/>
          <p:cNvSpPr/>
          <p:nvPr/>
        </p:nvSpPr>
        <p:spPr>
          <a:xfrm>
            <a:off x="4052880" y="396360"/>
            <a:ext cx="3773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lv-LV" sz="28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i="1" lang="lv-LV" sz="2800" spc="-1" strike="noStrike" baseline="-25000">
                <a:solidFill>
                  <a:srgbClr val="ff3300"/>
                </a:solidFill>
                <a:latin typeface="Times New Roman"/>
              </a:rPr>
              <a:t>c  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- bisekt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4724280" y="4572000"/>
                <a:ext cx="3605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6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1981080" y="1523880"/>
            <a:ext cx="2133720" cy="3202920"/>
            <a:chOff x="1981080" y="1523880"/>
            <a:chExt cx="2133720" cy="3202920"/>
          </a:xfrm>
        </p:grpSpPr>
        <p:sp>
          <p:nvSpPr>
            <p:cNvPr id="608" name=""/>
            <p:cNvSpPr/>
            <p:nvPr/>
          </p:nvSpPr>
          <p:spPr>
            <a:xfrm>
              <a:off x="22860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339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810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810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2860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8195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860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810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4189680" y="1539000"/>
            <a:ext cx="16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P=a+b+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4267080" y="2438280"/>
                <a:ext cx="342900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ctg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4343400" y="3809880"/>
                <a:ext cx="34671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9" name=""/>
          <p:cNvSpPr/>
          <p:nvPr/>
        </p:nvSpPr>
        <p:spPr>
          <a:xfrm>
            <a:off x="4115880" y="425880"/>
            <a:ext cx="2104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286000" y="1905120"/>
            <a:ext cx="1523880" cy="2438280"/>
          </a:xfrm>
          <a:custGeom>
            <a:avLst/>
            <a:gdLst/>
            <a:ahLst/>
            <a:rect l="l" t="t" r="r" b="b"/>
            <a:pathLst>
              <a:path w="960" h="1536">
                <a:moveTo>
                  <a:pt x="0" y="1536"/>
                </a:moveTo>
                <a:lnTo>
                  <a:pt x="0" y="0"/>
                </a:lnTo>
                <a:lnTo>
                  <a:pt x="960" y="1536"/>
                </a:lnTo>
                <a:lnTo>
                  <a:pt x="0" y="1536"/>
                </a:ln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7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1981080" y="1523880"/>
            <a:ext cx="2133720" cy="3202920"/>
            <a:chOff x="1981080" y="1523880"/>
            <a:chExt cx="2133720" cy="3202920"/>
          </a:xfrm>
        </p:grpSpPr>
        <p:sp>
          <p:nvSpPr>
            <p:cNvPr id="643" name=""/>
            <p:cNvSpPr/>
            <p:nvPr/>
          </p:nvSpPr>
          <p:spPr>
            <a:xfrm>
              <a:off x="22860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7339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9810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810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860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8195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860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4267080" y="1600200"/>
                <a:ext cx="20574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4572000" y="2590920"/>
                <a:ext cx="313380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tg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  <m:r>
                              <m:t xml:space="preserve">β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3" name=""/>
          <p:cNvSpPr/>
          <p:nvPr/>
        </p:nvSpPr>
        <p:spPr>
          <a:xfrm>
            <a:off x="4343760" y="533160"/>
            <a:ext cx="206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5105520" y="4273560"/>
                <a:ext cx="3276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5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581280" y="609480"/>
            <a:ext cx="4876920" cy="1619640"/>
            <a:chOff x="3581280" y="609480"/>
            <a:chExt cx="4876920" cy="1619640"/>
          </a:xfrm>
        </p:grpSpPr>
        <p:sp>
          <p:nvSpPr>
            <p:cNvPr id="43" name=""/>
            <p:cNvSpPr/>
            <p:nvPr/>
          </p:nvSpPr>
          <p:spPr>
            <a:xfrm>
              <a:off x="4724280" y="657000"/>
              <a:ext cx="37339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lv-LV" sz="2400" spc="-1" strike="noStrike">
                  <a:solidFill>
                    <a:srgbClr val="000000"/>
                  </a:solidFill>
                  <a:latin typeface="Times New Roman"/>
                </a:rPr>
                <a:t>ABC, </a:t>
              </a:r>
              <a:r>
                <a:rPr b="0" lang="lv-LV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0" lang="lv-LV" sz="2400" spc="-1" strike="noStrike">
                  <a:solidFill>
                    <a:srgbClr val="000000"/>
                  </a:solidFill>
                  <a:latin typeface="Times New Roman"/>
                </a:rPr>
                <a:t>C=90</a:t>
              </a:r>
              <a:r>
                <a:rPr b="0" lang="lv-LV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r>
                <a:rPr b="0" lang="lv-LV" sz="2400" spc="-1" strike="noStrike">
                  <a:solidFill>
                    <a:srgbClr val="000000"/>
                  </a:solidFill>
                  <a:latin typeface="Times New Roman"/>
                </a:rPr>
                <a:t> un </a:t>
              </a: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81280" y="6094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ot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3733920" y="2666880"/>
            <a:ext cx="1523880" cy="243864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5029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4952880"/>
            <a:ext cx="1522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5029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8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2895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700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8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733920" y="1202400"/>
            <a:ext cx="487656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OA-l</a:t>
            </a:r>
            <a:r>
              <a:rPr b="1" lang="lv-LV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, BO-lc OK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AK ,OK - r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BKD, (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KBO=45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BKO=90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BKD vienādsānu, BK=OK=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AK=b-r un 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OAK=45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4800600" y="2590920"/>
                <a:ext cx="2895480" cy="24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5</m:t>
                                    </m:r>
                                  </m:e>
                                  <m:sup>
                                    <m:r>
                                      <m:t xml:space="preserve">o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8" name=""/>
          <p:cNvGrpSpPr/>
          <p:nvPr/>
        </p:nvGrpSpPr>
        <p:grpSpPr>
          <a:xfrm>
            <a:off x="1981080" y="1523880"/>
            <a:ext cx="2133720" cy="3202920"/>
            <a:chOff x="1981080" y="1523880"/>
            <a:chExt cx="2133720" cy="3202920"/>
          </a:xfrm>
        </p:grpSpPr>
        <p:sp>
          <p:nvSpPr>
            <p:cNvPr id="679" name=""/>
            <p:cNvSpPr/>
            <p:nvPr/>
          </p:nvSpPr>
          <p:spPr>
            <a:xfrm>
              <a:off x="22860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7339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9810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9810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860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195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860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9810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 flipV="1">
            <a:off x="2286000" y="342900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2285640" y="3505320"/>
            <a:ext cx="152388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286000" y="3276720"/>
            <a:ext cx="1079640" cy="1079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819520" y="3809880"/>
            <a:ext cx="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20600" y="3885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666880" y="4191120"/>
            <a:ext cx="152640" cy="152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202560" y="30470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646720" y="3472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11080" y="4266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4648320" y="5094360"/>
                <a:ext cx="259056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5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7" name=""/>
          <p:cNvSpPr/>
          <p:nvPr/>
        </p:nvSpPr>
        <p:spPr>
          <a:xfrm>
            <a:off x="3657960" y="349920"/>
            <a:ext cx="202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9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621320" y="1674720"/>
            <a:ext cx="452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Apvilktas riņķa līnijas centrs atrodas uz hipotenūzas viduspunktā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1676520" y="1523880"/>
            <a:ext cx="2133000" cy="3202920"/>
            <a:chOff x="1676520" y="1523880"/>
            <a:chExt cx="2133000" cy="3202920"/>
          </a:xfrm>
        </p:grpSpPr>
        <p:sp>
          <p:nvSpPr>
            <p:cNvPr id="721" name=""/>
            <p:cNvSpPr/>
            <p:nvPr/>
          </p:nvSpPr>
          <p:spPr>
            <a:xfrm>
              <a:off x="1981080" y="1905120"/>
              <a:ext cx="152352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429000" y="42670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76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676520" y="152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81080" y="4191120"/>
              <a:ext cx="15192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514600" y="4267080"/>
              <a:ext cx="53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981080" y="2133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2895480"/>
              <a:ext cx="45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 flipH="1">
            <a:off x="2666880" y="3124080"/>
            <a:ext cx="15264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95280" y="1676520"/>
            <a:ext cx="2895840" cy="2895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1981080" y="3123720"/>
            <a:ext cx="762120" cy="12193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162880" y="319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981080" y="1905120"/>
            <a:ext cx="762120" cy="12189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362320" y="259056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2971800" y="358128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5511960" y="3313080"/>
                <a:ext cx="109044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7" name=""/>
          <p:cNvSpPr/>
          <p:nvPr/>
        </p:nvSpPr>
        <p:spPr>
          <a:xfrm>
            <a:off x="4649400" y="533160"/>
            <a:ext cx="2104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5141880" y="4724280"/>
                <a:ext cx="198288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9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4247280" y="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20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81080" y="1905120"/>
            <a:ext cx="1524240" cy="2438280"/>
          </a:xfrm>
          <a:prstGeom prst="rtTriangl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676520" y="1523880"/>
            <a:ext cx="2133360" cy="3202920"/>
            <a:chOff x="1676520" y="1523880"/>
            <a:chExt cx="2133360" cy="3202920"/>
          </a:xfrm>
        </p:grpSpPr>
        <p:sp>
          <p:nvSpPr>
            <p:cNvPr id="762" name=""/>
            <p:cNvSpPr/>
            <p:nvPr/>
          </p:nvSpPr>
          <p:spPr>
            <a:xfrm>
              <a:off x="342900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676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676520" y="1523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981080" y="4191120"/>
              <a:ext cx="1526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514600" y="4267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98108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67652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2666880" y="3124080"/>
              <a:ext cx="152640" cy="76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4191120" y="1447920"/>
                <a:ext cx="2871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1" name=""/>
          <p:cNvSpPr/>
          <p:nvPr/>
        </p:nvSpPr>
        <p:spPr>
          <a:xfrm>
            <a:off x="4200840" y="533160"/>
            <a:ext cx="206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800600" y="3429000"/>
                <a:ext cx="198288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3" name=""/>
          <p:cNvSpPr/>
          <p:nvPr/>
        </p:nvSpPr>
        <p:spPr>
          <a:xfrm>
            <a:off x="2340360" y="342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75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20968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937040" y="1963800"/>
                <a:ext cx="17686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434700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1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57920" y="761040"/>
            <a:ext cx="20660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952880" y="3733920"/>
                <a:ext cx="1752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ctg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108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2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51520" y="1966320"/>
            <a:ext cx="12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d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43720" y="684720"/>
            <a:ext cx="20660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3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141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222720" y="28267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311800" y="1905120"/>
                <a:ext cx="187488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917160" y="761040"/>
            <a:ext cx="2044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933800" y="3581280"/>
                <a:ext cx="186696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4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175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021720" y="989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40320" y="2971080"/>
            <a:ext cx="154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=90</a:t>
            </a: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94560" y="913320"/>
            <a:ext cx="18878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207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5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18160" y="176760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- d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94560" y="608400"/>
            <a:ext cx="18878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56360" y="434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800600" y="1600200"/>
                <a:ext cx="2362320" cy="24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6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5800" y="1980360"/>
            <a:ext cx="22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=90</a:t>
            </a:r>
            <a:r>
              <a:rPr b="1" lang="lv-LV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- d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243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645280" y="3808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07880" y="883080"/>
            <a:ext cx="197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 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4508640" y="3346560"/>
                <a:ext cx="1252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5769720" y="913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50000">
              <a:srgbClr val="ccecff"/>
            </a:gs>
            <a:gs pos="100000">
              <a:srgbClr val="5e6c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347720" y="0"/>
            <a:ext cx="6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othic821 Cn TL"/>
              </a:rPr>
              <a:t>-7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209680" y="1523880"/>
            <a:ext cx="2133720" cy="3202920"/>
            <a:chOff x="2209680" y="1523880"/>
            <a:chExt cx="2133720" cy="3202920"/>
          </a:xfrm>
        </p:grpSpPr>
        <p:sp>
          <p:nvSpPr>
            <p:cNvPr id="278" name=""/>
            <p:cNvSpPr/>
            <p:nvPr/>
          </p:nvSpPr>
          <p:spPr>
            <a:xfrm>
              <a:off x="2514600" y="1905120"/>
              <a:ext cx="1523880" cy="24382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6252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0968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09680" y="1523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14600" y="419112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48120" y="4267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2400" spc="-1" strike="noStrike">
                  <a:solidFill>
                    <a:srgbClr val="008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1460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09680" y="28954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flipH="1">
            <a:off x="2514240" y="4343400"/>
            <a:ext cx="15238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81880" y="385992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24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14880" y="2175120"/>
            <a:ext cx="981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lv-LV" sz="32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lv-LV" sz="3200" spc="-1" strike="noStrike">
                <a:solidFill>
                  <a:srgbClr val="ff3300"/>
                </a:solidFill>
                <a:latin typeface="Times New Roman"/>
              </a:rPr>
              <a:t>=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26680" y="564840"/>
            <a:ext cx="37746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Jāapreķina: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v-LV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i="1" lang="lv-LV" sz="2800" spc="-1" strike="noStrike" baseline="-25000">
                <a:solidFill>
                  <a:srgbClr val="ff3300"/>
                </a:solidFill>
                <a:latin typeface="Times New Roman"/>
              </a:rPr>
              <a:t>a </a:t>
            </a:r>
            <a:r>
              <a:rPr b="0" i="1" lang="lv-LV" sz="2800" spc="-1" strike="noStrike">
                <a:solidFill>
                  <a:srgbClr val="000000"/>
                </a:solidFill>
                <a:latin typeface="Times New Roman"/>
              </a:rPr>
              <a:t>- augst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prēķ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0" y="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rId2" action="ppaction://hlinksldjump"/>
          </p:cNvPr>
          <p:cNvSpPr/>
          <p:nvPr/>
        </p:nvSpPr>
        <p:spPr>
          <a:xfrm>
            <a:off x="0" y="343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3" action="ppaction://hlinksldjump"/>
          </p:cNvPr>
          <p:cNvSpPr/>
          <p:nvPr/>
        </p:nvSpPr>
        <p:spPr>
          <a:xfrm>
            <a:off x="0" y="685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1028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0" y="1371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0" y="1714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rId6" action="ppaction://hlinksldjump"/>
          </p:cNvPr>
          <p:cNvSpPr/>
          <p:nvPr/>
        </p:nvSpPr>
        <p:spPr>
          <a:xfrm>
            <a:off x="0" y="2057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rId7" action="ppaction://hlinksldjump"/>
          </p:cNvPr>
          <p:cNvSpPr/>
          <p:nvPr/>
        </p:nvSpPr>
        <p:spPr>
          <a:xfrm>
            <a:off x="0" y="2400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rId8" action="ppaction://hlinksldjump"/>
          </p:cNvPr>
          <p:cNvSpPr/>
          <p:nvPr/>
        </p:nvSpPr>
        <p:spPr>
          <a:xfrm>
            <a:off x="0" y="27432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0" i="1" lang="lv-LV" sz="1900" spc="-1" strike="noStrike" baseline="-25000">
                <a:solidFill>
                  <a:srgbClr val="ff33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rId9" action="ppaction://hlinksldjump"/>
          </p:cNvPr>
          <p:cNvSpPr/>
          <p:nvPr/>
        </p:nvSpPr>
        <p:spPr>
          <a:xfrm>
            <a:off x="0" y="30862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>
            <a:hlinkClick r:id="rId10" action="ppaction://hlinksldjump"/>
          </p:cNvPr>
          <p:cNvSpPr/>
          <p:nvPr/>
        </p:nvSpPr>
        <p:spPr>
          <a:xfrm>
            <a:off x="0" y="34290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rId11" action="ppaction://hlinksldjump"/>
          </p:cNvPr>
          <p:cNvSpPr/>
          <p:nvPr/>
        </p:nvSpPr>
        <p:spPr>
          <a:xfrm>
            <a:off x="0" y="37720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m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rId12" action="ppaction://hlinksldjump"/>
          </p:cNvPr>
          <p:cNvSpPr/>
          <p:nvPr/>
        </p:nvSpPr>
        <p:spPr>
          <a:xfrm>
            <a:off x="0" y="41148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>
            <a:hlinkClick r:id="rId13" action="ppaction://hlinksldjump"/>
          </p:cNvPr>
          <p:cNvSpPr/>
          <p:nvPr/>
        </p:nvSpPr>
        <p:spPr>
          <a:xfrm>
            <a:off x="0" y="445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>
            <a:hlinkClick r:id="rId14" action="ppaction://hlinksldjump"/>
          </p:cNvPr>
          <p:cNvSpPr/>
          <p:nvPr/>
        </p:nvSpPr>
        <p:spPr>
          <a:xfrm>
            <a:off x="0" y="48006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r>
              <a:rPr b="0" i="1" lang="lv-LV" sz="1900" spc="-1" strike="noStrike" baseline="-25000">
                <a:solidFill>
                  <a:srgbClr val="cc0000"/>
                </a:solidFill>
                <a:latin typeface="Bookman Old Style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rId15" action="ppaction://hlinksldjump"/>
          </p:cNvPr>
          <p:cNvSpPr/>
          <p:nvPr/>
        </p:nvSpPr>
        <p:spPr>
          <a:xfrm>
            <a:off x="0" y="51436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rId16" action="ppaction://hlinksldjump"/>
          </p:cNvPr>
          <p:cNvSpPr/>
          <p:nvPr/>
        </p:nvSpPr>
        <p:spPr>
          <a:xfrm>
            <a:off x="0" y="548640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rId17" action="ppaction://hlinksldjump"/>
          </p:cNvPr>
          <p:cNvSpPr/>
          <p:nvPr/>
        </p:nvSpPr>
        <p:spPr>
          <a:xfrm>
            <a:off x="0" y="58294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rId18" action="ppaction://hlinksldjump"/>
          </p:cNvPr>
          <p:cNvSpPr/>
          <p:nvPr/>
        </p:nvSpPr>
        <p:spPr>
          <a:xfrm>
            <a:off x="0" y="6184800"/>
            <a:ext cx="923760" cy="33048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480"/>
              <a:gd name="textAreaBottom" fmla="*/ 309240 h 330480"/>
            </a:gdLst>
            <a:ahLst/>
            <a:rect l="textAreaLeft" t="textAreaTop" r="textAreaRight" b="textAreaBottom"/>
            <a:pathLst>
              <a:path w="60334" h="21600">
                <a:moveTo>
                  <a:pt x="0" y="0"/>
                </a:moveTo>
                <a:lnTo>
                  <a:pt x="60334" y="0"/>
                </a:lnTo>
                <a:lnTo>
                  <a:pt x="60334" y="21600"/>
                </a:lnTo>
                <a:lnTo>
                  <a:pt x="0" y="21600"/>
                </a:lnTo>
                <a:close/>
              </a:path>
              <a:path fill="lightenLess" w="60334" h="21600">
                <a:moveTo>
                  <a:pt x="0" y="0"/>
                </a:moveTo>
                <a:lnTo>
                  <a:pt x="60334" y="0"/>
                </a:lnTo>
                <a:lnTo>
                  <a:pt x="58934" y="1400"/>
                </a:lnTo>
                <a:lnTo>
                  <a:pt x="1400" y="1400"/>
                </a:lnTo>
                <a:close/>
              </a:path>
              <a:path fill="darken" w="60334" h="21600">
                <a:moveTo>
                  <a:pt x="60334" y="0"/>
                </a:moveTo>
                <a:lnTo>
                  <a:pt x="60334" y="21600"/>
                </a:lnTo>
                <a:lnTo>
                  <a:pt x="58934" y="20200"/>
                </a:lnTo>
                <a:lnTo>
                  <a:pt x="58934" y="1400"/>
                </a:lnTo>
                <a:close/>
              </a:path>
              <a:path fill="darkenLess" w="60334" h="21600">
                <a:moveTo>
                  <a:pt x="603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34" y="20200"/>
                </a:lnTo>
                <a:close/>
              </a:path>
              <a:path fill="lighten" w="603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rId19" action="ppaction://hlinksldjump"/>
          </p:cNvPr>
          <p:cNvSpPr/>
          <p:nvPr/>
        </p:nvSpPr>
        <p:spPr>
          <a:xfrm>
            <a:off x="0" y="6527880"/>
            <a:ext cx="923760" cy="330120"/>
          </a:xfrm>
          <a:custGeom>
            <a:avLst/>
            <a:gdLst>
              <a:gd name="textAreaLeft" fmla="*/ 21240 w 923760"/>
              <a:gd name="textAreaRight" fmla="*/ 902520 w 92376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60400" h="21600">
                <a:moveTo>
                  <a:pt x="0" y="0"/>
                </a:moveTo>
                <a:lnTo>
                  <a:pt x="60400" y="0"/>
                </a:lnTo>
                <a:lnTo>
                  <a:pt x="60400" y="21600"/>
                </a:lnTo>
                <a:lnTo>
                  <a:pt x="0" y="21600"/>
                </a:lnTo>
                <a:close/>
              </a:path>
              <a:path fill="lightenLess" w="60400" h="21600">
                <a:moveTo>
                  <a:pt x="0" y="0"/>
                </a:moveTo>
                <a:lnTo>
                  <a:pt x="60400" y="0"/>
                </a:lnTo>
                <a:lnTo>
                  <a:pt x="59000" y="1400"/>
                </a:lnTo>
                <a:lnTo>
                  <a:pt x="1400" y="1400"/>
                </a:lnTo>
                <a:close/>
              </a:path>
              <a:path fill="darken" w="60400" h="21600">
                <a:moveTo>
                  <a:pt x="60400" y="0"/>
                </a:moveTo>
                <a:lnTo>
                  <a:pt x="60400" y="21600"/>
                </a:lnTo>
                <a:lnTo>
                  <a:pt x="59000" y="20200"/>
                </a:lnTo>
                <a:lnTo>
                  <a:pt x="59000" y="1400"/>
                </a:lnTo>
                <a:close/>
              </a:path>
              <a:path fill="darkenLess" w="60400" h="21600">
                <a:moveTo>
                  <a:pt x="60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00" y="20200"/>
                </a:lnTo>
                <a:close/>
              </a:path>
              <a:path fill="lighten" w="60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900" spc="-1" strike="noStrike">
                <a:solidFill>
                  <a:srgbClr val="cc0000"/>
                </a:solidFill>
                <a:latin typeface="Bookman Old Style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6:20:02Z</dcterms:created>
  <dc:creator>Solo</dc:creator>
  <dc:description/>
  <dc:language>en-US</dc:language>
  <cp:lastModifiedBy>Aira</cp:lastModifiedBy>
  <cp:lastPrinted>2001-02-19T15:49:46Z</cp:lastPrinted>
  <dcterms:modified xsi:type="dcterms:W3CDTF">2010-07-15T13:09:39Z</dcterms:modified>
  <cp:revision>18</cp:revision>
  <dc:subject/>
  <dc:title>1. uzdevums</dc:title>
</cp:coreProperties>
</file>