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4C0E-37B3-49EC-A129-A6ABD794C11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ED89-5A47-48CF-AFB4-A63CF494CCA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1115-EF10-42F1-86CA-CFCCE2D3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243D-2950-4349-B6D3-81BD3BF6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4AC-8783-4D89-9A37-DF22D8FF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A6CE-2D43-4722-A4E1-0A936E28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0912-ED3C-4D70-8BAF-1410A230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2063-E81B-4672-98CA-38E71121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2208-7137-4FAD-BB29-6187E42E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518D-77F7-4767-BCFA-87EFDFFD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AABB-D559-41C1-A8DA-D2BBB002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847E-63B8-4870-87EB-E2B27D65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9394-7BB0-48A6-9464-36BCA3C2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B62F-63C8-4265-BB39-E1379E2C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EE5A-831C-4315-BFD9-6CE65338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E5EB-4225-41A0-B98A-6685B513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322D-B2A9-4001-ABF5-C24D415F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DC88-C6B4-4E71-9897-23DFCEDB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4E74-1CF5-47F9-9B1A-CC490F10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8968A-BF31-45AA-91E2-803D97FD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673A2-113E-453F-BA4B-D612FB63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03202-CF48-4A5F-B83A-00F32E77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907A9-3F53-4A4B-9875-9D0CB19F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ADDD2-EAB2-4855-B990-E4A2BEF3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3140-408F-4F8A-B1CB-785C5162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F34D6-CE99-4CAC-B332-36B37527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95CA2-F510-43AF-A351-5D0661A7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F5B8E-03B0-4052-8383-6B013860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6B2D0-6509-41DB-A76A-74947A7C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A4035-6A34-40AB-92A1-4F1C1E72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06179-1C1A-4A86-AEF1-95880A2C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B76DD-5B17-4947-A69C-66951B98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55DD4-139A-4322-A793-70B79F78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539D1-B94C-4C71-BD6D-B3C7EAB5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D2731-4510-4956-9246-EC973641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59A4-26CC-4438-850D-5569EAA5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4E085-582C-40C6-BDD4-BE1FBBB3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A9A3A-9D55-42D9-88FD-256F241E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8E50E-652D-4FF8-BD81-7204A361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86CBD-102E-4F14-B504-4CE45958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A8B01-0B1B-4C78-873C-AC20AD37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5FE93-6A41-435E-806A-608980E1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46B32-9FE1-4BA6-BABD-669D6BF6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06457-5152-4C3D-98EB-7033A6DF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FDA95-E4C4-424C-B17A-C98E867F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F940-C954-4BFC-99D3-24EAD21A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D178-764B-473F-BABC-7E88EE69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11AD-E7C1-4360-90E8-81C5C662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9DEC-1709-4275-8FFB-47EAD0BF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D646-170C-4C61-9BA0-54CF1FE1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983C-C9C1-4B6C-8443-6362893F5CA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C601-B087-475C-8510-01BEF24825A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666D-CED6-4ADF-B720-37E2E94CC79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1B9F-80BC-4FB3-8AD6-E5AD4EFFA1E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2"/>
          <a:stretch/>
        </p:blipFill>
        <p:spPr>
          <a:xfrm>
            <a:off x="1371600" y="1530360"/>
            <a:ext cx="6845400" cy="23097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998720" y="4519440"/>
            <a:ext cx="501336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Vienādsānu – plat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24"/>
              <p:cNvSpPr txBox="1"/>
              <p:nvPr/>
            </p:nvSpPr>
            <p:spPr>
              <a:xfrm>
                <a:off x="2124000" y="3933720"/>
                <a:ext cx="201636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g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0" name="Group 9"/>
          <p:cNvGrpSpPr/>
          <p:nvPr/>
        </p:nvGrpSpPr>
        <p:grpSpPr>
          <a:xfrm>
            <a:off x="5508720" y="3213000"/>
            <a:ext cx="2735280" cy="2363400"/>
            <a:chOff x="5508720" y="3213000"/>
            <a:chExt cx="2735280" cy="2363400"/>
          </a:xfrm>
        </p:grpSpPr>
        <p:sp>
          <p:nvSpPr>
            <p:cNvPr id="271" name="Rectangle 10"/>
            <p:cNvSpPr/>
            <p:nvPr/>
          </p:nvSpPr>
          <p:spPr>
            <a:xfrm>
              <a:off x="5960520" y="4158360"/>
              <a:ext cx="1806840" cy="14180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Rectangle 11"/>
            <p:cNvSpPr/>
            <p:nvPr/>
          </p:nvSpPr>
          <p:spPr>
            <a:xfrm>
              <a:off x="6261480" y="4473360"/>
              <a:ext cx="602280" cy="4726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Rectangle 12"/>
            <p:cNvSpPr/>
            <p:nvPr/>
          </p:nvSpPr>
          <p:spPr>
            <a:xfrm>
              <a:off x="7315560" y="4946400"/>
              <a:ext cx="300960" cy="6300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Rectangle 13"/>
            <p:cNvSpPr/>
            <p:nvPr/>
          </p:nvSpPr>
          <p:spPr>
            <a:xfrm>
              <a:off x="6111000" y="3213000"/>
              <a:ext cx="300960" cy="6300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AutoShape 14"/>
            <p:cNvSpPr/>
            <p:nvPr/>
          </p:nvSpPr>
          <p:spPr>
            <a:xfrm>
              <a:off x="5508720" y="3370320"/>
              <a:ext cx="2735280" cy="787680"/>
            </a:xfrm>
            <a:prstGeom prst="triangle">
              <a:avLst>
                <a:gd name="adj" fmla="val 50440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Line 15"/>
            <p:cNvSpPr/>
            <p:nvPr/>
          </p:nvSpPr>
          <p:spPr>
            <a:xfrm>
              <a:off x="6562800" y="4473360"/>
              <a:ext cx="0" cy="47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Line 16"/>
            <p:cNvSpPr/>
            <p:nvPr/>
          </p:nvSpPr>
          <p:spPr>
            <a:xfrm>
              <a:off x="7466040" y="5261400"/>
              <a:ext cx="1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8" name="Line 19"/>
          <p:cNvSpPr/>
          <p:nvPr/>
        </p:nvSpPr>
        <p:spPr>
          <a:xfrm flipV="1">
            <a:off x="5529240" y="3357360"/>
            <a:ext cx="1347840" cy="779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20"/>
          <p:cNvSpPr/>
          <p:nvPr/>
        </p:nvSpPr>
        <p:spPr>
          <a:xfrm>
            <a:off x="6877080" y="3357720"/>
            <a:ext cx="1366920" cy="79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22"/>
          <p:cNvSpPr/>
          <p:nvPr/>
        </p:nvSpPr>
        <p:spPr>
          <a:xfrm>
            <a:off x="5508720" y="4149720"/>
            <a:ext cx="2735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1" name="Picture 23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4537080" cy="182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Vienādsānu – taisn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9"/>
              <p:cNvSpPr txBox="1"/>
              <p:nvPr/>
            </p:nvSpPr>
            <p:spPr>
              <a:xfrm>
                <a:off x="2843280" y="4221000"/>
                <a:ext cx="194148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&lt;=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84" name="Picture 8" descr=""/>
          <p:cNvPicPr/>
          <p:nvPr/>
        </p:nvPicPr>
        <p:blipFill>
          <a:blip r:embed="rId2"/>
          <a:stretch/>
        </p:blipFill>
        <p:spPr>
          <a:xfrm>
            <a:off x="1619280" y="2060640"/>
            <a:ext cx="2004840" cy="201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1" descr=""/>
          <p:cNvPicPr/>
          <p:nvPr/>
        </p:nvPicPr>
        <p:blipFill>
          <a:blip r:embed="rId3"/>
          <a:stretch/>
        </p:blipFill>
        <p:spPr>
          <a:xfrm rot="19824600">
            <a:off x="5702400" y="2633400"/>
            <a:ext cx="2342880" cy="3000240"/>
          </a:xfrm>
          <a:prstGeom prst="rect">
            <a:avLst/>
          </a:prstGeom>
          <a:ln w="0">
            <a:noFill/>
          </a:ln>
        </p:spPr>
      </p:pic>
      <p:sp>
        <p:nvSpPr>
          <p:cNvPr id="286" name="Line 12"/>
          <p:cNvSpPr/>
          <p:nvPr/>
        </p:nvSpPr>
        <p:spPr>
          <a:xfrm flipH="1">
            <a:off x="6156000" y="2708280"/>
            <a:ext cx="647640" cy="18003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Line 13"/>
          <p:cNvSpPr/>
          <p:nvPr/>
        </p:nvSpPr>
        <p:spPr>
          <a:xfrm>
            <a:off x="6156360" y="4508640"/>
            <a:ext cx="1944720" cy="43308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Line 14"/>
          <p:cNvSpPr/>
          <p:nvPr/>
        </p:nvSpPr>
        <p:spPr>
          <a:xfrm flipH="1" flipV="1">
            <a:off x="6803640" y="2708280"/>
            <a:ext cx="1297080" cy="22334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Vienādmalu – šaurleņķa trijstūris </a:t>
            </a: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(regulārs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10"/>
              <p:cNvSpPr txBox="1"/>
              <p:nvPr/>
            </p:nvSpPr>
            <p:spPr>
              <a:xfrm>
                <a:off x="2629080" y="4292640"/>
                <a:ext cx="23731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1" name="Picture 6" descr="image"/>
          <p:cNvPicPr/>
          <p:nvPr/>
        </p:nvPicPr>
        <p:blipFill>
          <a:blip r:embed="rId2"/>
          <a:stretch/>
        </p:blipFill>
        <p:spPr>
          <a:xfrm>
            <a:off x="5076720" y="1989000"/>
            <a:ext cx="2159280" cy="1717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A wooden rack set up for eight-ball. Note 1 ball in front, centered 8 ball, staggered ball pattern, and different rear corners."/>
          <p:cNvPicPr/>
          <p:nvPr/>
        </p:nvPicPr>
        <p:blipFill>
          <a:blip r:embed="rId3"/>
          <a:stretch/>
        </p:blipFill>
        <p:spPr>
          <a:xfrm>
            <a:off x="6443640" y="4437000"/>
            <a:ext cx="1714680" cy="12826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"/>
          <p:cNvPicPr/>
          <p:nvPr/>
        </p:nvPicPr>
        <p:blipFill>
          <a:blip r:embed="rId4"/>
          <a:stretch/>
        </p:blipFill>
        <p:spPr>
          <a:xfrm>
            <a:off x="1258920" y="2133720"/>
            <a:ext cx="2592360" cy="1998720"/>
          </a:xfrm>
          <a:prstGeom prst="rect">
            <a:avLst/>
          </a:prstGeom>
          <a:ln w="0">
            <a:noFill/>
          </a:ln>
        </p:spPr>
      </p:pic>
      <p:sp>
        <p:nvSpPr>
          <p:cNvPr id="294" name="Line 13"/>
          <p:cNvSpPr/>
          <p:nvPr/>
        </p:nvSpPr>
        <p:spPr>
          <a:xfrm flipH="1">
            <a:off x="5148000" y="3645000"/>
            <a:ext cx="208764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14"/>
          <p:cNvSpPr/>
          <p:nvPr/>
        </p:nvSpPr>
        <p:spPr>
          <a:xfrm flipV="1">
            <a:off x="5148360" y="1989000"/>
            <a:ext cx="1008000" cy="1656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6156360" y="1989000"/>
            <a:ext cx="1079640" cy="1656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Line 16"/>
          <p:cNvSpPr/>
          <p:nvPr/>
        </p:nvSpPr>
        <p:spPr>
          <a:xfrm flipH="1">
            <a:off x="6588000" y="4508640"/>
            <a:ext cx="720720" cy="1081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Line 17"/>
          <p:cNvSpPr/>
          <p:nvPr/>
        </p:nvSpPr>
        <p:spPr>
          <a:xfrm>
            <a:off x="6588000" y="5589720"/>
            <a:ext cx="1513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Line 18"/>
          <p:cNvSpPr/>
          <p:nvPr/>
        </p:nvSpPr>
        <p:spPr>
          <a:xfrm flipH="1" flipV="1">
            <a:off x="7308360" y="4437000"/>
            <a:ext cx="792360" cy="1152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6"/>
          <p:cNvSpPr/>
          <p:nvPr/>
        </p:nvSpPr>
        <p:spPr>
          <a:xfrm>
            <a:off x="1979640" y="2708280"/>
            <a:ext cx="547200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aldies par uzmanību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Wingdings"/>
                <a:ea typeface="Wingdings"/>
              </a:rPr>
              <a:t></a:t>
            </a:r>
            <a:r>
              <a:rPr b="1" lang="en-US" sz="6000" spc="-1" strike="noStrike">
                <a:solidFill>
                  <a:srgbClr val="04617b"/>
                </a:solidFill>
                <a:latin typeface="Comic Sans MS"/>
              </a:rPr>
              <a:t>   </a:t>
            </a:r>
            <a:r>
              <a:rPr b="1" lang="en-US" sz="6000" spc="-1" strike="noStrike">
                <a:solidFill>
                  <a:srgbClr val="04617b"/>
                </a:solidFill>
                <a:latin typeface="Wingdings"/>
                <a:ea typeface="Wingdings"/>
              </a:rPr>
              <a:t></a:t>
            </a:r>
            <a:r>
              <a:rPr b="1" lang="en-US" sz="6000" spc="-1" strike="noStrike">
                <a:solidFill>
                  <a:srgbClr val="04617b"/>
                </a:solidFill>
                <a:latin typeface="Comic Sans MS"/>
              </a:rPr>
              <a:t>   </a:t>
            </a:r>
            <a:r>
              <a:rPr b="1" lang="en-US" sz="6000" spc="-1" strike="noStrike">
                <a:solidFill>
                  <a:srgbClr val="04617b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1042920" y="981000"/>
            <a:ext cx="6842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īcij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r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jstūr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uc daudzstūri, kuram ir trīs malas. Trijstūri var definēt arī kā plaknes apgabalu, ko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mic Sans MS"/>
                <a:hlinkClick r:id="rId2" action="ppaction://hlinksldjump"/>
              </a:rPr>
              <a:t>ierobežo trīs nogriežņ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971640" y="3789360"/>
            <a:ext cx="734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jstūrim ABC ir trīs malas AB, BC, AC, trīs virsotnes A, B, C un trīs leņķ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C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B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bkuram trijstūrim visu iekšējo leņķu summa ir vienāda ar  18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bkurš trijstūris ir izliekta figūra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1547640" y="2276640"/>
            <a:ext cx="2089440" cy="13395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3780000" y="270828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ēlā redzams trijstūris ABC, to pieraksta šādi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AB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539640" y="12589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Kuras no dotajām figūrām ir trijstūri?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Kāpēc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6804000" y="3645000"/>
            <a:ext cx="1873440" cy="1366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1258920" y="2349360"/>
            <a:ext cx="1584360" cy="1224000"/>
          </a:xfrm>
          <a:prstGeom prst="hexagon">
            <a:avLst>
              <a:gd name="adj" fmla="val 3236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1" name="Group 26"/>
          <p:cNvGrpSpPr/>
          <p:nvPr/>
        </p:nvGrpSpPr>
        <p:grpSpPr>
          <a:xfrm>
            <a:off x="1186920" y="4365720"/>
            <a:ext cx="1943640" cy="1152360"/>
            <a:chOff x="1186920" y="4365720"/>
            <a:chExt cx="1943640" cy="1152360"/>
          </a:xfrm>
        </p:grpSpPr>
        <p:sp>
          <p:nvSpPr>
            <p:cNvPr id="212" name="Line 11"/>
            <p:cNvSpPr/>
            <p:nvPr/>
          </p:nvSpPr>
          <p:spPr>
            <a:xfrm flipH="1">
              <a:off x="1186920" y="4437000"/>
              <a:ext cx="792360" cy="72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Line 12"/>
            <p:cNvSpPr/>
            <p:nvPr/>
          </p:nvSpPr>
          <p:spPr>
            <a:xfrm>
              <a:off x="2195280" y="4365720"/>
              <a:ext cx="9352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Line 13"/>
            <p:cNvSpPr/>
            <p:nvPr/>
          </p:nvSpPr>
          <p:spPr>
            <a:xfrm>
              <a:off x="1260360" y="5373360"/>
              <a:ext cx="1440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5" name="Group 24"/>
          <p:cNvGrpSpPr/>
          <p:nvPr/>
        </p:nvGrpSpPr>
        <p:grpSpPr>
          <a:xfrm>
            <a:off x="5867280" y="2565360"/>
            <a:ext cx="2087280" cy="431640"/>
            <a:chOff x="5867280" y="2565360"/>
            <a:chExt cx="2087280" cy="431640"/>
          </a:xfrm>
        </p:grpSpPr>
        <p:sp>
          <p:nvSpPr>
            <p:cNvPr id="216" name="Line 14"/>
            <p:cNvSpPr/>
            <p:nvPr/>
          </p:nvSpPr>
          <p:spPr>
            <a:xfrm>
              <a:off x="5867280" y="256536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Line 15"/>
            <p:cNvSpPr/>
            <p:nvPr/>
          </p:nvSpPr>
          <p:spPr>
            <a:xfrm>
              <a:off x="6082920" y="2781000"/>
              <a:ext cx="165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Line 16"/>
            <p:cNvSpPr/>
            <p:nvPr/>
          </p:nvSpPr>
          <p:spPr>
            <a:xfrm>
              <a:off x="6298920" y="299700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4284720" y="4437000"/>
            <a:ext cx="2519280" cy="1584360"/>
            <a:chOff x="4284720" y="4437000"/>
            <a:chExt cx="2519280" cy="1584360"/>
          </a:xfrm>
        </p:grpSpPr>
        <p:sp>
          <p:nvSpPr>
            <p:cNvPr id="220" name="Line 17"/>
            <p:cNvSpPr/>
            <p:nvPr/>
          </p:nvSpPr>
          <p:spPr>
            <a:xfrm flipH="1">
              <a:off x="4284720" y="4437000"/>
              <a:ext cx="107928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Line 18"/>
            <p:cNvSpPr/>
            <p:nvPr/>
          </p:nvSpPr>
          <p:spPr>
            <a:xfrm>
              <a:off x="5364000" y="4437000"/>
              <a:ext cx="144000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Line 19"/>
            <p:cNvSpPr/>
            <p:nvPr/>
          </p:nvSpPr>
          <p:spPr>
            <a:xfrm>
              <a:off x="4716360" y="5950080"/>
              <a:ext cx="2087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3" name="Group 23"/>
          <p:cNvGrpSpPr/>
          <p:nvPr/>
        </p:nvGrpSpPr>
        <p:grpSpPr>
          <a:xfrm>
            <a:off x="3564000" y="2708280"/>
            <a:ext cx="1655640" cy="1079280"/>
            <a:chOff x="3564000" y="2708280"/>
            <a:chExt cx="1655640" cy="1079280"/>
          </a:xfrm>
        </p:grpSpPr>
        <p:sp>
          <p:nvSpPr>
            <p:cNvPr id="224" name="Line 20"/>
            <p:cNvSpPr/>
            <p:nvPr/>
          </p:nvSpPr>
          <p:spPr>
            <a:xfrm flipH="1">
              <a:off x="3564000" y="2779560"/>
              <a:ext cx="107928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Line 21"/>
            <p:cNvSpPr/>
            <p:nvPr/>
          </p:nvSpPr>
          <p:spPr>
            <a:xfrm>
              <a:off x="4211640" y="2708280"/>
              <a:ext cx="86508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Line 22"/>
            <p:cNvSpPr/>
            <p:nvPr/>
          </p:nvSpPr>
          <p:spPr>
            <a:xfrm>
              <a:off x="3635280" y="3355920"/>
              <a:ext cx="158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929720" y="6215040"/>
            <a:ext cx="1023840" cy="476280"/>
          </a:xfrm>
          <a:custGeom>
            <a:avLst/>
            <a:gdLst>
              <a:gd name="textAreaLeft" fmla="*/ 30600 w 1023840"/>
              <a:gd name="textAreaRight" fmla="*/ 993240 w 10238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6414" h="21600">
                <a:moveTo>
                  <a:pt x="0" y="0"/>
                </a:moveTo>
                <a:lnTo>
                  <a:pt x="46414" y="0"/>
                </a:lnTo>
                <a:lnTo>
                  <a:pt x="46414" y="21600"/>
                </a:lnTo>
                <a:lnTo>
                  <a:pt x="0" y="21600"/>
                </a:lnTo>
                <a:close/>
              </a:path>
              <a:path fill="lightenLess" w="46414" h="21600">
                <a:moveTo>
                  <a:pt x="0" y="0"/>
                </a:moveTo>
                <a:lnTo>
                  <a:pt x="46414" y="0"/>
                </a:lnTo>
                <a:lnTo>
                  <a:pt x="45014" y="1400"/>
                </a:lnTo>
                <a:lnTo>
                  <a:pt x="1400" y="1400"/>
                </a:lnTo>
                <a:close/>
              </a:path>
              <a:path fill="darken" w="46414" h="21600">
                <a:moveTo>
                  <a:pt x="46414" y="0"/>
                </a:moveTo>
                <a:lnTo>
                  <a:pt x="46414" y="21600"/>
                </a:lnTo>
                <a:lnTo>
                  <a:pt x="45014" y="20200"/>
                </a:lnTo>
                <a:lnTo>
                  <a:pt x="45014" y="1400"/>
                </a:lnTo>
                <a:close/>
              </a:path>
              <a:path fill="darkenLess" w="46414" h="21600">
                <a:moveTo>
                  <a:pt x="464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14" y="20200"/>
                </a:lnTo>
                <a:close/>
              </a:path>
              <a:path fill="lighten" w="464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414" h="21600">
                <a:moveTo>
                  <a:pt x="16200" y="10800"/>
                </a:moveTo>
                <a:lnTo>
                  <a:pt x="30213" y="3794"/>
                </a:lnTo>
                <a:lnTo>
                  <a:pt x="30213" y="17806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dbf5f9"/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Trijstūru iedalījums pēc malām un leņķiem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428760" y="2357280"/>
            <a:ext cx="8464320" cy="42148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7"/>
          <p:cNvSpPr/>
          <p:nvPr/>
        </p:nvSpPr>
        <p:spPr>
          <a:xfrm>
            <a:off x="785880" y="185724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ildini tabulu ar atbilstošo zīmējumu!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Pārbaudi sevi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dbf5f9"/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Trijstūru iedalījums pēc malām un leņķiem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Picture 5" descr="9E9D532A"/>
          <p:cNvPicPr/>
          <p:nvPr/>
        </p:nvPicPr>
        <p:blipFill>
          <a:blip r:embed="rId2"/>
          <a:srcRect l="886" t="4901" r="3587" b="4255"/>
          <a:stretch/>
        </p:blipFill>
        <p:spPr>
          <a:xfrm>
            <a:off x="214200" y="1714680"/>
            <a:ext cx="8777520" cy="48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ff"/>
                </a:solidFill>
                <a:latin typeface="Calibri"/>
              </a:rPr>
              <a:t>Dažādmalu – šaurleņķu trijstūr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4" name="Picture 12" descr="Juras_perle"/>
          <p:cNvPicPr/>
          <p:nvPr/>
        </p:nvPicPr>
        <p:blipFill>
          <a:blip r:embed="rId2"/>
          <a:stretch/>
        </p:blipFill>
        <p:spPr>
          <a:xfrm>
            <a:off x="6084720" y="2708280"/>
            <a:ext cx="2044800" cy="24001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16"/>
              <p:cNvSpPr txBox="1"/>
              <p:nvPr/>
            </p:nvSpPr>
            <p:spPr>
              <a:xfrm>
                <a:off x="3419640" y="4292640"/>
                <a:ext cx="194292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7" name="Line 19"/>
          <p:cNvSpPr/>
          <p:nvPr/>
        </p:nvSpPr>
        <p:spPr>
          <a:xfrm>
            <a:off x="6156360" y="2924280"/>
            <a:ext cx="1800360" cy="730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Line 20"/>
          <p:cNvSpPr/>
          <p:nvPr/>
        </p:nvSpPr>
        <p:spPr>
          <a:xfrm flipH="1">
            <a:off x="7020000" y="2997360"/>
            <a:ext cx="936720" cy="194436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Line 22"/>
          <p:cNvSpPr/>
          <p:nvPr/>
        </p:nvSpPr>
        <p:spPr>
          <a:xfrm flipH="1" flipV="1">
            <a:off x="6156000" y="2924280"/>
            <a:ext cx="863640" cy="20174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Picture 24" descr=""/>
          <p:cNvPicPr/>
          <p:nvPr/>
        </p:nvPicPr>
        <p:blipFill>
          <a:blip r:embed="rId3"/>
          <a:stretch/>
        </p:blipFill>
        <p:spPr>
          <a:xfrm>
            <a:off x="1116000" y="1844640"/>
            <a:ext cx="2951280" cy="23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Dažādmalu – plat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Picture 15" descr=""/>
          <p:cNvPicPr/>
          <p:nvPr/>
        </p:nvPicPr>
        <p:blipFill>
          <a:blip r:embed="rId2"/>
          <a:stretch/>
        </p:blipFill>
        <p:spPr>
          <a:xfrm>
            <a:off x="1476360" y="1989000"/>
            <a:ext cx="3114720" cy="23814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16"/>
              <p:cNvSpPr txBox="1"/>
              <p:nvPr/>
            </p:nvSpPr>
            <p:spPr>
              <a:xfrm>
                <a:off x="3059280" y="4365720"/>
                <a:ext cx="1752480" cy="15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β</m:t>
                        </m:r>
                        <m:r>
                          <m:t xml:space="preserve">&g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45" name="Picture 23" descr="shuupuljkreesls_600"/>
          <p:cNvPicPr/>
          <p:nvPr/>
        </p:nvPicPr>
        <p:blipFill>
          <a:blip r:embed="rId3"/>
          <a:stretch/>
        </p:blipFill>
        <p:spPr>
          <a:xfrm>
            <a:off x="5867280" y="2276640"/>
            <a:ext cx="2592360" cy="2179440"/>
          </a:xfrm>
          <a:prstGeom prst="rect">
            <a:avLst/>
          </a:prstGeom>
          <a:ln w="0">
            <a:noFill/>
          </a:ln>
        </p:spPr>
      </p:pic>
      <p:sp>
        <p:nvSpPr>
          <p:cNvPr id="246" name="Line 24"/>
          <p:cNvSpPr/>
          <p:nvPr/>
        </p:nvSpPr>
        <p:spPr>
          <a:xfrm>
            <a:off x="6443640" y="2637000"/>
            <a:ext cx="216000" cy="1223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25"/>
          <p:cNvSpPr/>
          <p:nvPr/>
        </p:nvSpPr>
        <p:spPr>
          <a:xfrm>
            <a:off x="6659640" y="3860640"/>
            <a:ext cx="1081080" cy="360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26"/>
          <p:cNvSpPr/>
          <p:nvPr/>
        </p:nvSpPr>
        <p:spPr>
          <a:xfrm flipH="1" flipV="1">
            <a:off x="6443280" y="2637000"/>
            <a:ext cx="1297080" cy="1584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Dažādmalu – taisn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19"/>
              <p:cNvSpPr txBox="1"/>
              <p:nvPr/>
            </p:nvSpPr>
            <p:spPr>
              <a:xfrm>
                <a:off x="2411280" y="4221000"/>
                <a:ext cx="1727280" cy="15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51" name="Picture 9" descr="5556_1"/>
          <p:cNvPicPr/>
          <p:nvPr/>
        </p:nvPicPr>
        <p:blipFill>
          <a:blip r:embed="rId2"/>
          <a:stretch/>
        </p:blipFill>
        <p:spPr>
          <a:xfrm>
            <a:off x="5651640" y="2708280"/>
            <a:ext cx="2081160" cy="3095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"/>
          <p:cNvPicPr/>
          <p:nvPr/>
        </p:nvPicPr>
        <p:blipFill>
          <a:blip r:embed="rId3"/>
          <a:stretch/>
        </p:blipFill>
        <p:spPr>
          <a:xfrm>
            <a:off x="1258920" y="1989000"/>
            <a:ext cx="3362400" cy="21337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5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Line 17"/>
          <p:cNvSpPr/>
          <p:nvPr/>
        </p:nvSpPr>
        <p:spPr>
          <a:xfrm flipV="1">
            <a:off x="6588000" y="5013360"/>
            <a:ext cx="863640" cy="71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Line 18"/>
          <p:cNvSpPr/>
          <p:nvPr/>
        </p:nvSpPr>
        <p:spPr>
          <a:xfrm>
            <a:off x="6588000" y="2924280"/>
            <a:ext cx="863640" cy="20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6588000" y="2924280"/>
            <a:ext cx="0" cy="21603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Vienādsānu – šaur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11"/>
              <p:cNvSpPr txBox="1"/>
              <p:nvPr/>
            </p:nvSpPr>
            <p:spPr>
              <a:xfrm>
                <a:off x="3276720" y="4581360"/>
                <a:ext cx="179856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59" name="Picture 7" descr="D4DE70B5"/>
          <p:cNvPicPr/>
          <p:nvPr/>
        </p:nvPicPr>
        <p:blipFill>
          <a:blip r:embed="rId2"/>
          <a:stretch/>
        </p:blipFill>
        <p:spPr>
          <a:xfrm>
            <a:off x="6227640" y="4005360"/>
            <a:ext cx="2162160" cy="1762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j0157763"/>
          <p:cNvPicPr/>
          <p:nvPr/>
        </p:nvPicPr>
        <p:blipFill>
          <a:blip r:embed="rId3"/>
          <a:stretch/>
        </p:blipFill>
        <p:spPr>
          <a:xfrm>
            <a:off x="6012000" y="2060640"/>
            <a:ext cx="1633320" cy="1655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"/>
          <p:cNvPicPr/>
          <p:nvPr/>
        </p:nvPicPr>
        <p:blipFill>
          <a:blip r:embed="rId4"/>
          <a:stretch/>
        </p:blipFill>
        <p:spPr>
          <a:xfrm>
            <a:off x="1547640" y="2205000"/>
            <a:ext cx="2303640" cy="2266920"/>
          </a:xfrm>
          <a:prstGeom prst="rect">
            <a:avLst/>
          </a:prstGeom>
          <a:ln w="0">
            <a:noFill/>
          </a:ln>
        </p:spPr>
      </p:pic>
      <p:sp>
        <p:nvSpPr>
          <p:cNvPr id="262" name="Line 13"/>
          <p:cNvSpPr/>
          <p:nvPr/>
        </p:nvSpPr>
        <p:spPr>
          <a:xfrm>
            <a:off x="6443640" y="350028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14"/>
          <p:cNvSpPr/>
          <p:nvPr/>
        </p:nvSpPr>
        <p:spPr>
          <a:xfrm flipV="1">
            <a:off x="6443640" y="2060280"/>
            <a:ext cx="360360" cy="143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Line 15"/>
          <p:cNvSpPr/>
          <p:nvPr/>
        </p:nvSpPr>
        <p:spPr>
          <a:xfrm>
            <a:off x="6804000" y="2060640"/>
            <a:ext cx="432000" cy="143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Line 16"/>
          <p:cNvSpPr/>
          <p:nvPr/>
        </p:nvSpPr>
        <p:spPr>
          <a:xfrm flipV="1">
            <a:off x="7250040" y="4292280"/>
            <a:ext cx="851040" cy="7081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Line 17"/>
          <p:cNvSpPr/>
          <p:nvPr/>
        </p:nvSpPr>
        <p:spPr>
          <a:xfrm>
            <a:off x="8101080" y="4292640"/>
            <a:ext cx="0" cy="12970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Line 18"/>
          <p:cNvSpPr/>
          <p:nvPr/>
        </p:nvSpPr>
        <p:spPr>
          <a:xfrm flipH="1" flipV="1">
            <a:off x="7256520" y="4992840"/>
            <a:ext cx="844560" cy="596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21:11:06Z</dcterms:created>
  <dc:creator>User</dc:creator>
  <dc:description/>
  <dc:language>en-US</dc:language>
  <cp:lastModifiedBy>Aira</cp:lastModifiedBy>
  <dcterms:modified xsi:type="dcterms:W3CDTF">2010-07-15T14:03:52Z</dcterms:modified>
  <cp:revision>56</cp:revision>
  <dc:subject/>
  <dc:title>Trijstūru iedalījums pēc malām un leņķiem</dc:title>
</cp:coreProperties>
</file>