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669E-1E00-4326-A700-A7230FA1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BF7-6DD1-4476-8249-FE31AA78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DF58-994D-4144-909C-AC298D3C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8D69-19FE-4507-A51E-EE30AEFB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5F81-A23A-428D-A9F4-6E41BFC5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7368-976B-42FF-BC79-E729DAA5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DE55-3673-4C17-BD22-62BA3E97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59CA-A4B6-47B6-BA58-7F92C85B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EAAE-0B5C-498D-953E-005EED0E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C3D8-4739-4184-A136-8CB08E11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F11C-7C24-408C-90B3-9B67306B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6711-FE6A-4E3F-918C-FC85AE23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FBA9-F830-4FC7-9C6E-0897D4CD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2AB0-5F9B-467B-BBFA-36DBEE20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D0BB-F954-4629-85EB-4DB8B635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5516-53DA-41D0-B7EA-352EC7E9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90E0-9FE1-47F8-B460-03096223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51F0-33BE-478F-8E60-77DC20E7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58B9-0400-4AA4-B49A-45D9B239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6F62-0959-4A51-B9D3-B1FEF472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600F-6BF9-4AE3-8F7D-09FCBCA2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F3D6-FDF7-45FF-AA67-6B9BA8B6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7CED-33BB-4290-AF12-825511DA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5441-53F5-4C21-9360-37B29576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31A8-567C-402C-937C-DD3FF369A0A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9409-364A-4929-84D7-F973F8C6F11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lv.wikipedia.org/wiki/1632" TargetMode="External"/><Relationship Id="rId2" Type="http://schemas.openxmlformats.org/officeDocument/2006/relationships/hyperlink" Target="http://lv.wikipedia.org/wiki/29._augusts" TargetMode="External"/><Relationship Id="rId3" Type="http://schemas.openxmlformats.org/officeDocument/2006/relationships/hyperlink" Target="http://lv.wikipedia.org/wiki/1704" TargetMode="External"/><Relationship Id="rId4" Type="http://schemas.openxmlformats.org/officeDocument/2006/relationships/hyperlink" Target="http://lv.wikipedia.org/wiki/28.oktobris" TargetMode="External"/><Relationship Id="rId5" Type="http://schemas.openxmlformats.org/officeDocument/2006/relationships/hyperlink" Target="http://lv.wikipedia.org/wiki/Apgaism&#299;ba" TargetMode="External"/><Relationship Id="rId6" Type="http://schemas.openxmlformats.org/officeDocument/2006/relationships/hyperlink" Target="http://lv.wikipedia.org/wiki/Ang&#316;i" TargetMode="External"/><Relationship Id="rId7" Type="http://schemas.openxmlformats.org/officeDocument/2006/relationships/hyperlink" Target="http://lv.wikipedia.org/wiki/Filozofija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ffffcc"/>
                </a:solidFill>
                <a:latin typeface="Tahoma"/>
              </a:rPr>
              <a:t>Matemātiskā loģika un sadzīv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 u="sng">
                <a:solidFill>
                  <a:srgbClr val="962671"/>
                </a:solidFill>
                <a:uFillTx/>
                <a:latin typeface="Tahoma"/>
              </a:rPr>
              <a:t>Slēdzien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01680" y="457200"/>
            <a:ext cx="85406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1752480" y="533520"/>
            <a:ext cx="1828800" cy="1447560"/>
          </a:xfrm>
          <a:prstGeom prst="pentagon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133360" y="533520"/>
            <a:ext cx="53316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133720" y="1066680"/>
            <a:ext cx="144756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95280" y="914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60020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81280" y="914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152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343400" y="5335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iecstūris sastāv no trīs trijstūriem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419720" y="5335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4419720" y="990720"/>
                <a:ext cx="838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FGR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5334120" y="990720"/>
                <a:ext cx="68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FRV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172200" y="990720"/>
                <a:ext cx="7621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FV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7315200" y="114300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267080" y="175248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257800" y="1600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iecstū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6400800" y="1676520"/>
                <a:ext cx="838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GRV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"/>
          <p:cNvSpPr/>
          <p:nvPr/>
        </p:nvSpPr>
        <p:spPr>
          <a:xfrm>
            <a:off x="731520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iekšē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2133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leņķu summa ir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6629400" y="2590920"/>
                <a:ext cx="17524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70" name=""/>
          <p:cNvSpPr/>
          <p:nvPr/>
        </p:nvSpPr>
        <p:spPr>
          <a:xfrm>
            <a:off x="914400" y="3276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3733920" y="2647800"/>
                <a:ext cx="289548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H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1295280" y="3276720"/>
            <a:ext cx="7315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Aplūkojot trijstūra, četrstūra, piecstūra iekšējo leņķu summu iegūšanu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var saskatīt sakarību, ka n – stūra iekšējo leņķu summa i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925880" y="4800600"/>
                <a:ext cx="2313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"/>
          <p:cNvSpPr/>
          <p:nvPr/>
        </p:nvSpPr>
        <p:spPr>
          <a:xfrm>
            <a:off x="1523880" y="5257800"/>
            <a:ext cx="304920" cy="60948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523880" y="4571640"/>
            <a:ext cx="457200" cy="68580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4572000"/>
            <a:ext cx="914400" cy="7632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895480" y="4648320"/>
            <a:ext cx="609840" cy="45720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828800" y="5867280"/>
            <a:ext cx="1143000" cy="304920"/>
          </a:xfrm>
          <a:prstGeom prst="line">
            <a:avLst/>
          </a:prstGeom>
          <a:ln w="28440">
            <a:solidFill>
              <a:srgbClr val="99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743200" y="4648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1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905120" y="4572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2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523880" y="51055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3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28800" y="56386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4,..............,n- stūr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724280" y="48769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ā tiek iegūts induktīvā slēdzienā jauns spriedum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Izdarot vispārīgus secinājumus no atsevišķu gadījumu rezultāti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āda figūra būs nākamā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Kāda figūra būs nākamā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urš skaitlis būs nākamais 7; 11; 15; 19;.....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762120" y="2971800"/>
            <a:ext cx="121896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95280" y="3352680"/>
            <a:ext cx="228600" cy="2286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0" y="2971800"/>
            <a:ext cx="114300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286000" y="2971800"/>
            <a:ext cx="1143000" cy="990720"/>
          </a:xfrm>
          <a:prstGeom prst="diamond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657600" y="2895480"/>
            <a:ext cx="1219320" cy="10670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657600" y="2895480"/>
            <a:ext cx="1219320" cy="1067040"/>
          </a:xfrm>
          <a:prstGeom prst="diamond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962520" y="3200400"/>
            <a:ext cx="609480" cy="457200"/>
          </a:xfrm>
          <a:prstGeom prst="flowChart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114800" y="3352680"/>
            <a:ext cx="228600" cy="2286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312408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ff"/>
                </a:solidFill>
                <a:latin typeface="Arial"/>
              </a:rPr>
              <a:t>.........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334120" y="2590920"/>
            <a:ext cx="167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5400000">
            <a:off x="876240" y="4915080"/>
            <a:ext cx="990720" cy="761760"/>
          </a:xfrm>
          <a:custGeom>
            <a:avLst/>
            <a:gdLst>
              <a:gd name="textAreaLeft" fmla="*/ 330120 w 990720"/>
              <a:gd name="textAreaRight" fmla="*/ 848520 w 990720"/>
              <a:gd name="textAreaTop" fmla="*/ 48600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877"/>
                </a:moveTo>
                <a:lnTo>
                  <a:pt x="13777" y="16877"/>
                </a:lnTo>
                <a:lnTo>
                  <a:pt x="13777" y="7200"/>
                </a:lnTo>
                <a:lnTo>
                  <a:pt x="10677" y="7200"/>
                </a:lnTo>
                <a:lnTo>
                  <a:pt x="1613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10800000">
            <a:off x="1980720" y="4800600"/>
            <a:ext cx="762120" cy="838080"/>
          </a:xfrm>
          <a:custGeom>
            <a:avLst/>
            <a:gdLst>
              <a:gd name="textAreaLeft" fmla="*/ 254160 w 762120"/>
              <a:gd name="textAreaRight" fmla="*/ 653040 w 762120"/>
              <a:gd name="textAreaTop" fmla="*/ 53460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6877"/>
                </a:moveTo>
                <a:lnTo>
                  <a:pt x="13777" y="16877"/>
                </a:lnTo>
                <a:lnTo>
                  <a:pt x="13777" y="7200"/>
                </a:lnTo>
                <a:lnTo>
                  <a:pt x="10677" y="7200"/>
                </a:lnTo>
                <a:lnTo>
                  <a:pt x="1613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16200000">
            <a:off x="2971800" y="4800600"/>
            <a:ext cx="914400" cy="761760"/>
          </a:xfrm>
          <a:custGeom>
            <a:avLst/>
            <a:gdLst>
              <a:gd name="textAreaLeft" fmla="*/ 304920 w 914400"/>
              <a:gd name="textAreaRight" fmla="*/ 783360 w 914400"/>
              <a:gd name="textAreaTop" fmla="*/ 48600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877"/>
                </a:moveTo>
                <a:lnTo>
                  <a:pt x="13777" y="16877"/>
                </a:lnTo>
                <a:lnTo>
                  <a:pt x="13777" y="7200"/>
                </a:lnTo>
                <a:lnTo>
                  <a:pt x="10677" y="7200"/>
                </a:lnTo>
                <a:lnTo>
                  <a:pt x="1613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038480" y="50292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ff"/>
                </a:solidFill>
                <a:latin typeface="Arial"/>
              </a:rPr>
              <a:t>.........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449568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Vai induktīvie slēdzieni vienmēr ir paties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Nē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Situācijas, kurās induktīvo spriešanu nevaram pilnīgi droši apgalvot ir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dažādu stereotipu rašanās pamatā un bieži vien var būt maldinoš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852480" y="3124080"/>
            <a:ext cx="2840040" cy="313380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4724280" y="3429000"/>
            <a:ext cx="1381320" cy="328608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5257800" y="2514600"/>
            <a:ext cx="3352680" cy="914400"/>
          </a:xfrm>
          <a:prstGeom prst="cloudCallout">
            <a:avLst>
              <a:gd name="adj1" fmla="val -33523"/>
              <a:gd name="adj2" fmla="val 8003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ffffff"/>
                </a:solidFill>
                <a:latin typeface="Arial"/>
              </a:rPr>
              <a:t>Tātad visām meitenēm patīk sarkana krā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5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5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Ja esam konstatējuši, ka 10 dažādos laikrakstos reklāma aizņem vismaz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20%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no avīzes laukuma, tad spriedums, ka “visās avīzēs reklām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aizņem vismaz 20% no tā laukuma”, var būt nepaties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3.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Ja esam novērojuši, ka visi mūsu paziņas vīrieši brauc ar automašīnām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uru dzinēja tilpums ir vismaz 2 litri, mēs nedrīkstam pilnīgi droši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apgalvot, ka visi vīrieši brauc tikai ar šādām mašīn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5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2362320" cy="16495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2209680" y="2438280"/>
            <a:ext cx="21146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ur var noderē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Ļaujot noformulēt idejas un izvirzīt hipotēzes par pētāmo procesu priekšmetu vai parādību. Vēlāk, šīs hipotēzes pamatojot, ir iespējams gūt apstiprinošu vai noliedzošu spriedumu par mūsu veiktajiem vērojumi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zvirzi hipotēzi, kāda varētu būt nākamā figūr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</a:t>
            </a: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3429000"/>
            <a:ext cx="685800" cy="609480"/>
          </a:xfrm>
          <a:prstGeom prst="flowChartPredefined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133720" y="3429000"/>
            <a:ext cx="685800" cy="6094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5400000">
            <a:off x="2933280" y="3467160"/>
            <a:ext cx="685800" cy="609480"/>
          </a:xfrm>
          <a:prstGeom prst="flowChartPredefined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733920" y="3429000"/>
            <a:ext cx="685800" cy="6094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0" y="3429000"/>
            <a:ext cx="685800" cy="609480"/>
          </a:xfrm>
          <a:prstGeom prst="flowChartPredefined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2952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524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42900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81952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96252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73392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429000" y="49528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6386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814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5238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62940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0958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3244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8672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100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867280" y="47242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95880" y="49528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38680" y="49528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562720" y="3657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Tahoma"/>
              </a:rPr>
              <a:t>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3352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lv-LV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04520" y="52578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Tahoma"/>
              </a:rPr>
              <a:t>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162920" y="4876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lv-LV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cc"/>
                </a:solidFill>
                <a:latin typeface="Tahoma"/>
              </a:rPr>
              <a:t>Deduktīvie slēdzien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Uz ko balstā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Uz iepriekš pamatotu spriedum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r pierādīts, ka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romba diagonāles krustpunktā dalās uz pusēm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To  zinot, var droši apgalvot, ka arī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“kvadrāta diagonāles krustpunktā dalās uz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     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pusēm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, jo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kvadrāts ir romba speciālgadījum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828800" y="4495680"/>
            <a:ext cx="1676520" cy="1524240"/>
          </a:xfrm>
          <a:prstGeom prst="diamond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828800" y="525780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666880" y="44956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371600" y="5029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1460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581280" y="5029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514600" y="6095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362320" y="4952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200400" y="41911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AO=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BO=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267080" y="50292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5a5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15000" y="4572000"/>
            <a:ext cx="1219320" cy="1066680"/>
          </a:xfrm>
          <a:prstGeom prst="flowChart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15000" y="4572000"/>
            <a:ext cx="12193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714640" y="4572000"/>
            <a:ext cx="12193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410080" y="4343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410080" y="5562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9343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34320" y="5638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172200" y="4800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467480" y="4191120"/>
            <a:ext cx="1067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KT=T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LT=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ā tiek iegūts deduktīvā slēdzienā jauns patiess spriedum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Izmantojot iepriekš pierādītus faktus, patiesus apgalvojumus un loģiski secino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r pierādīts –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“jo lielāks automašīnas ātrums, jo garāks ir tās bremzēšanas ceļš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Tāpat ir pierādīts –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“jo garāks bremzēšanas ceļš, jo garāks apstāšanās ceļš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Tā kā pirmie divi apgalvojumi ir patiesi, var secināt, ka patiess ir apgalvojums – </a:t>
            </a: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“jo lielāks ātrums, jo garāks apstāšanās ceļš”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, kas izriet no diviem patiesajiem apgalvojumiem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Vai deduktīvā ceļā iegūti spriedumi vienmēr ir paties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J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5715000" y="3657600"/>
            <a:ext cx="167652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ur var noderē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Pierādīt teorēmas, pamatot faktu patiesum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3352680" y="2438280"/>
            <a:ext cx="221004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Eksperi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2895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76720" y="3124080"/>
            <a:ext cx="2286000" cy="60984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Induktīvā sprieš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581280" y="4038480"/>
            <a:ext cx="1447920" cy="3812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Hipotē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343400" y="44197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76720" y="4724280"/>
            <a:ext cx="2361960" cy="5335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Deduktīvā sprieš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343400" y="52578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362320" y="5486400"/>
            <a:ext cx="441936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Hipotēzes apstiprinājums vai nolieg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2666880" y="1523880"/>
            <a:ext cx="3581640" cy="10670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Arial"/>
              </a:rPr>
              <a:t>Slēdzie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343400" y="25909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057400" y="297180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57400" y="2971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29400" y="2971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62120" y="3352680"/>
            <a:ext cx="2286000" cy="838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Empīrisk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352680"/>
            <a:ext cx="2286000" cy="838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Induktīv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715000" y="3352680"/>
            <a:ext cx="2286000" cy="838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Deduktīv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01680" y="380880"/>
            <a:ext cx="8540640" cy="57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as ir slēdzien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Slēdziens ir domāšanas forma, kurā no viena vai vairākiem spriedumiem tiek iegūts jauns spriedums. Sākotnējos spriedumus sauc par slēdziena premisām (no latīņu v. “praemissa” – priekšnoteikums), bet jauniegūto spriedumu – par slēdziena secinājum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Slēdziena piemērs, kur secinājums izriet no divām premisām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Sarūgtinājumi ir nepatīkam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Daži sarūgtinājumi ir derīg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Dažas derīgas lietas ir nepatīkam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5410080" y="3962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6fa9b7"/>
                </a:solidFill>
                <a:latin typeface="Tahoma"/>
              </a:rPr>
              <a:t>Divas premi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76920" y="3733920"/>
            <a:ext cx="380880" cy="838080"/>
          </a:xfrm>
          <a:custGeom>
            <a:avLst/>
            <a:gdLst>
              <a:gd name="textAreaLeft" fmla="*/ 0 w 380880"/>
              <a:gd name="textAreaRight" fmla="*/ 137520 w 3808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fa9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05520" y="480060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fa9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334120" y="4800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6fa9b7"/>
                </a:solidFill>
                <a:latin typeface="Tahoma"/>
              </a:rPr>
              <a:t>Secināj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cc"/>
                </a:solidFill>
                <a:latin typeface="Tahoma"/>
              </a:rPr>
              <a:t>Empīriskie slēdzien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1600" indent="-56160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Uz ko balstā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Uz iepriekš gūto pieredzi, uz sajūtām (dzird, redz, saož), izlasot vai dzirdo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“Sarkanā gaisma sāk mirgot, tātad drīz luksoforā iedegsies dzeltenā gaisma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“Pulksten astoņos no rīta, ejot garām maizes ceptuvei, var saost ceptas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maizes smaržu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3. “Ejam uz stundu, tikko nozvanīja zvans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886200" y="3581280"/>
            <a:ext cx="137160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ā tiek iegūts empīriskā slēdzienā jauns spriedum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No Individuālas pieredzes.</a:t>
            </a:r>
            <a:r>
              <a:rPr b="0" lang="lv-LV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“Dienu pirms algas nekad nav brīvu naudas līdzekļu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“Teksta uzdevumi parasti ir grūtāki par citiem uzdevumiem.”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943600" y="3505320"/>
            <a:ext cx="17524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962671"/>
                </a:solidFill>
                <a:uFillTx/>
                <a:latin typeface="Tahoma"/>
              </a:rPr>
              <a:t>Vai empīriskie slēdzieni vienmēr ir patiesi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800" spc="-1" strike="noStrike">
                <a:solidFill>
                  <a:srgbClr val="962671"/>
                </a:solidFill>
                <a:latin typeface="Tahoma"/>
              </a:rPr>
              <a:t>Nē.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</a:t>
            </a:r>
            <a:r>
              <a:rPr b="0" lang="lv-LV" sz="2800" spc="-1" strike="noStrike">
                <a:solidFill>
                  <a:srgbClr val="962671"/>
                </a:solidFill>
                <a:latin typeface="Tahoma"/>
              </a:rPr>
              <a:t>Tā kā cilvēku pieredze ir individuāla, tad vienā un tajā pašā situācijā esošu dažādu cilvēku gūtā pieredze var būt dažāda.</a:t>
            </a:r>
            <a:r>
              <a:rPr b="0" lang="lv-LV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Piemēri: No iepriekšējiem piemēri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1. “Dienu pirms algas nekad nav brīvu naudas līdzekļu” </a:t>
            </a:r>
            <a:r>
              <a:rPr b="0" lang="lv-LV" sz="2000" spc="-1" strike="noStrike">
                <a:solidFill>
                  <a:srgbClr val="ffffff"/>
                </a:solidFill>
                <a:latin typeface="Tahoma"/>
              </a:rPr>
              <a:t>būs patiess tiem cilvēkiem, kas neplāno savus izdevumus un ienākumu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2. “Teksta uzdevumi parasti ir grūtāki par citiem uzdevumiem” ir spēkā tikai  kādai skolēnu daļa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ur var noderē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Var palīdzēt pierādījuma veidošanā. Zināšanu  attīstīšanai, sevis pilnveidošana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Džons Lok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John Locke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163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g.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29. august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170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g.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28.oktobri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-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apgaismība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laikmeta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angļu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filozof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Empīrists. Viens no liberālisma pamatlicējiem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Loks uzsvēra maņu, nevis intuīcijas vai dedukcijas, nozīmi zināšanu iegūšanā. Loks uzskatīja, ka piedzimstot cilvēka prāts ir k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tabula ra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tīra tāfele, uz kuras maņas atstāj nospiedumus, kas veido zināšanas. Viņš uzskatīja arī, ka visi cilvēki piedzimst labi, vienlīdzīgi un neatkarīg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8"/>
          <a:stretch/>
        </p:blipFill>
        <p:spPr>
          <a:xfrm>
            <a:off x="3581280" y="1676520"/>
            <a:ext cx="19051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cc"/>
                </a:solidFill>
                <a:latin typeface="Tahoma"/>
              </a:rPr>
              <a:t>Induktīvie slēdzien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Uz ko balstā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Uz vairāku eksperimentu vai vērojumu laikā gūtiem  rezultāti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i="1" lang="lv-LV" sz="2000" spc="-1" strike="noStrike">
                <a:solidFill>
                  <a:srgbClr val="962671"/>
                </a:solidFill>
                <a:latin typeface="Tahoma"/>
              </a:rPr>
              <a:t>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Ticējumi, kas atticas uz laika apstākļiem – cilvēku novērojumi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daudzu gadu garumā ļauj secināt: “ja saule pēc saullēkta uzreiz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eiet mākoņos – būs lietus”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304560"/>
            <a:ext cx="838512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ffffff"/>
                </a:solidFill>
                <a:latin typeface="Tahoma"/>
              </a:rPr>
              <a:t>2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500120" y="382680"/>
          <a:ext cx="6051600" cy="92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382680"/>
                    <a:ext cx="605160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685800" y="16765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318600">
            <a:off x="2133720" y="2285640"/>
            <a:ext cx="1600200" cy="685800"/>
          </a:xfrm>
          <a:prstGeom prst="flowChartExtra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905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419720" y="2590920"/>
                <a:ext cx="3124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1295280" y="4038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09680" y="4343400"/>
            <a:ext cx="144792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209680" y="4343400"/>
            <a:ext cx="144792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828800" y="5029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752480" y="4038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65760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5410080" y="4191120"/>
                <a:ext cx="6937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L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800600" y="4191120"/>
                <a:ext cx="3808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572000" y="4495680"/>
                <a:ext cx="2057400" cy="2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KNL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NLK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4572000" y="36576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648320" y="4724280"/>
                <a:ext cx="38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5334120" y="4724280"/>
                <a:ext cx="68580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LN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267080" y="5029200"/>
                <a:ext cx="22100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MNL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MLN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6858000" y="4038480"/>
            <a:ext cx="304920" cy="129564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429000" y="5562720"/>
                <a:ext cx="41911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7315200" y="4572000"/>
            <a:ext cx="1371600" cy="152280"/>
          </a:xfrm>
          <a:prstGeom prst="rightArrow">
            <a:avLst>
              <a:gd name="adj1" fmla="val 50000"/>
              <a:gd name="adj2" fmla="val 22517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447920" y="571500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8:59:48Z</dcterms:created>
  <dc:creator>user</dc:creator>
  <dc:description/>
  <dc:language>en-US</dc:language>
  <cp:lastModifiedBy>Fizikas un Matemātikas fakultāte</cp:lastModifiedBy>
  <dcterms:modified xsi:type="dcterms:W3CDTF">2010-08-08T07:34:03Z</dcterms:modified>
  <cp:revision>94</cp:revision>
  <dc:subject/>
  <dc:title>Matemātiskā loģika un sadzīve.</dc:title>
</cp:coreProperties>
</file>