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AB4-D502-40D4-81DA-576C70E2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7D9D-8C55-4F5E-BA5D-BB2D152F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6DD-0A75-4682-A9AC-29A57270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EBA-0F21-4B26-88DA-A03F9574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8125-40EF-4A43-8BAB-E2D45CE2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F32F-2145-4223-A764-7AECF8A5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B8AE-A044-47DB-84DE-9352362B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8D95-E98D-4B7D-81C2-4AD3D1F7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8C9D-A2CB-43EC-A18E-0F7E61FC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7387-6FB1-4E12-9EC7-A3EE007E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7E5F-34B6-468E-87F1-6906780A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6F1-0392-45FD-BA1F-2C4C99FB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2BEA-EE0E-41D0-BCA3-78AF1B41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49AB-7530-44E1-B115-469EC46B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CB1F-A002-41A0-9ECC-ED660A1E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B5ED-DD90-4559-A1DD-D7742BF8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EAEF-2CA1-4238-A522-460908BF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34BAE-BA13-4D43-8BBB-D2A2FE11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BD4BA-060F-452B-B3CE-D3E8F72C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260A6-F181-4C41-8FAD-97C8E23C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8AF74-F65A-49AC-A676-BEB4D202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742C8-025D-4C1F-B93A-CF764926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E44-DDBF-463A-AE44-2256EB1C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F6CE3-B81D-4C2C-B6DA-2ECE7391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7D456-1FE8-4AC8-92F0-19104B56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49EF5-450A-4E9D-A765-2D824A47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D3218-170B-4096-BE66-0F8FD8AE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2095D-7F7E-4DE7-9BA2-76B46284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BD4ED-EAA3-4C77-974F-5205B62E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865F8-9E13-4C56-A0A3-49FAACE4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CF887-A42F-4BE1-837F-B345AC8E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2022A-2ABE-48C6-AF41-2B839A55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C8D72-BA73-4AF2-BD6F-84B57D0B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CA61-7183-4F79-9A30-5E33EBE7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91AE2-097E-454A-9FFE-536AC585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C7BAE-E537-48AC-8BD1-748012E5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7919C-7E27-46FE-B377-1722AA2D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FE663-F0CF-4671-A202-5A79404A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B7007-D854-4862-9217-D2C8576B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B6452-6CDC-4A7B-9709-9EE23C7A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C0AEF-ED0E-4656-A2AD-194A03F5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72D6B-B0B5-492A-854D-AE3A0EE3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8546C-CCC9-4A6B-B645-4597F1ED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C676-9704-4371-A3AB-DD9C9DB0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FAE3-9580-487C-AC76-5707DD14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12CF-90E1-4072-A929-03CCD1B5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AB0-0509-4CB9-8DA4-E0A83A64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083-D2D0-475E-8EE4-11C02D22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E9C4-E8C3-4658-BC96-A74C38E58CC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C19B-B768-4687-9E98-EE4949E38DE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D0B5-8015-4398-892C-5C4C66C4C80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6759-8E35-44E7-8152-618E314C502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tle 1"/>
          <p:cNvSpPr/>
          <p:nvPr/>
        </p:nvSpPr>
        <p:spPr>
          <a:xfrm>
            <a:off x="250920" y="260280"/>
            <a:ext cx="86630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Kopu teorijas pamatjēdzie</a:t>
            </a: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ni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opu teorijas pamatjēdzien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58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opa-Kopas jēdziens ir viens no matemātikas pamatjēdzieniem.  Par kopu matemātikā var uzskatīt atsevišķu objektu veidotu jaunu un vienotu apvienojumu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urpmāk pieņemsim un darbosimies ar divām kopām: A un B (darīsim tā tikai uzskatāmības dēļ, faktiski, visi atzinumi ir derīgi jebkādam kopu skaitam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1576440" y="4000680"/>
            <a:ext cx="2781360" cy="2714400"/>
            <a:chOff x="1576440" y="4000680"/>
            <a:chExt cx="2781360" cy="2714400"/>
          </a:xfrm>
        </p:grpSpPr>
        <p:sp>
          <p:nvSpPr>
            <p:cNvPr id="199" name="Oval 3"/>
            <p:cNvSpPr/>
            <p:nvPr/>
          </p:nvSpPr>
          <p:spPr>
            <a:xfrm>
              <a:off x="1643040" y="400068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6"/>
            <p:cNvSpPr/>
            <p:nvPr/>
          </p:nvSpPr>
          <p:spPr>
            <a:xfrm>
              <a:off x="1576440" y="400068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"/>
          <p:cNvGrpSpPr/>
          <p:nvPr/>
        </p:nvGrpSpPr>
        <p:grpSpPr>
          <a:xfrm>
            <a:off x="5214960" y="4000680"/>
            <a:ext cx="2857320" cy="2724120"/>
            <a:chOff x="5214960" y="4000680"/>
            <a:chExt cx="2857320" cy="2724120"/>
          </a:xfrm>
        </p:grpSpPr>
        <p:sp>
          <p:nvSpPr>
            <p:cNvPr id="202" name="Oval 5"/>
            <p:cNvSpPr/>
            <p:nvPr/>
          </p:nvSpPr>
          <p:spPr>
            <a:xfrm>
              <a:off x="5214960" y="4000680"/>
              <a:ext cx="2724120" cy="2724120"/>
            </a:xfrm>
            <a:prstGeom prst="ellipse">
              <a:avLst/>
            </a:prstGeom>
            <a:solidFill>
              <a:srgbClr val="55a839"/>
            </a:solidFill>
            <a:ln w="25560">
              <a:solidFill>
                <a:srgbClr val="387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7"/>
            <p:cNvSpPr/>
            <p:nvPr/>
          </p:nvSpPr>
          <p:spPr>
            <a:xfrm>
              <a:off x="7607160" y="4000680"/>
              <a:ext cx="46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as elementi- matemātiskie objekti, no kā sastāv kop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1643040" y="2571840"/>
            <a:ext cx="2781360" cy="2714400"/>
            <a:chOff x="1643040" y="2571840"/>
            <a:chExt cx="2781360" cy="2714400"/>
          </a:xfrm>
        </p:grpSpPr>
        <p:sp>
          <p:nvSpPr>
            <p:cNvPr id="207" name="Oval 4"/>
            <p:cNvSpPr/>
            <p:nvPr/>
          </p:nvSpPr>
          <p:spPr>
            <a:xfrm>
              <a:off x="1709640" y="257184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5"/>
            <p:cNvSpPr/>
            <p:nvPr/>
          </p:nvSpPr>
          <p:spPr>
            <a:xfrm>
              <a:off x="1643040" y="257184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1"/>
          <p:cNvSpPr/>
          <p:nvPr/>
        </p:nvSpPr>
        <p:spPr>
          <a:xfrm>
            <a:off x="3571920" y="35719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2214720" y="38577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3071880" y="26431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2571840" y="32860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0"/>
          <p:cNvSpPr/>
          <p:nvPr/>
        </p:nvSpPr>
        <p:spPr>
          <a:xfrm>
            <a:off x="5504760" y="35002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={a;b;c;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kša kopa-kopa, kas nesatur nevienu elemen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1643040" y="2571840"/>
            <a:ext cx="2781360" cy="2714400"/>
            <a:chOff x="1643040" y="2571840"/>
            <a:chExt cx="2781360" cy="2714400"/>
          </a:xfrm>
        </p:grpSpPr>
        <p:sp>
          <p:nvSpPr>
            <p:cNvPr id="217" name="Oval 4"/>
            <p:cNvSpPr/>
            <p:nvPr/>
          </p:nvSpPr>
          <p:spPr>
            <a:xfrm>
              <a:off x="1709640" y="257184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5"/>
            <p:cNvSpPr/>
            <p:nvPr/>
          </p:nvSpPr>
          <p:spPr>
            <a:xfrm>
              <a:off x="1643040" y="257184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20"/>
          <p:cNvSpPr/>
          <p:nvPr/>
        </p:nvSpPr>
        <p:spPr>
          <a:xfrm>
            <a:off x="5525280" y="350028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={} jeb A=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onstantia"/>
              </a:rPr>
              <a:t>Galīga kopa-kopa, kas satur galīgu skaitu elementu. Piemēram, kopa A (Latvijas Valsts prezidenti pēc 1991.gada)={Guntis Ulmanis, Vaira Vīķe-Freiberga, Valdis Zatlers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onstantia"/>
              </a:rPr>
              <a:t>Bezgalīga kopa-kopa, kas satur bezgalīgu skaitu elementu. Piemēram, kopa B (pozitīvo naturālo skaitļu kopa)={1,2,3,4,....}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arbības ar kopā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šķēlums-par divu kopu A un B šķēlumu sauc kopu C, tādu kuras elementi pieder abām dotajām kopām A un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1500120" y="3571920"/>
            <a:ext cx="2781360" cy="2714760"/>
            <a:chOff x="1500120" y="3571920"/>
            <a:chExt cx="2781360" cy="2714760"/>
          </a:xfrm>
        </p:grpSpPr>
        <p:sp>
          <p:nvSpPr>
            <p:cNvPr id="225" name="Oval 4"/>
            <p:cNvSpPr/>
            <p:nvPr/>
          </p:nvSpPr>
          <p:spPr>
            <a:xfrm>
              <a:off x="1566720" y="3571920"/>
              <a:ext cx="2714760" cy="271476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"/>
            <p:cNvSpPr/>
            <p:nvPr/>
          </p:nvSpPr>
          <p:spPr>
            <a:xfrm>
              <a:off x="1500120" y="357192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Group 6" descr=""/>
          <p:cNvPicPr/>
          <p:nvPr/>
        </p:nvPicPr>
        <p:blipFill>
          <a:blip r:embed="rId2"/>
          <a:stretch/>
        </p:blipFill>
        <p:spPr>
          <a:xfrm>
            <a:off x="3054240" y="3584520"/>
            <a:ext cx="2932200" cy="28036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0"/>
          <p:cNvSpPr/>
          <p:nvPr/>
        </p:nvSpPr>
        <p:spPr>
          <a:xfrm flipH="1">
            <a:off x="3999960" y="32860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3500280" y="48578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2428920" y="51436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429000" y="42148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4286160" y="3929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4500720" y="52149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2928960" y="36432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9"/>
          <p:cNvSpPr/>
          <p:nvPr/>
        </p:nvSpPr>
        <p:spPr>
          <a:xfrm>
            <a:off x="6072120" y="40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      B=C={b;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6357960" y="4071960"/>
                <a:ext cx="4842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apvienojums-par divu kopu A un B apvienojumu sauc kopu C, tādu kuras elementi pieder kopai A vai kopai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000080" y="3214800"/>
            <a:ext cx="2781360" cy="2714400"/>
            <a:chOff x="1000080" y="3214800"/>
            <a:chExt cx="2781360" cy="2714400"/>
          </a:xfrm>
        </p:grpSpPr>
        <p:sp>
          <p:nvSpPr>
            <p:cNvPr id="240" name="Oval 4"/>
            <p:cNvSpPr/>
            <p:nvPr/>
          </p:nvSpPr>
          <p:spPr>
            <a:xfrm>
              <a:off x="106668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5"/>
            <p:cNvSpPr/>
            <p:nvPr/>
          </p:nvSpPr>
          <p:spPr>
            <a:xfrm>
              <a:off x="100008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6" descr=""/>
          <p:cNvPicPr/>
          <p:nvPr/>
        </p:nvPicPr>
        <p:blipFill>
          <a:blip r:embed="rId2"/>
          <a:stretch/>
        </p:blipFill>
        <p:spPr>
          <a:xfrm>
            <a:off x="2481120" y="3157560"/>
            <a:ext cx="2938680" cy="27986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 flipH="1">
            <a:off x="2928240" y="25002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4071960" y="49291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2928960" y="4643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3786120" y="3429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4286160" y="3929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1500120" y="44290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2143080" y="35719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    B=C={a;b;c;d;e;f;g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3"/>
              <p:cNvSpPr txBox="1"/>
              <p:nvPr/>
            </p:nvSpPr>
            <p:spPr>
              <a:xfrm>
                <a:off x="5643720" y="4071960"/>
                <a:ext cx="4093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starpība-par divu kopu A un B starpību sauc kopu C, tādu kuras elementi pieder kopai A ,bet nepieder kopai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1000080" y="3214800"/>
            <a:ext cx="2781360" cy="2714400"/>
            <a:chOff x="1000080" y="3214800"/>
            <a:chExt cx="2781360" cy="2714400"/>
          </a:xfrm>
        </p:grpSpPr>
        <p:sp>
          <p:nvSpPr>
            <p:cNvPr id="255" name="Oval 4"/>
            <p:cNvSpPr/>
            <p:nvPr/>
          </p:nvSpPr>
          <p:spPr>
            <a:xfrm>
              <a:off x="106668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5"/>
            <p:cNvSpPr/>
            <p:nvPr/>
          </p:nvSpPr>
          <p:spPr>
            <a:xfrm>
              <a:off x="100008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Group 6" descr=""/>
          <p:cNvPicPr/>
          <p:nvPr/>
        </p:nvPicPr>
        <p:blipFill>
          <a:blip r:embed="rId2"/>
          <a:stretch/>
        </p:blipFill>
        <p:spPr>
          <a:xfrm>
            <a:off x="2481120" y="3157560"/>
            <a:ext cx="2938680" cy="27986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0"/>
          <p:cNvSpPr/>
          <p:nvPr/>
        </p:nvSpPr>
        <p:spPr>
          <a:xfrm flipH="1">
            <a:off x="2928240" y="25718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2857680" y="46432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4286160" y="42861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1643040" y="4500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500120" y="36432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3143160" y="42861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143080" y="35719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\B=C={b;f;g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as papildinājums-kopas A papildinājumu sauc visus tos elementus, kas nepieder kopai 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2000160" y="3214800"/>
            <a:ext cx="2781360" cy="2714400"/>
            <a:chOff x="2000160" y="3214800"/>
            <a:chExt cx="2781360" cy="2714400"/>
          </a:xfrm>
        </p:grpSpPr>
        <p:sp>
          <p:nvSpPr>
            <p:cNvPr id="269" name="Oval 4"/>
            <p:cNvSpPr/>
            <p:nvPr/>
          </p:nvSpPr>
          <p:spPr>
            <a:xfrm>
              <a:off x="206676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5"/>
            <p:cNvSpPr/>
            <p:nvPr/>
          </p:nvSpPr>
          <p:spPr>
            <a:xfrm>
              <a:off x="200016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1"/>
          <p:cNvSpPr/>
          <p:nvPr/>
        </p:nvSpPr>
        <p:spPr>
          <a:xfrm>
            <a:off x="3071880" y="50720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3286080" y="3500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1357200" y="44290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4000680" y="43578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2286000" y="3500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={a;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0"/>
          <p:cNvSpPr/>
          <p:nvPr/>
        </p:nvSpPr>
        <p:spPr>
          <a:xfrm>
            <a:off x="5500800" y="4071960"/>
            <a:ext cx="2142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4429080" y="2786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2571840" y="43578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19:33:16Z</dcterms:created>
  <dc:creator>***</dc:creator>
  <dc:description/>
  <dc:language>en-US</dc:language>
  <cp:lastModifiedBy>Fizikas un Matemātikas fakultāte</cp:lastModifiedBy>
  <dcterms:modified xsi:type="dcterms:W3CDTF">2010-08-06T16:10:26Z</dcterms:modified>
  <cp:revision>18</cp:revision>
  <dc:subject/>
  <dc:title>Slide 1</dc:title>
</cp:coreProperties>
</file>