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6A5-9B4B-4770-B888-4CBA9CEE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E51-4E45-4BAC-8C8C-B9C87561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A55-7A5A-4916-98E2-1934DC4F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E98-4B03-474B-8A8E-A38EC45A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C2D8-2886-48C7-BBA0-71F369CB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D374-D56D-477E-8CB7-D514BD31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3701-C328-477C-B506-54F9BFFF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66FD-EF8B-4914-A544-ADC42956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D935-7F7C-48B6-A863-851FBBAE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EBE8-7AB6-4E64-8239-BC09E0A9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B01A-DF60-4B1F-9765-3DE74E61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0E6-49C6-4110-BCD8-4D28881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F760-F292-4ACC-9ED1-58BD4D2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8844-1F5E-4954-B7B4-B5EC851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1C65-3D4B-422E-A5F7-C4E9FCE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94B8-91B0-449B-B3A5-3DCF3F66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14D7-40A9-4AC5-81DB-D1492916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1BD-0DCC-423B-84AE-ED57124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2D7-D335-45D1-9D86-D270FC10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149-EF26-495C-9BE3-B4561C33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A04-2E4B-41A3-AA28-75423009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E43-4F79-4E4F-8E5D-C533D1A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5C6-5751-4153-A84D-BF23B72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4F0-125E-46F5-B323-D6B0BAAA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3DF0-51AA-464E-AC70-606A93F864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87C9-4319-4D70-8521-153C2C7749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saki slēdziena veid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9680"/>
          <a:ext cx="8229600" cy="4530960"/>
        </p:xfrm>
        <a:graphic>
          <a:graphicData uri="http://schemas.openxmlformats.org/drawingml/2006/table">
            <a:tbl>
              <a:tblPr/>
              <a:tblGrid>
                <a:gridCol w="4656240"/>
                <a:gridCol w="1244520"/>
                <a:gridCol w="1146240"/>
                <a:gridCol w="1182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īris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Kad saulei rietot gaiļi dzied, tad lai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īsi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uvojoties semestra beigām, skolēni sāk labot atzī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Vasarā es guļu līdz 11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 maijā daudz odu – b</a:t>
                      </a:r>
                      <a:r>
                        <a:rPr b="1" lang="lv-LV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agāts rudens (Latviešu tautas ticēju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Taisnleņķa trijstūra šauro leņķu summa ir 9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Jo lielāks ir automašīnas ātrums, jo garāks ir tās bremzēšanas ceļš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isiem trijstūriem iekšējo leņķu summa ir    18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saki, izteikums ir patiess vai apla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657600"/>
                <a:ext cx="53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838080" y="2286000"/>
          <a:ext cx="7086600" cy="4383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teik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eme ir Saules sistēmas planē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kaitlis 17 ir pirmskait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alatinoLinotype-Roman"/>
                        </a:rPr>
                        <a:t>3. Funkcijas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ks vienmē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das I un III  kvadrant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Vienādmalu trijstūrim visi iekšējie leņķi ir 6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mba diagonāles ir perpendikulā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Skaitlis 63 nedalās a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aralēlas taisnes krusto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38:01Z</dcterms:created>
  <dc:creator>Girsts</dc:creator>
  <dc:description/>
  <dc:language>en-US</dc:language>
  <cp:lastModifiedBy>Fizikas un Matemātikas fakultāte</cp:lastModifiedBy>
  <dcterms:modified xsi:type="dcterms:W3CDTF">2010-08-08T08:18:41Z</dcterms:modified>
  <cp:revision>65</cp:revision>
  <dc:subject/>
  <dc:title>Semestra darbs</dc:title>
</cp:coreProperties>
</file>