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FE84-121A-4AC6-A97B-3262AF13B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6884-9968-4226-B892-FE3C0269D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2EFF-666B-4DEE-B4A0-7596F027C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DB22-1C22-41B3-9EA4-864D687B1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E75BF-93A2-4CB3-8510-85C09F706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F26F7-91D4-4BD3-8CAD-C820DFA73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F7387-9BF5-4A0B-B7FF-052777CEF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26951-6BD0-4191-8F16-82E010FAF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3E7C0-3392-49B4-B8F5-655D65622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01941-3E9E-4BAF-B32F-4EEAF3E7B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09A74-8133-4EAD-829A-EFAE4DA50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3B67-C6B8-4261-950F-48B90B23A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A9EE6-14DC-4FF2-8846-5EE06F653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85128-A525-4DAF-AE94-4707FAD85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B7D6F-B29B-4E33-B431-3FB1CB677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1C57D-4227-4B39-89CC-D9C19CEDD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59C22-EA48-486D-9A60-3121EE8A7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F175-5C42-43CA-94EB-BEC416EAF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EC31-133C-4BF7-A49F-49AF39502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F8BB-1415-43D4-BD6E-EC5DDBDF5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D956-5059-4AAD-A6E3-BBF178F34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BF53-7532-4224-BC32-2DF3DD19C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7EF9-0645-49BC-930A-34CC67AC4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3F12-2749-475A-B985-15642194D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FBEC1-CDB5-48B7-B223-E1D10D9D38A5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7192F-21F8-4909-AA46-A843A15BD5F8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5800" spc="-1" strike="noStrike">
                <a:solidFill>
                  <a:srgbClr val="999900"/>
                </a:solidFill>
                <a:latin typeface="Garamond"/>
              </a:rPr>
              <a:t>Kopas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99900"/>
                </a:solidFill>
                <a:latin typeface="Garamond"/>
              </a:rPr>
              <a:t>Kopu teorijas pamatelementi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Verdana"/>
              </a:rPr>
              <a:t>Kas ir kopa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/>
          <p:nvPr/>
        </p:nvSpPr>
        <p:spPr>
          <a:xfrm>
            <a:off x="539640" y="1628640"/>
            <a:ext cx="3456000" cy="4105440"/>
          </a:xfrm>
          <a:prstGeom prst="ellipse">
            <a:avLst/>
          </a:prstGeom>
          <a:solidFill>
            <a:srgbClr val="17eb2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7600" y="2060640"/>
            <a:ext cx="39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Kopa ir kaut kādu priekšmetu kop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195640" y="486900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16000" y="38606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16000" y="249228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0920" y="191628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71640" y="22766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9280" y="299736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50920" y="371628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28526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987640" y="393372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78160" y="1700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45080" y="2421000"/>
            <a:ext cx="388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Kas ir kopas elem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43280" y="2924280"/>
            <a:ext cx="396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Par kopas elementu var būt jebkā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priekšmets, kā reāls ,kā arī kaut k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nereā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Dotajā gadījumā tie ir bur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44000" y="4149720"/>
            <a:ext cx="311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Kas ir tukša kop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46520" y="4653000"/>
            <a:ext cx="311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Tukša kopa ir kopa kurā na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neviena eleme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9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7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1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5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3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99900"/>
                </a:solidFill>
                <a:latin typeface="Garamond"/>
              </a:rPr>
              <a:t>Apakškop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0" name=""/>
          <p:cNvSpPr/>
          <p:nvPr/>
        </p:nvSpPr>
        <p:spPr>
          <a:xfrm>
            <a:off x="826920" y="1773360"/>
            <a:ext cx="3673800" cy="3311280"/>
          </a:xfrm>
          <a:prstGeom prst="ellipse">
            <a:avLst/>
          </a:prstGeom>
          <a:solidFill>
            <a:srgbClr val="17eb2b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92360" y="2492280"/>
            <a:ext cx="1727280" cy="1657440"/>
          </a:xfrm>
          <a:prstGeom prst="ellipse">
            <a:avLst/>
          </a:prstGeom>
          <a:solidFill>
            <a:srgbClr val="17eb2b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981800" y="2708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18160" y="2349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049720" y="1413000"/>
            <a:ext cx="409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Arial"/>
              </a:rPr>
              <a:t>Kopa A ir kopas B apakškopa ja vi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Arial"/>
              </a:rPr>
              <a:t>elementi (punkti), kas pieder kopa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Arial"/>
              </a:rPr>
              <a:t>A, pieder arī kopai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35280" y="278136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16000" y="38606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332000" y="234936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916360" y="213372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43280" y="306864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979640" y="335772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484360" y="263700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987640" y="393372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5076720" y="2421000"/>
                <a:ext cx="244800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,d,f</m:t>
                            </m:r>
                          </m:e>
                        </m:d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,b,c,d,f,g,h</m:t>
                            </m:r>
                          </m:e>
                        </m:d>
                      </m:e>
                      <m:e>
                        <m:r>
                          <m:t xml:space="preserve">A</m:t>
                        </m:r>
                        <m:r>
                          <m:t xml:space="preserve">⊂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5292720" y="1628640"/>
            <a:ext cx="36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Kopai AUB pieder visi tie elementi (punkti), kas pieder kopai A, vai pieder kopai 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291280" y="3571920"/>
            <a:ext cx="345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Piemē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A={1,2,3,4,5}; B={4,5,6,7,8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AUB={1,2,3,4,5,6,7,8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5318280" y="2781360"/>
                <a:ext cx="35938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A</m:t>
                    </m:r>
                    <m:r>
                      <m:t xml:space="preserve">∪</m:t>
                    </m:r>
                    <m:r>
                      <m:t xml:space="preserve">B</m:t>
                    </m:r>
                    <m:r>
                      <m:t xml:space="preserve">⇔</m:t>
                    </m:r>
                    <m:r>
                      <m:t xml:space="preserve">x</m:t>
                    </m:r>
                    <m:r>
                      <m:t xml:space="preserve">∈</m:t>
                    </m:r>
                    <m:m>
                      <m:mr>
                        <m:e>
                          <m:r>
                            <m:t xml:space="preserve">A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vai</m:t>
                          </m:r>
                        </m:e>
                        <m:e>
                          <m:r>
                            <m:t xml:space="preserve">x</m:t>
                          </m:r>
                          <m:r>
                            <m:t xml:space="preserve">∈</m:t>
                          </m:r>
                        </m:e>
                      </m:mr>
                    </m:m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11280" y="1773360"/>
            <a:ext cx="1439640" cy="1439640"/>
          </a:xfrm>
          <a:prstGeom prst="ellipse">
            <a:avLst/>
          </a:prstGeom>
          <a:solidFill>
            <a:srgbClr val="f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87640" y="1773360"/>
            <a:ext cx="1440000" cy="1439640"/>
          </a:xfrm>
          <a:prstGeom prst="ellipse">
            <a:avLst/>
          </a:prstGeom>
          <a:solidFill>
            <a:srgbClr val="17eb2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9640" y="3429000"/>
            <a:ext cx="936720" cy="368280"/>
          </a:xfrm>
          <a:prstGeom prst="rect">
            <a:avLst/>
          </a:prstGeom>
          <a:solidFill>
            <a:srgbClr val="f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Kopa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60720" y="3429000"/>
            <a:ext cx="981000" cy="368280"/>
          </a:xfrm>
          <a:prstGeom prst="rect">
            <a:avLst/>
          </a:prstGeom>
          <a:solidFill>
            <a:srgbClr val="17eb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Arial"/>
              </a:rPr>
              <a:t>Kopa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74160" y="3429000"/>
            <a:ext cx="1245960" cy="368280"/>
          </a:xfrm>
          <a:prstGeom prst="rect">
            <a:avLst/>
          </a:prstGeom>
          <a:solidFill>
            <a:srgbClr val="f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Kopa A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76360" y="234936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1280" y="234936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6360" y="18446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16000" y="256536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92360" y="18446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55640" y="177336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348000" y="256536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24360" y="220500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916360" y="227664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16360" y="184464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99900"/>
                </a:solidFill>
                <a:latin typeface="Garamond"/>
              </a:rPr>
              <a:t>Kopu apvienojum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4.21965E-006 L -0.14757 4.21965E-006 E">
                                      <p:cBhvr>
                                        <p:cTn id="153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7.40741E-007 L -0.15034 -0.00463 E">
                                      <p:cBhvr>
                                        <p:cTn id="155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3.33333E-006 L -0.15017 -0.00486 E">
                                      <p:cBhvr>
                                        <p:cTn id="157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81481E-006 L -0.17448 0.01135 E">
                                      <p:cBhvr>
                                        <p:cTn id="159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07407E-006 L -0.15816 0.00579 E">
                                      <p:cBhvr>
                                        <p:cTn id="161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4.27746E-006 L -0.15816 0.00578 E">
                                      <p:cBhvr>
                                        <p:cTn id="163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" dur="3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" dur="3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1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5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3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80000"/>
                                      </p:to>
                                    </p:animClr>
                                    <p:set>
                                      <p:cBhvr>
                                        <p:cTn id="184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80000"/>
                                      </p:to>
                                    </p:animClr>
                                    <p:set>
                                      <p:cBhvr>
                                        <p:cTn id="18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99900"/>
                </a:solidFill>
                <a:latin typeface="Garamond"/>
              </a:rPr>
              <a:t>Kopu šķēlum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4" name=""/>
          <p:cNvSpPr/>
          <p:nvPr/>
        </p:nvSpPr>
        <p:spPr>
          <a:xfrm>
            <a:off x="5292720" y="1628640"/>
            <a:ext cx="36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Kopai A</a:t>
            </a:r>
            <a:r>
              <a:rPr b="1" lang="lv-LV" sz="2000" spc="-1" strike="noStrike">
                <a:solidFill>
                  <a:srgbClr val="000000"/>
                </a:solidFill>
                <a:latin typeface="Arial"/>
                <a:ea typeface="Arial"/>
              </a:rPr>
              <a:t>∩</a:t>
            </a: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B pieder visi tie elementi (punkti), kas vienlaicīgi pieder kopai A un kopai 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291280" y="3571920"/>
            <a:ext cx="345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Piemē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A={1,2,3,4,5}; B={4,5,6,7,8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AUB={4,5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5281560" y="2997360"/>
                <a:ext cx="35244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A</m:t>
                    </m:r>
                    <m:r>
                      <m:t xml:space="preserve">∩</m:t>
                    </m:r>
                    <m:r>
                      <m:t xml:space="preserve">B</m:t>
                    </m:r>
                    <m:r>
                      <m:t xml:space="preserve">⇔</m:t>
                    </m:r>
                    <m:r>
                      <m:t xml:space="preserve">x</m:t>
                    </m:r>
                    <m:r>
                      <m:t xml:space="preserve">∈</m:t>
                    </m:r>
                    <m:m>
                      <m:mr>
                        <m:e>
                          <m:r>
                            <m:t xml:space="preserve">A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un</m:t>
                          </m:r>
                        </m:e>
                        <m:e>
                          <m:r>
                            <m:t xml:space="preserve">x</m:t>
                          </m:r>
                          <m:r>
                            <m:t xml:space="preserve">∈</m:t>
                          </m:r>
                        </m:e>
                      </m:mr>
                    </m:m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611280" y="1773360"/>
            <a:ext cx="1439640" cy="1439640"/>
          </a:xfrm>
          <a:prstGeom prst="ellipse">
            <a:avLst/>
          </a:prstGeom>
          <a:solidFill>
            <a:srgbClr val="f80000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987640" y="1773360"/>
            <a:ext cx="1440000" cy="1439640"/>
          </a:xfrm>
          <a:prstGeom prst="ellipse">
            <a:avLst/>
          </a:prstGeom>
          <a:solidFill>
            <a:srgbClr val="17eb2b">
              <a:alpha val="5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9640" y="3429000"/>
            <a:ext cx="936720" cy="368280"/>
          </a:xfrm>
          <a:prstGeom prst="rect">
            <a:avLst/>
          </a:prstGeom>
          <a:solidFill>
            <a:srgbClr val="f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Kopa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60720" y="3429000"/>
            <a:ext cx="981000" cy="368280"/>
          </a:xfrm>
          <a:prstGeom prst="rect">
            <a:avLst/>
          </a:prstGeom>
          <a:solidFill>
            <a:srgbClr val="9af6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Arial"/>
              </a:rPr>
              <a:t>Kopa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74160" y="3429000"/>
            <a:ext cx="1245960" cy="368280"/>
          </a:xfrm>
          <a:prstGeom prst="rect">
            <a:avLst/>
          </a:prstGeom>
          <a:solidFill>
            <a:srgbClr val="f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Kopa A</a:t>
            </a:r>
            <a:r>
              <a:rPr b="0" lang="lv-LV" sz="1800" spc="-1" strike="noStrike">
                <a:solidFill>
                  <a:srgbClr val="000000"/>
                </a:solidFill>
                <a:latin typeface="Arial"/>
                <a:ea typeface="Arial"/>
              </a:rPr>
              <a:t>∩</a:t>
            </a: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76360" y="234936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11280" y="234936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476360" y="18446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16000" y="256536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92360" y="18446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5640" y="177336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48000" y="256536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24360" y="220500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16360" y="227664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916360" y="184464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4.21965E-006 L -0.14757 4.21965E-006 E">
                                      <p:cBhvr>
                                        <p:cTn id="193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7.40741E-007 L -0.15034 -0.00463 E">
                                      <p:cBhvr>
                                        <p:cTn id="195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3.33333E-006 L -0.15017 -0.00486 E">
                                      <p:cBhvr>
                                        <p:cTn id="197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81481E-006 L -0.17448 0.01135 E">
                                      <p:cBhvr>
                                        <p:cTn id="199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07407E-006 L -0.15816 0.00579 E">
                                      <p:cBhvr>
                                        <p:cTn id="201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4.27746E-006 L -0.15816 0.00578 E">
                                      <p:cBhvr>
                                        <p:cTn id="203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5" dur="3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" dur="3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1" dur="1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1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5" dur="1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3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80000"/>
                                      </p:to>
                                    </p:animClr>
                                    <p:set>
                                      <p:cBhvr>
                                        <p:cTn id="224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8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2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6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0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4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8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99900"/>
                </a:solidFill>
                <a:latin typeface="Garamond"/>
              </a:rPr>
              <a:t>Kopu starpīb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3" name=""/>
          <p:cNvSpPr/>
          <p:nvPr/>
        </p:nvSpPr>
        <p:spPr>
          <a:xfrm>
            <a:off x="5148360" y="1773360"/>
            <a:ext cx="3671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Kopai A\B pieder visi tie elementi (punkti), kas vienlaicīgi pieder kopai A, bet nepieder kopai 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219640" y="3645000"/>
            <a:ext cx="345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Piemē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A={1,2,3,4,5}; B={4,5,6,7,8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A\B={1,2,3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148360" y="2708280"/>
            <a:ext cx="352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48360" y="2637000"/>
            <a:ext cx="3598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5219640" y="3068640"/>
                <a:ext cx="34560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A</m:t>
                    </m:r>
                    <m:r>
                      <m:t xml:space="preserve">⇔</m:t>
                    </m:r>
                    <m:r>
                      <m:t xml:space="preserve">x</m:t>
                    </m:r>
                    <m:r>
                      <m:t xml:space="preserve">∈</m:t>
                    </m:r>
                    <m:m>
                      <m:mr>
                        <m:e>
                          <m:r>
                            <m:t xml:space="preserve">A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un</m:t>
                          </m:r>
                        </m:e>
                        <m:e>
                          <m:r>
                            <m:t xml:space="preserve">x</m:t>
                          </m:r>
                          <m:r>
                            <m:t xml:space="preserve">∉</m:t>
                          </m:r>
                        </m:e>
                      </m:mr>
                    </m:m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611280" y="1773360"/>
            <a:ext cx="1439640" cy="1439640"/>
          </a:xfrm>
          <a:prstGeom prst="ellipse">
            <a:avLst/>
          </a:prstGeom>
          <a:solidFill>
            <a:srgbClr val="f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987640" y="1773360"/>
            <a:ext cx="1440000" cy="1439640"/>
          </a:xfrm>
          <a:prstGeom prst="ellipse">
            <a:avLst/>
          </a:prstGeom>
          <a:solidFill>
            <a:srgbClr val="17eb2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39640" y="3429000"/>
            <a:ext cx="936720" cy="368280"/>
          </a:xfrm>
          <a:prstGeom prst="rect">
            <a:avLst/>
          </a:prstGeom>
          <a:solidFill>
            <a:srgbClr val="f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Kopa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60720" y="3429000"/>
            <a:ext cx="981000" cy="368280"/>
          </a:xfrm>
          <a:prstGeom prst="rect">
            <a:avLst/>
          </a:prstGeom>
          <a:solidFill>
            <a:srgbClr val="17eb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Arial"/>
              </a:rPr>
              <a:t>Kopa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73440" y="3429000"/>
            <a:ext cx="1145520" cy="368280"/>
          </a:xfrm>
          <a:prstGeom prst="rect">
            <a:avLst/>
          </a:prstGeom>
          <a:solidFill>
            <a:srgbClr val="f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Kopa A\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476360" y="234936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11280" y="234936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76360" y="18446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116000" y="256536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492360" y="18446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00000" y="177336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348000" y="256536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24360" y="220500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916360" y="227664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916360" y="184464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4.21965E-006 L -0.14757 4.21965E-006 E">
                                      <p:cBhvr>
                                        <p:cTn id="256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7.40741E-007 L -0.15034 -0.00463 E">
                                      <p:cBhvr>
                                        <p:cTn id="258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3.33333E-006 L -0.15017 -0.00486 E">
                                      <p:cBhvr>
                                        <p:cTn id="260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81481E-006 L -0.17448 0.01135 E">
                                      <p:cBhvr>
                                        <p:cTn id="262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07407E-006 L -0.15816 0.00579 E">
                                      <p:cBhvr>
                                        <p:cTn id="264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4.27746E-006 L -0.15816 0.00578 E">
                                      <p:cBhvr>
                                        <p:cTn id="266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8" dur="3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1" dur="3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4" dur="1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1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8" dur="1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1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8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2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6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0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4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99900"/>
                </a:solidFill>
                <a:latin typeface="Garamond"/>
              </a:rPr>
              <a:t>Kopu papildinājum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4" name=""/>
          <p:cNvSpPr/>
          <p:nvPr/>
        </p:nvSpPr>
        <p:spPr>
          <a:xfrm>
            <a:off x="5292720" y="1628640"/>
            <a:ext cx="36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Kopai Ā pieder visi tie elementi (punkti), kas nepieder kopai 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5724360" y="2708280"/>
                <a:ext cx="16812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t xml:space="preserve">⇔</m:t>
                    </m:r>
                    <m:r>
                      <m:t xml:space="preserve">x</m:t>
                    </m:r>
                    <m:r>
                      <m:t xml:space="preserve">∉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6" name=""/>
          <p:cNvSpPr/>
          <p:nvPr/>
        </p:nvSpPr>
        <p:spPr>
          <a:xfrm>
            <a:off x="826920" y="1628640"/>
            <a:ext cx="3673800" cy="3095640"/>
          </a:xfrm>
          <a:prstGeom prst="rect">
            <a:avLst/>
          </a:prstGeom>
          <a:solidFill>
            <a:srgbClr val="17eb2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619280" y="1989000"/>
            <a:ext cx="1944720" cy="2087640"/>
          </a:xfrm>
          <a:prstGeom prst="ellipse">
            <a:avLst/>
          </a:prstGeom>
          <a:solidFill>
            <a:srgbClr val="f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55640" y="4941720"/>
            <a:ext cx="936720" cy="368280"/>
          </a:xfrm>
          <a:prstGeom prst="rect">
            <a:avLst/>
          </a:prstGeom>
          <a:solidFill>
            <a:srgbClr val="f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Kopa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276360" y="4941720"/>
            <a:ext cx="981000" cy="368280"/>
          </a:xfrm>
          <a:prstGeom prst="rect">
            <a:avLst/>
          </a:prstGeom>
          <a:solidFill>
            <a:srgbClr val="17eb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Arial"/>
              </a:rPr>
              <a:t>Kopa 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492360" y="18446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116000" y="38606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16000" y="20606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56000" y="220500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56000" y="314172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979640" y="28526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987640" y="393372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837440" y="2205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5651640" y="3860640"/>
                <a:ext cx="1728720" cy="15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,</m:t>
                        </m:r>
                        <m:r>
                          <m:t xml:space="preserve">e</m:t>
                        </m:r>
                        <m:r>
                          <m:t xml:space="preserve">,</m:t>
                        </m:r>
                        <m:r>
                          <m:t xml:space="preserve">f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h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∈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3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6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9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2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8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1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14:32:08Z</dcterms:created>
  <dc:creator>HOMEEEE</dc:creator>
  <dc:description/>
  <dc:language>en-US</dc:language>
  <cp:lastModifiedBy>Fizikas un Matemātikas fakultāte</cp:lastModifiedBy>
  <dcterms:modified xsi:type="dcterms:W3CDTF">2010-08-08T08:10:50Z</dcterms:modified>
  <cp:revision>4</cp:revision>
  <dc:subject/>
  <dc:title>Matemātiskie spriedumi un sadzīve</dc:title>
</cp:coreProperties>
</file>