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8DE-E561-4157-83BD-ED295A10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29E-D247-41F4-B93C-69270A57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0F2-2157-4B74-880C-738A0820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5C5-F5F4-4F9D-B24A-3EE559FA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7891-9ED5-4A20-B642-B4A23691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37D5-0AF6-4E01-9045-13B64C37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B2E3-AC8C-4E96-94C2-ECD24EB2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BB34-C923-485D-A723-9EC54126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7496-7099-4593-B775-769500AE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93DE-AB40-415B-B411-33DCDB92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4B6B-3BA0-4D07-82AB-942C7010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51D-7835-453C-AC94-783B6632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E76C-FC09-41D5-97EC-FA308ADF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A7EC-1C96-4A07-8EA4-833941D2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F552-052C-48EA-8F17-816367A5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EA77-B0E4-4662-9FB1-F1C706F7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691F-9F17-47B8-87A2-34BEF4C9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AACEB-0EE1-4646-AD6F-05F14B34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BD630-46FA-47D1-9183-0A3B27C4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5BD06-2E50-433F-9C44-AF9E47B9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AB787-217F-46A3-AD1A-5493B483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ABC4C-AE31-4BF4-99DC-D2144616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A6D-E361-4455-870E-D8566CCA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409B1-BAF9-4430-AD73-76D4695E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F57D2-35FC-474B-9FCB-04FB932B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EE3FF-C055-416B-9A48-AB521D3E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F7651-1AB4-4C72-AA82-DA487D1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F79FE-0D20-4B16-B12A-951C0308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3E87D-5A20-43E2-B04C-4D91F60C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E21CF-28A2-4493-ACF1-E11B0C27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13DDF-679E-4FB6-82DA-55813B02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050AA-1137-42C2-A322-1BC94D75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EAAE0-C02A-48BD-A7DC-DE4BC4D0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D3A-88B3-4769-97FB-E1EA0528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15DDC-7157-470F-B9F7-3B82FEBA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FEF78-516C-4121-8AD3-F8367A74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7A8A1-DC84-4A06-9028-EE60D586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5E2DD-5E36-46AE-94E6-358C5CF4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A4FB4-CB26-4392-8C5D-4EBE63B4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40B57-1E2C-4581-A8B0-60F56A8A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3E719-3999-4B14-B35A-004A4B31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3AAEB-1E7E-43DB-BCD1-824E3269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FD415-67E5-4A66-9326-83AFC1F8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5F3C73-A62C-4FF2-8E22-527D84FE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850-7A61-49BA-932A-24193580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1CBDD-76F8-45C0-A2F9-E0713DCD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64928-0CA3-4DF4-976E-7B569339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486DC-CC31-4447-852A-37BE28A8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B039E2-A128-4511-9878-0842E907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24E77-FBC1-4C37-8A35-A0E54441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DE919-32D9-436C-B620-19EDA05E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C22E7-BA6D-4226-A2BB-7BB5D10C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01739-DF04-4930-9C05-EC2032CE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332524-226E-409F-BBA0-28D03578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A2A7F-7ACB-468E-956B-DBBAD160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1DD-FAB6-4D21-9EE9-0FC3928A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284DA-18BC-41FB-95CA-E507E1EA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C56CF9-C723-45D7-A69E-B12E5514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0C156-4D9D-4D4F-B080-8EA27997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3160B0-C47D-4664-B2D4-E40027FF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44199-B4ED-44D2-99B5-99EE1F01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6E779-624F-4D20-B42C-0E191D06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373595-3028-49A4-B6CB-8C64C3E0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F36F33-82EB-4AD6-8894-4F857223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5F615-190E-4B4E-A52B-3803D603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374CB-EB10-4026-BE00-B1619DA4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1A5-55B8-49F0-A716-38F18A97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87666-CFFD-4B60-AC08-EF9652CD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463A5-5162-4D46-B696-327F2E1E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A5E5C7-9BBE-4347-9BCB-8D932B80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36139C-F0F6-48DF-8408-89EA6F76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08F11-749D-4B0D-B46F-7E64BB10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AAA5D-729C-477A-A3AC-68C546C6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B63440-0C48-4D1F-85BC-7E31B4DC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520253-1064-47C1-8EA2-76152243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72003F-2CE8-4E80-B11D-3B6D785D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865EBC-06A1-4CCC-87BC-CFA41DAA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65F-825B-4ACD-BEAC-91490A14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6AB1A-FF8D-4B5F-AC41-F76FBE1A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14D420-4AFF-406D-9352-1DD23A25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DE2AA8-C6D2-4FBA-82E9-0FB52688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D03417-9C9C-4A36-917F-6F813F54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6CCAF5-6289-4284-AA20-49AFC35A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277-3F32-4DA9-BD95-8DE60095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0C44-B625-4E2A-A7DC-B94368436C8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Taisns savienotājs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Taisnstūris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āls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āls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āls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āls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āls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D3C0-E825-48D3-86FB-57E8BEDF42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7888-63FA-46C9-BB3D-A4E77E69EE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Taisnstūris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āls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āls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āls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āls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āls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Taisns savienotājs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B2FE-E6D9-43C3-99A8-36817DF98A4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01E2-C429-468B-826A-48D7CD3A50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Taisns savienotājs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Taisns savienotājs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Taisns savienotājs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Taisnstūris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Taisns savienotājs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āls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51E8-AD9F-4930-AB5E-53600289FC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āls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Taisns savienotājs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Taisnstūris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Taisns savienotājs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Taisns savienotājs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Taisns savienotājs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DB6C-6E42-456D-A123-33782E409A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40000" y="1988640"/>
            <a:ext cx="559584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Par kopām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OP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opa matemātikā ir dažādu atsevišķu objektu apvienojums vienā veselum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Objektus, no kuriem sastāv kopa, sauc par kopas elementi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Kopa A ar tas elementiem a,b,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To pieraksta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A={a,b,c} 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, kopa B ir ciparu kop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B={0,1,2,3,4,5,6,7,8,9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A sakrīt ar kopu B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B ir kopas A apakškop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Ovāls 4"/>
          <p:cNvSpPr/>
          <p:nvPr/>
        </p:nvSpPr>
        <p:spPr>
          <a:xfrm>
            <a:off x="5364000" y="2349360"/>
            <a:ext cx="1800360" cy="18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=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Ovāls 7"/>
          <p:cNvSpPr/>
          <p:nvPr/>
        </p:nvSpPr>
        <p:spPr>
          <a:xfrm>
            <a:off x="1187280" y="4869000"/>
            <a:ext cx="1800360" cy="180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Ovāls 8"/>
          <p:cNvSpPr/>
          <p:nvPr/>
        </p:nvSpPr>
        <p:spPr>
          <a:xfrm>
            <a:off x="2124000" y="5373720"/>
            <a:ext cx="792360" cy="79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4500720" y="5324400"/>
                <a:ext cx="2232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771640" y="2982960"/>
                <a:ext cx="18320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314520" cy="2552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3276360" cy="20858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280" y="169992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apvienojums-visi elemeti tieši vienu reiz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šķēlums-tikkai kopīgie eleme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076720" y="5084640"/>
                <a:ext cx="223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050920" y="2502000"/>
                <a:ext cx="19465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4356000" y="4221000"/>
            <a:ext cx="3257640" cy="21434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90960" cy="23810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pas atņemšan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Teksta vietturis 12"/>
              <p:cNvSpPr txBox="1"/>
              <p:nvPr/>
            </p:nvSpPr>
            <p:spPr>
              <a:xfrm>
                <a:off x="1835280" y="5013360"/>
                <a:ext cx="16729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003640" y="2492280"/>
                <a:ext cx="17290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0:12:24Z</dcterms:created>
  <dc:creator>Dzeralds</dc:creator>
  <dc:description/>
  <dc:language>en-US</dc:language>
  <cp:lastModifiedBy>Fizikas un Matemātikas fakultāte</cp:lastModifiedBy>
  <dcterms:modified xsi:type="dcterms:W3CDTF">2010-08-08T07:37:13Z</dcterms:modified>
  <cp:revision>46</cp:revision>
  <dc:subject/>
  <dc:title>Atkārtojuma uzdevumi</dc:title>
</cp:coreProperties>
</file>