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6D7B-76A3-4799-B183-E6FCAAA7A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8D08-BA57-4068-99FD-CE7F0016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B30B-7474-447F-9C51-F7A9F382A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B0A7-1CD8-4161-A606-87E1EC222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62A8-16F2-4BAB-A534-CEBDC9140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07D1-74DA-44B0-B3E8-52A1E268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8FA8-97AB-42F4-A130-5235DC9C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9A40-A9EC-4C1F-868A-BC95D326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F433-4CBD-4933-849E-18673590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144D-F578-43E7-BF6F-D3B7BFA4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6AA8-8CEA-4727-A8D7-33FEEE4F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248C-9383-4838-908E-AAC76A60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8E55-C68E-4F8D-9A25-DAA8371F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7C2D-6089-41F4-A6E5-9AB6AF6E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6923-597D-4106-8E15-F6E7152F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D094-0FC4-4D2A-97D4-634E20528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5973-63BD-43E7-9437-6610EAA39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3837-6050-476B-8CE8-4EFCF2DC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D980-134A-4EE8-80C6-9A5C40C3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FE0D-3F71-49C4-B7F9-5F2251F6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B96A-A596-4582-B22F-4E2A5ECA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12AC-0664-48EB-9F49-01089B2D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26F4-03E2-4E92-820C-E878033B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4DEC-DEEF-4726-988B-85B65DFC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7DE5-EB6C-4A3F-89A3-3E711EB1962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B1AF-F336-4567-9F5F-A3CAFF8458A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33336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ffff"/>
                </a:solidFill>
                <a:latin typeface="Arial"/>
              </a:rPr>
              <a:t>Matemātiskā loģika un sadzī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403280" y="2637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pvienoju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2376360" cy="13766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5076720" y="907920"/>
            <a:ext cx="2303640" cy="160992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1116000" y="3429000"/>
            <a:ext cx="2232000" cy="16318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4"/>
          <a:stretch/>
        </p:blipFill>
        <p:spPr>
          <a:xfrm>
            <a:off x="5003640" y="3357720"/>
            <a:ext cx="2160720" cy="18097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5580000" y="2492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Šķēlu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476360" y="5013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tarpī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292720" y="5300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pakškop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1730520" y="2989440"/>
                <a:ext cx="89856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∪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5769000" y="2768760"/>
                <a:ext cx="8985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657440" y="5349960"/>
                <a:ext cx="74916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5468760" y="5559480"/>
                <a:ext cx="8956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⊂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1332000" y="148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700360" y="400536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94520" y="1052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158160" y="38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405080" y="3933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918160" y="148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878880" y="1268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724360" y="422100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 flipV="1">
            <a:off x="1979280" y="2205000"/>
            <a:ext cx="144360" cy="50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5940360" y="1773360"/>
            <a:ext cx="21600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 flipV="1">
            <a:off x="1834920" y="4652640"/>
            <a:ext cx="144360" cy="43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5796000" y="4581360"/>
            <a:ext cx="216000" cy="71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195640" y="40464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ffff"/>
                </a:solidFill>
                <a:latin typeface="Arial"/>
              </a:rPr>
              <a:t>Matemātiskā loģika un sadzī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0920" y="105264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000" spc="-1" strike="noStrike">
                <a:solidFill>
                  <a:srgbClr val="ffffff"/>
                </a:solidFill>
                <a:latin typeface="Arial"/>
              </a:rPr>
              <a:t>Piemēri</a:t>
            </a:r>
            <a:r>
              <a:rPr b="1" i="1" lang="lv-LV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95280" y="162864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Kādas skolas visi 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skolēni</a:t>
            </a: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i="1" lang="lv-LV" sz="2000" spc="-1" strike="noStrike">
                <a:solidFill>
                  <a:srgbClr val="ffffff"/>
                </a:solidFill>
                <a:latin typeface="Arial"/>
              </a:rPr>
              <a:t>kop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24000" y="2133720"/>
            <a:ext cx="5688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Skola, kā viena no visām skolām – </a:t>
            </a:r>
            <a:r>
              <a:rPr b="1" lang="lv-LV" sz="2000" spc="-1" strike="noStrike">
                <a:solidFill>
                  <a:srgbClr val="ffffff"/>
                </a:solidFill>
                <a:latin typeface="Arial"/>
              </a:rPr>
              <a:t>apakškop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95280" y="27082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Skolēns – </a:t>
            </a:r>
            <a:r>
              <a:rPr b="1" lang="lv-LV" sz="2000" spc="-1" strike="noStrike">
                <a:solidFill>
                  <a:srgbClr val="ffffff"/>
                </a:solidFill>
                <a:latin typeface="Arial"/>
              </a:rPr>
              <a:t>kopas  elem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68360" y="3213000"/>
            <a:ext cx="813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Meitenes klasē – </a:t>
            </a:r>
            <a:r>
              <a:rPr b="1" lang="lv-LV" sz="2000" spc="-1" strike="noStrike">
                <a:solidFill>
                  <a:srgbClr val="ffffff"/>
                </a:solidFill>
                <a:latin typeface="Arial"/>
              </a:rPr>
              <a:t>kopu starpība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, ja A – visi skolēni klasē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B – zēni , kuri mācās klasē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A\B – skolēni no klases, kuri nav zēn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68360" y="4724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Klase, kurā mācās gan zēni, gan meitenes – </a:t>
            </a:r>
            <a:r>
              <a:rPr b="1" lang="lv-LV" sz="2000" spc="-1" strike="noStrike">
                <a:solidFill>
                  <a:srgbClr val="ffffff"/>
                </a:solidFill>
                <a:latin typeface="Arial"/>
              </a:rPr>
              <a:t>kopu apvienojum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1:52:06Z</dcterms:created>
  <dc:creator>Nadja</dc:creator>
  <dc:description/>
  <dc:language>en-US</dc:language>
  <cp:lastModifiedBy>Fizikas un Matemātikas fakultāte</cp:lastModifiedBy>
  <dcterms:modified xsi:type="dcterms:W3CDTF">2010-08-08T08:34:51Z</dcterms:modified>
  <cp:revision>69</cp:revision>
  <dc:subject/>
  <dc:title>Palīgmateriāls</dc:title>
</cp:coreProperties>
</file>