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044A-B640-4318-B18C-2190E4AFA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8ED7-DC5F-44D5-A8E8-64E21BC94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53B7-426B-4BF2-B761-58AC89459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2427-791D-43CD-8F05-83CDD17C6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51FFA-23DF-4D07-AF61-5DFC2A492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6856C-472D-4BE7-9692-C861F9AC8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6F6AC-5152-4857-A3E4-1D0D4DF86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1DEFA-856C-4F4C-B948-69C12B4B6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4E0EE-8703-4C1F-8C20-852DA762A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12B83-DB63-448D-8A67-94492E4C1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005CF-D3FB-4931-AFC8-F9C5FF3A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E7A8-8299-4112-AF2D-598B77F84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316E1-8B52-4FDA-AD76-DCFEFABF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1C092-0A23-4331-8EF7-19591C4C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A90E7-C01E-4E19-8CBB-9487074B1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15830-5313-4A15-B8D8-6F72D1206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1DC19-65D4-4F47-949B-730584348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97FD-501D-40D3-9719-50C56C0E8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7015-0C7F-445D-A02F-B4C7A9C1A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C0A4-9AA5-4C84-8D51-333C7BB00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8C89-2C70-4134-B607-6FEA0E08A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76A6-6EAB-4B7B-97F9-1007491B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8EE8-E531-458E-8775-72EC6AF2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9B88-E97E-4714-9B5E-D7214D67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9D519-D907-41F1-950C-C73F572D530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12CED-DE08-4F10-9D55-59E63CD65FE4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lv.wikipedia.org/wiki/1632" TargetMode="External"/><Relationship Id="rId2" Type="http://schemas.openxmlformats.org/officeDocument/2006/relationships/hyperlink" Target="http://lv.wikipedia.org/wiki/29._augusts" TargetMode="External"/><Relationship Id="rId3" Type="http://schemas.openxmlformats.org/officeDocument/2006/relationships/hyperlink" Target="http://lv.wikipedia.org/wiki/1704" TargetMode="External"/><Relationship Id="rId4" Type="http://schemas.openxmlformats.org/officeDocument/2006/relationships/hyperlink" Target="http://lv.wikipedia.org/wiki/28.oktobris" TargetMode="External"/><Relationship Id="rId5" Type="http://schemas.openxmlformats.org/officeDocument/2006/relationships/hyperlink" Target="http://lv.wikipedia.org/wiki/Apgaism&#299;ba" TargetMode="External"/><Relationship Id="rId6" Type="http://schemas.openxmlformats.org/officeDocument/2006/relationships/hyperlink" Target="http://lv.wikipedia.org/wiki/Ang&#316;i" TargetMode="External"/><Relationship Id="rId7" Type="http://schemas.openxmlformats.org/officeDocument/2006/relationships/hyperlink" Target="http://lv.wikipedia.org/wiki/Filozofija" TargetMode="External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ffffcc"/>
                </a:solidFill>
                <a:latin typeface="Tahoma"/>
              </a:rPr>
              <a:t>Matemātiskā loģika un sadzīve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 u="sng">
                <a:solidFill>
                  <a:srgbClr val="962671"/>
                </a:solidFill>
                <a:uFillTx/>
                <a:latin typeface="Tahoma"/>
              </a:rPr>
              <a:t>Slēdzien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301680" y="457200"/>
            <a:ext cx="85406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lv-LV" sz="1800" spc="-1" strike="noStrike">
                <a:solidFill>
                  <a:srgbClr val="962671"/>
                </a:solidFill>
                <a:latin typeface="Tahoma"/>
              </a:rPr>
              <a:t>3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"/>
          <p:cNvSpPr/>
          <p:nvPr/>
        </p:nvSpPr>
        <p:spPr>
          <a:xfrm>
            <a:off x="1752480" y="533520"/>
            <a:ext cx="1828800" cy="1447560"/>
          </a:xfrm>
          <a:prstGeom prst="pentagon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2133360" y="533520"/>
            <a:ext cx="533160" cy="1447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2133720" y="1066680"/>
            <a:ext cx="144756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295280" y="9144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600200" y="1981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124080" y="1981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581280" y="914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152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343400" y="53352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Piecstūris sastāv no trīs trijstūriem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419720" y="533520"/>
            <a:ext cx="358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4419720" y="990720"/>
                <a:ext cx="8380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FGR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7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5334120" y="990720"/>
                <a:ext cx="6858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FRV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6172200" y="990720"/>
                <a:ext cx="76212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FVH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1" name=""/>
          <p:cNvSpPr/>
          <p:nvPr/>
        </p:nvSpPr>
        <p:spPr>
          <a:xfrm>
            <a:off x="7315200" y="1143000"/>
            <a:ext cx="914400" cy="76320"/>
          </a:xfrm>
          <a:prstGeom prst="rightArrow">
            <a:avLst>
              <a:gd name="adj1" fmla="val 50000"/>
              <a:gd name="adj2" fmla="val 299528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267080" y="1752480"/>
            <a:ext cx="914400" cy="76320"/>
          </a:xfrm>
          <a:prstGeom prst="rightArrow">
            <a:avLst>
              <a:gd name="adj1" fmla="val 50000"/>
              <a:gd name="adj2" fmla="val 299528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257800" y="1600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Piecstūr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6400800" y="1676520"/>
                <a:ext cx="8380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GRV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6" name=""/>
          <p:cNvSpPr/>
          <p:nvPr/>
        </p:nvSpPr>
        <p:spPr>
          <a:xfrm>
            <a:off x="7315200" y="1600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iekšēj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733920" y="21337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leņķu summa ir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6629400" y="2590920"/>
                <a:ext cx="175248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4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70" name=""/>
          <p:cNvSpPr/>
          <p:nvPr/>
        </p:nvSpPr>
        <p:spPr>
          <a:xfrm>
            <a:off x="914400" y="3276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962671"/>
                </a:solidFill>
                <a:latin typeface="Tahoma"/>
              </a:rPr>
              <a:t>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3733920" y="2647800"/>
                <a:ext cx="2895480" cy="2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H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3" name=""/>
          <p:cNvSpPr/>
          <p:nvPr/>
        </p:nvSpPr>
        <p:spPr>
          <a:xfrm>
            <a:off x="1295280" y="3276720"/>
            <a:ext cx="73152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Aplūkojot trijstūra, četrstūra, piecstūra iekšējo leņķu summu iegūšanu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var saskatīt sakarību, ka n – stūra iekšējo leņķu summa i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4925880" y="4800600"/>
                <a:ext cx="23130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6" name=""/>
          <p:cNvSpPr/>
          <p:nvPr/>
        </p:nvSpPr>
        <p:spPr>
          <a:xfrm>
            <a:off x="1523880" y="5257800"/>
            <a:ext cx="304920" cy="609480"/>
          </a:xfrm>
          <a:prstGeom prst="line">
            <a:avLst/>
          </a:prstGeom>
          <a:ln w="255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1523880" y="4571640"/>
            <a:ext cx="457200" cy="685800"/>
          </a:xfrm>
          <a:prstGeom prst="line">
            <a:avLst/>
          </a:prstGeom>
          <a:ln w="255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981080" y="4572000"/>
            <a:ext cx="914400" cy="76320"/>
          </a:xfrm>
          <a:prstGeom prst="line">
            <a:avLst/>
          </a:prstGeom>
          <a:ln w="255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895480" y="4648320"/>
            <a:ext cx="609840" cy="457200"/>
          </a:xfrm>
          <a:prstGeom prst="line">
            <a:avLst/>
          </a:prstGeom>
          <a:ln w="255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828800" y="5867280"/>
            <a:ext cx="1143000" cy="304920"/>
          </a:xfrm>
          <a:prstGeom prst="line">
            <a:avLst/>
          </a:prstGeom>
          <a:ln w="28440">
            <a:solidFill>
              <a:srgbClr val="99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743200" y="46483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ffffff"/>
                </a:solidFill>
                <a:latin typeface="Tahoma"/>
              </a:rPr>
              <a:t>1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905120" y="45720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ffffff"/>
                </a:solidFill>
                <a:latin typeface="Tahoma"/>
              </a:rPr>
              <a:t>2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523880" y="510552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ffffff"/>
                </a:solidFill>
                <a:latin typeface="Tahoma"/>
              </a:rPr>
              <a:t>3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828800" y="563868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ffffff"/>
                </a:solidFill>
                <a:latin typeface="Tahoma"/>
              </a:rPr>
              <a:t>4,..............,n- stūr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724280" y="48769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Kā tiek iegūts induktīvā slēdzienā jauns spriedum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Izdarot vispārīgus secinājumus no atsevišķu gadījumu rezultātie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Piemēri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Kāda figūra būs nākamā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962671"/>
                </a:solidFill>
                <a:latin typeface="Tahoma"/>
              </a:rPr>
              <a:t>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2. Kāda figūra būs nākamā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Kurš skaitlis būs nākamais 7; 11; 15; 19;.....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"/>
          <p:cNvSpPr/>
          <p:nvPr/>
        </p:nvSpPr>
        <p:spPr>
          <a:xfrm>
            <a:off x="762120" y="2971800"/>
            <a:ext cx="1218960" cy="99072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95280" y="3352680"/>
            <a:ext cx="228600" cy="22860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286000" y="2971800"/>
            <a:ext cx="1143000" cy="99072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286000" y="2971800"/>
            <a:ext cx="1143000" cy="990720"/>
          </a:xfrm>
          <a:prstGeom prst="diamond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657600" y="2895480"/>
            <a:ext cx="1219320" cy="106704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657600" y="2895480"/>
            <a:ext cx="1219320" cy="1067040"/>
          </a:xfrm>
          <a:prstGeom prst="diamond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962520" y="3200400"/>
            <a:ext cx="609480" cy="457200"/>
          </a:xfrm>
          <a:prstGeom prst="flowChartProcess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114800" y="3352680"/>
            <a:ext cx="228600" cy="22860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257800" y="3124080"/>
            <a:ext cx="220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ffffff"/>
                </a:solidFill>
                <a:latin typeface="Arial"/>
              </a:rPr>
              <a:t>..........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334120" y="2590920"/>
            <a:ext cx="1676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lv-LV" sz="6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rot="5400000">
            <a:off x="876240" y="4915080"/>
            <a:ext cx="990720" cy="761760"/>
          </a:xfrm>
          <a:custGeom>
            <a:avLst/>
            <a:gdLst>
              <a:gd name="textAreaLeft" fmla="*/ 330120 w 990720"/>
              <a:gd name="textAreaRight" fmla="*/ 848520 w 990720"/>
              <a:gd name="textAreaTop" fmla="*/ 486000 h 761760"/>
              <a:gd name="textAreaBottom" fmla="*/ 6526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6877"/>
                </a:moveTo>
                <a:lnTo>
                  <a:pt x="13777" y="16877"/>
                </a:lnTo>
                <a:lnTo>
                  <a:pt x="13777" y="7200"/>
                </a:lnTo>
                <a:lnTo>
                  <a:pt x="10677" y="7200"/>
                </a:lnTo>
                <a:lnTo>
                  <a:pt x="16139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rot="10800000">
            <a:off x="1980720" y="4800600"/>
            <a:ext cx="762120" cy="838080"/>
          </a:xfrm>
          <a:custGeom>
            <a:avLst/>
            <a:gdLst>
              <a:gd name="textAreaLeft" fmla="*/ 254160 w 762120"/>
              <a:gd name="textAreaRight" fmla="*/ 653040 w 762120"/>
              <a:gd name="textAreaTop" fmla="*/ 53460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6877"/>
                </a:moveTo>
                <a:lnTo>
                  <a:pt x="13777" y="16877"/>
                </a:lnTo>
                <a:lnTo>
                  <a:pt x="13777" y="7200"/>
                </a:lnTo>
                <a:lnTo>
                  <a:pt x="10677" y="7200"/>
                </a:lnTo>
                <a:lnTo>
                  <a:pt x="16139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rot="16200000">
            <a:off x="2971800" y="4800600"/>
            <a:ext cx="914400" cy="761760"/>
          </a:xfrm>
          <a:custGeom>
            <a:avLst/>
            <a:gdLst>
              <a:gd name="textAreaLeft" fmla="*/ 304920 w 914400"/>
              <a:gd name="textAreaRight" fmla="*/ 783360 w 914400"/>
              <a:gd name="textAreaTop" fmla="*/ 486000 h 761760"/>
              <a:gd name="textAreaBottom" fmla="*/ 6526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6877"/>
                </a:moveTo>
                <a:lnTo>
                  <a:pt x="13777" y="16877"/>
                </a:lnTo>
                <a:lnTo>
                  <a:pt x="13777" y="7200"/>
                </a:lnTo>
                <a:lnTo>
                  <a:pt x="10677" y="7200"/>
                </a:lnTo>
                <a:lnTo>
                  <a:pt x="16139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038480" y="5029200"/>
            <a:ext cx="221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ffffff"/>
                </a:solidFill>
                <a:latin typeface="Arial"/>
              </a:rPr>
              <a:t>..........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114800" y="449568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lv-LV" sz="6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Vai induktīvie slēdzieni vienmēr ir patiesi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Nē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Piemēri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Situācijas, kurās induktīvo spriešanu nevaram pilnīgi droši apgalvot ir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dažādu stereotipu rašanās pamatā un bieži vien var būt maldinoš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852480" y="3124080"/>
            <a:ext cx="2840040" cy="313380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2"/>
          <a:stretch/>
        </p:blipFill>
        <p:spPr>
          <a:xfrm>
            <a:off x="4724280" y="3429000"/>
            <a:ext cx="1381320" cy="328608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/>
          <p:nvPr/>
        </p:nvSpPr>
        <p:spPr>
          <a:xfrm>
            <a:off x="5257800" y="2514600"/>
            <a:ext cx="3352680" cy="914400"/>
          </a:xfrm>
          <a:prstGeom prst="cloudCallout">
            <a:avLst>
              <a:gd name="adj1" fmla="val -33523"/>
              <a:gd name="adj2" fmla="val 80037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ffffff"/>
                </a:solidFill>
                <a:latin typeface="Arial"/>
              </a:rPr>
              <a:t>Tātad visām meitenēm patīk sarkana krā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5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5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Ja esam konstatējuši, ka 10 dažādos laikrakstos reklāma aizņem vismaz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20%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no avīzes laukuma, tad spriedums, ka “visās avīzēs reklām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aizņem vismaz 20% no tā laukuma”, var būt nepaties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3.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Ja esam novērojuši, ka visi mūsu paziņas vīrieši brauc ar automašīnām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kuru dzinēja tilpums ir vismaz 2 litri, mēs nedrīkstam pilnīgi droši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apgalvot, ka visi vīrieši brauc tikai ar šādām mašīnā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5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5029200" y="1752480"/>
            <a:ext cx="2362320" cy="164952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2"/>
          <a:stretch/>
        </p:blipFill>
        <p:spPr>
          <a:xfrm>
            <a:off x="2209680" y="2438280"/>
            <a:ext cx="211464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Kur var noderēt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Ļaujot noformulēt idejas un izvirzīt hipotēzes par pētāmo procesu priekšmetu vai parādību. Vēlāk, šīs hipotēzes pamatojot, ir iespējams gūt apstiprinošu vai noliedzošu spriedumu par mūsu veiktajiem vērojumie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Piemēri: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Izvirzi hipotēzi, kāda varētu būt nākamā figūr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</a:t>
            </a:r>
            <a:r>
              <a:rPr b="0" lang="lv-LV" sz="1800" spc="-1" strike="noStrike">
                <a:solidFill>
                  <a:srgbClr val="962671"/>
                </a:solidFill>
                <a:latin typeface="Tahoma"/>
              </a:rPr>
              <a:t>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1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2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"/>
          <p:cNvSpPr/>
          <p:nvPr/>
        </p:nvSpPr>
        <p:spPr>
          <a:xfrm>
            <a:off x="1295280" y="3429000"/>
            <a:ext cx="685800" cy="609480"/>
          </a:xfrm>
          <a:prstGeom prst="flowChartPredefinedProcess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133720" y="3429000"/>
            <a:ext cx="685800" cy="60948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rot="5400000">
            <a:off x="2933280" y="3467160"/>
            <a:ext cx="685800" cy="609480"/>
          </a:xfrm>
          <a:prstGeom prst="flowChartPredefinedProcess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733920" y="3429000"/>
            <a:ext cx="685800" cy="60948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572000" y="3429000"/>
            <a:ext cx="685800" cy="609480"/>
          </a:xfrm>
          <a:prstGeom prst="flowChartPredefinedProcess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295280" y="548640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752480" y="548640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429000" y="548640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819520" y="548640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962520" y="548640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733920" y="518148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124080" y="518148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429000" y="495288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638680" y="548640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181480" y="548640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523880" y="518148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629400" y="548640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095880" y="548640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324480" y="518148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5867280" y="518148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410080" y="518148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867280" y="472428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095880" y="495288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638680" y="495288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562720" y="3657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Tahoma"/>
              </a:rPr>
              <a:t>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33526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lv-LV" sz="2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004520" y="525780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Tahoma"/>
              </a:rPr>
              <a:t>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162920" y="48769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lv-LV" sz="3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ffffcc"/>
                </a:solidFill>
                <a:latin typeface="Tahoma"/>
              </a:rPr>
              <a:t>Deduktīvie slēdzien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Uz ko balstā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61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Uz iepriekš pamatotu spriedumu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61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61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Piemēr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61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Ir pierādīts, ka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lv-LV" sz="1800" spc="-1" strike="noStrike">
                <a:solidFill>
                  <a:srgbClr val="962671"/>
                </a:solidFill>
                <a:latin typeface="Tahoma"/>
              </a:rPr>
              <a:t>romba diagonāles krustpunktā dalās uz pusēm”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To  zinot, var droši apgalvot, ka arī </a:t>
            </a:r>
            <a:r>
              <a:rPr b="0" i="1" lang="lv-LV" sz="1800" spc="-1" strike="noStrike">
                <a:solidFill>
                  <a:srgbClr val="962671"/>
                </a:solidFill>
                <a:latin typeface="Tahoma"/>
              </a:rPr>
              <a:t>“kvadrāta diagonāles krustpunktā dalās uz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61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962671"/>
                </a:solidFill>
                <a:latin typeface="Tahoma"/>
              </a:rPr>
              <a:t>      </a:t>
            </a:r>
            <a:r>
              <a:rPr b="0" i="1" lang="lv-LV" sz="1800" spc="-1" strike="noStrike">
                <a:solidFill>
                  <a:srgbClr val="962671"/>
                </a:solidFill>
                <a:latin typeface="Tahoma"/>
              </a:rPr>
              <a:t>pusēm”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, jo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kvadrāts ir romba speciālgadījum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61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61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61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61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"/>
          <p:cNvSpPr/>
          <p:nvPr/>
        </p:nvSpPr>
        <p:spPr>
          <a:xfrm>
            <a:off x="1828800" y="4495680"/>
            <a:ext cx="1676520" cy="1524240"/>
          </a:xfrm>
          <a:prstGeom prst="diamond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828800" y="5257800"/>
            <a:ext cx="1676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666880" y="44956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371600" y="50292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514600" y="40384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581280" y="50292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514600" y="6095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362320" y="49528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200400" y="419112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AO=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BO=O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267080" y="5029200"/>
            <a:ext cx="1371600" cy="304920"/>
          </a:xfrm>
          <a:prstGeom prst="rightArrow">
            <a:avLst>
              <a:gd name="adj1" fmla="val 50000"/>
              <a:gd name="adj2" fmla="val 112456"/>
            </a:avLst>
          </a:prstGeom>
          <a:solidFill>
            <a:srgbClr val="5a5c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715000" y="4572000"/>
            <a:ext cx="1219320" cy="1066680"/>
          </a:xfrm>
          <a:prstGeom prst="flowChartProcess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15000" y="4572000"/>
            <a:ext cx="121932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5714640" y="4572000"/>
            <a:ext cx="121932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410080" y="43434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410080" y="55627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934320" y="4343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934320" y="5638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172200" y="4800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7467480" y="4191120"/>
            <a:ext cx="10670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KT=T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LT=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Kā tiek iegūts deduktīvā slēdzienā jauns patiess spriedum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Izmantojot iepriekš pierādītus faktus, patiesus apgalvojumus un loģiski secino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Piemēr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Ir pierādīts – </a:t>
            </a:r>
            <a:r>
              <a:rPr b="0" i="1" lang="lv-LV" sz="1800" spc="-1" strike="noStrike">
                <a:solidFill>
                  <a:srgbClr val="962671"/>
                </a:solidFill>
                <a:latin typeface="Tahoma"/>
              </a:rPr>
              <a:t>“jo lielāks automašīnas ātrums, jo garāks ir tās bremzēšanas ceļš”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Tāpat ir pierādīts – </a:t>
            </a:r>
            <a:r>
              <a:rPr b="0" i="1" lang="lv-LV" sz="1800" spc="-1" strike="noStrike">
                <a:solidFill>
                  <a:srgbClr val="962671"/>
                </a:solidFill>
                <a:latin typeface="Tahoma"/>
              </a:rPr>
              <a:t>“jo garāks bremzēšanas ceļš, jo garāks apstāšanās ceļš”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Tā kā pirmie divi apgalvojumi ir patiesi, var secināt, ka patiess ir apgalvojums – </a:t>
            </a:r>
            <a:r>
              <a:rPr b="0" lang="lv-LV" sz="1800" spc="-1" strike="noStrike">
                <a:solidFill>
                  <a:srgbClr val="962671"/>
                </a:solidFill>
                <a:latin typeface="Tahoma"/>
              </a:rPr>
              <a:t>“jo lielāks ātrums, jo garāks apstāšanās ceļš”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, kas izriet no diviem patiesajiem apgalvojumiem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Vai deduktīvā ceļā iegūti spriedumi vienmēr ir patiesi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J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5715000" y="3657600"/>
            <a:ext cx="1676520" cy="12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Kur var noderēt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Pierādīt teorēmas, pamatot faktu patiesumu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Piemēr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"/>
          <p:cNvSpPr/>
          <p:nvPr/>
        </p:nvSpPr>
        <p:spPr>
          <a:xfrm>
            <a:off x="3352680" y="2438280"/>
            <a:ext cx="2210040" cy="45720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Eksperi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343400" y="28954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276720" y="3124080"/>
            <a:ext cx="2286000" cy="60984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Induktīvā sprieša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343400" y="3733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581280" y="4038480"/>
            <a:ext cx="1447920" cy="38124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Hipotē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343400" y="44197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276720" y="4724280"/>
            <a:ext cx="2361960" cy="53352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Deduktīvā sprieša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343400" y="52578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362320" y="5486400"/>
            <a:ext cx="4419360" cy="45720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Hipotēzes apstiprinājums vai noliegu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"/>
          <p:cNvSpPr/>
          <p:nvPr/>
        </p:nvSpPr>
        <p:spPr>
          <a:xfrm>
            <a:off x="2666880" y="1523880"/>
            <a:ext cx="3581640" cy="106704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ffffff"/>
                </a:solidFill>
                <a:latin typeface="Arial"/>
              </a:rPr>
              <a:t>Slēdzie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343400" y="2590920"/>
            <a:ext cx="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057400" y="2971800"/>
            <a:ext cx="457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057400" y="29718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629400" y="29718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62120" y="3352680"/>
            <a:ext cx="2286000" cy="83844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Empīrisk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276720" y="3352680"/>
            <a:ext cx="2286000" cy="83844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Induktīv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715000" y="3352680"/>
            <a:ext cx="2286000" cy="83844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Deduktīv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301680" y="380880"/>
            <a:ext cx="8540640" cy="571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Kas ir slēdzien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Slēdziens ir domāšanas forma, kurā no viena vai vairākiem spriedumiem tiek iegūts jauns spriedums. Sākotnējos spriedumus sauc par slēdziena premisām (no latīņu v. “praemissa” – priekšnoteikums), bet jauniegūto spriedumu – par slēdziena secinājumu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Slēdziena piemērs, kur secinājums izriet no divām premisām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Sarūgtinājumi ir nepatīkam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Daži sarūgtinājumi ir derīg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_____________________________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Dažas derīgas lietas ir nepatīkam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"/>
          <p:cNvSpPr/>
          <p:nvPr/>
        </p:nvSpPr>
        <p:spPr>
          <a:xfrm>
            <a:off x="5410080" y="39625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6fa9b7"/>
                </a:solidFill>
                <a:latin typeface="Tahoma"/>
              </a:rPr>
              <a:t>Divas premis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876920" y="3733920"/>
            <a:ext cx="380880" cy="838080"/>
          </a:xfrm>
          <a:custGeom>
            <a:avLst/>
            <a:gdLst>
              <a:gd name="textAreaLeft" fmla="*/ 0 w 380880"/>
              <a:gd name="textAreaRight" fmla="*/ 137520 w 3808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fa9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105520" y="4800600"/>
            <a:ext cx="152280" cy="304920"/>
          </a:xfrm>
          <a:custGeom>
            <a:avLst/>
            <a:gdLst>
              <a:gd name="textAreaLeft" fmla="*/ 0 w 152280"/>
              <a:gd name="textAreaRight" fmla="*/ 55080 w 15228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fa9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334120" y="48006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6fa9b7"/>
                </a:solidFill>
                <a:latin typeface="Tahoma"/>
              </a:rPr>
              <a:t>Secināju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ffffcc"/>
                </a:solidFill>
                <a:latin typeface="Tahoma"/>
              </a:rPr>
              <a:t>Empīriskie slēdzien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1600" indent="-56160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Uz ko balstā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Uz iepriekš gūto pieredzi, uz sajūtām (dzird, redz, saož), izlasot vai dzirdo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Piemēr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“Sarkanā gaisma sāk mirgot, tātad drīz luksoforā iedegsies dzeltenā gaisma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2.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“Pulksten astoņos no rīta, ejot garām maizes ceptuvei, var saost ceptas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maizes smaržu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3. “Ejam uz stundu, tikko nozvanīja zvans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3886200" y="3581280"/>
            <a:ext cx="1371600" cy="11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Kā tiek iegūts empīriskā slēdzienā jauns spriedum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No Individuālas pieredzes.</a:t>
            </a:r>
            <a:r>
              <a:rPr b="0" lang="lv-LV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Piemēri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1. “Dienu pirms algas nekad nav brīvu naudas līdzekļu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2. “Teksta uzdevumi parasti ir grūtāki par citiem uzdevumiem.”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5943600" y="3505320"/>
            <a:ext cx="17524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 u="sng">
                <a:solidFill>
                  <a:srgbClr val="962671"/>
                </a:solidFill>
                <a:uFillTx/>
                <a:latin typeface="Tahoma"/>
              </a:rPr>
              <a:t>Vai empīriskie slēdzieni vienmēr ir patiesi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 </a:t>
            </a:r>
            <a:r>
              <a:rPr b="0" lang="lv-LV" sz="2800" spc="-1" strike="noStrike">
                <a:solidFill>
                  <a:srgbClr val="962671"/>
                </a:solidFill>
                <a:latin typeface="Tahoma"/>
              </a:rPr>
              <a:t>Nē.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</a:t>
            </a:r>
            <a:r>
              <a:rPr b="0" lang="lv-LV" sz="2800" spc="-1" strike="noStrike">
                <a:solidFill>
                  <a:srgbClr val="962671"/>
                </a:solidFill>
                <a:latin typeface="Tahoma"/>
              </a:rPr>
              <a:t>Tā kā cilvēku pieredze ir individuāla, tad vienā un tajā pašā situācijā esošu dažādu cilvēku gūtā pieredze var būt dažāda.</a:t>
            </a:r>
            <a:r>
              <a:rPr b="0" lang="lv-LV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ffffff"/>
                </a:solidFill>
                <a:latin typeface="Tahoma"/>
              </a:rPr>
              <a:t>Piemēri: No iepriekšējiem piemērie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lv-LV" sz="2000" spc="-1" strike="noStrike">
                <a:solidFill>
                  <a:srgbClr val="ffffff"/>
                </a:solidFill>
                <a:latin typeface="Tahoma"/>
              </a:rPr>
              <a:t>1. “Dienu pirms algas nekad nav brīvu naudas līdzekļu” </a:t>
            </a:r>
            <a:r>
              <a:rPr b="0" lang="lv-LV" sz="2000" spc="-1" strike="noStrike">
                <a:solidFill>
                  <a:srgbClr val="ffffff"/>
                </a:solidFill>
                <a:latin typeface="Tahoma"/>
              </a:rPr>
              <a:t>būs patiess tiem cilvēkiem, kas neplāno savus izdevumus un ienākumu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lv-LV" sz="2000" spc="-1" strike="noStrike">
                <a:solidFill>
                  <a:srgbClr val="ffffff"/>
                </a:solidFill>
                <a:latin typeface="Tahoma"/>
              </a:rPr>
              <a:t>2. “Teksta uzdevumi parasti ir grūtāki par citiem uzdevumiem” ir spēkā tikai  kādai skolēnu daļai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Kur var noderēt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96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Var palīdzēt pierādījuma veidošanā. Zināšanu  attīstīšanai, sevis pilnveidošana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96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96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Piemēr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6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96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6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6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Džons Loks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John Locke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; </a:t>
            </a:r>
            <a:r>
              <a:rPr b="0" lang="ru-RU" sz="18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1632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g. </a:t>
            </a:r>
            <a:r>
              <a:rPr b="0" lang="ru-RU" sz="18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29. augusts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ru-RU" sz="1800" spc="-1" strike="noStrike" u="sng">
                <a:solidFill>
                  <a:srgbClr val="a3c145"/>
                </a:solidFill>
                <a:uFillTx/>
                <a:latin typeface="Tahoma"/>
                <a:hlinkClick r:id="rId3"/>
              </a:rPr>
              <a:t>1704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g. </a:t>
            </a:r>
            <a:r>
              <a:rPr b="0" lang="ru-RU" sz="1800" spc="-1" strike="noStrike" u="sng">
                <a:solidFill>
                  <a:srgbClr val="a3c145"/>
                </a:solidFill>
                <a:uFillTx/>
                <a:latin typeface="Tahoma"/>
                <a:hlinkClick r:id="rId4"/>
              </a:rPr>
              <a:t>28.oktobris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) - </a:t>
            </a:r>
            <a:r>
              <a:rPr b="0" lang="ru-RU" sz="1800" spc="-1" strike="noStrike" u="sng">
                <a:solidFill>
                  <a:srgbClr val="a3c145"/>
                </a:solidFill>
                <a:uFillTx/>
                <a:latin typeface="Tahoma"/>
                <a:hlinkClick r:id="rId5"/>
              </a:rPr>
              <a:t>apgaismības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laikmeta </a:t>
            </a:r>
            <a:r>
              <a:rPr b="0" lang="ru-RU" sz="1800" spc="-1" strike="noStrike" u="sng">
                <a:solidFill>
                  <a:srgbClr val="a3c145"/>
                </a:solidFill>
                <a:uFillTx/>
                <a:latin typeface="Tahoma"/>
                <a:hlinkClick r:id="rId6"/>
              </a:rPr>
              <a:t>angļu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a3c145"/>
                </a:solidFill>
                <a:uFillTx/>
                <a:latin typeface="Tahoma"/>
                <a:hlinkClick r:id="rId7"/>
              </a:rPr>
              <a:t>filozofs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Empīrists. Viens no liberālisma pamatlicējiem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6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6720" indent="-39672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Loks uzsvēra maņu, nevis intuīcijas vai dedukcijas, nozīmi zināšanu iegūšanā. Loks uzskatīja, ka piedzimstot cilvēka prāts ir kā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tabula rasa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tīra tāfele, uz kuras maņas atstāj nospiedumus, kas veido zināšanas. Viņš uzskatīja arī, ka visi cilvēki piedzimst labi, vienlīdzīgi un neatkarīgi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8"/>
          <a:stretch/>
        </p:blipFill>
        <p:spPr>
          <a:xfrm>
            <a:off x="3581280" y="1676520"/>
            <a:ext cx="19051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ffffcc"/>
                </a:solidFill>
                <a:latin typeface="Tahoma"/>
              </a:rPr>
              <a:t>Induktīvie slēdzien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Uz ko balstā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Uz vairāku eksperimentu vai vērojumu laikā gūtiem  rezultātie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Piemēri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962671"/>
                </a:solidFill>
                <a:latin typeface="Tahoma"/>
              </a:rPr>
              <a:t>    </a:t>
            </a:r>
            <a:r>
              <a:rPr b="0" i="1" lang="lv-LV" sz="2000" spc="-1" strike="noStrike">
                <a:solidFill>
                  <a:srgbClr val="962671"/>
                </a:solidFill>
                <a:latin typeface="Tahoma"/>
              </a:rPr>
              <a:t>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i="1" lang="lv-LV" sz="20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Ticējumi, kas atticas uz laika apstākļiem – cilvēku novērojumi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daudzu gadu garumā ļauj secināt: “ja saule pēc saullēkta uzreiz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ieiet mākoņos – būs lietus”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301680" y="304560"/>
            <a:ext cx="8385120" cy="57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ffffff"/>
                </a:solidFill>
                <a:latin typeface="Tahoma"/>
              </a:rPr>
              <a:t>2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1500120" y="382680"/>
          <a:ext cx="6051600" cy="92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0120" y="382680"/>
                    <a:ext cx="6051600" cy="9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685800" y="1676520"/>
            <a:ext cx="1143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2286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962671"/>
                </a:solidFill>
                <a:latin typeface="Tahoma"/>
              </a:rPr>
              <a:t>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318600">
            <a:off x="2133720" y="2285640"/>
            <a:ext cx="1600200" cy="685800"/>
          </a:xfrm>
          <a:prstGeom prst="flowChartExtra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75248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819520" y="1905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733920" y="2895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4419720" y="2590920"/>
                <a:ext cx="31240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21" name=""/>
          <p:cNvSpPr/>
          <p:nvPr/>
        </p:nvSpPr>
        <p:spPr>
          <a:xfrm>
            <a:off x="1295280" y="40384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962671"/>
                </a:solidFill>
                <a:latin typeface="Tahoma"/>
              </a:rPr>
              <a:t>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209680" y="4343400"/>
            <a:ext cx="144792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209680" y="4343400"/>
            <a:ext cx="144792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828800" y="5029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752480" y="40384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733920" y="3962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657600" y="5105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5410080" y="4191120"/>
                <a:ext cx="69372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LK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4800600" y="4191120"/>
                <a:ext cx="38088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4572000" y="4495680"/>
                <a:ext cx="2057400" cy="22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rPr>
                        <m:lit/>
                        <m:nor/>
                      </m:rPr>
                      <m:t xml:space="preserve">KNL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rPr>
                        <m:lit/>
                        <m:nor/>
                      </m:rPr>
                      <m:t xml:space="preserve">NLK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32" name=""/>
          <p:cNvSpPr/>
          <p:nvPr/>
        </p:nvSpPr>
        <p:spPr>
          <a:xfrm>
            <a:off x="4572000" y="365760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4648320" y="4724280"/>
                <a:ext cx="380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5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5334120" y="4724280"/>
                <a:ext cx="685800" cy="2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LN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7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4267080" y="5029200"/>
                <a:ext cx="221004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rPr>
                        <m:lit/>
                        <m:nor/>
                      </m:rPr>
                      <m:t xml:space="preserve">MNL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rPr>
                        <m:lit/>
                        <m:nor/>
                      </m:rPr>
                      <m:t xml:space="preserve">MLN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39" name=""/>
          <p:cNvSpPr/>
          <p:nvPr/>
        </p:nvSpPr>
        <p:spPr>
          <a:xfrm>
            <a:off x="6858000" y="4038480"/>
            <a:ext cx="304920" cy="1295640"/>
          </a:xfrm>
          <a:custGeom>
            <a:avLst/>
            <a:gdLst>
              <a:gd name="textAreaLeft" fmla="*/ 0 w 304920"/>
              <a:gd name="textAreaRight" fmla="*/ 110160 w 30492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3429000" y="5562720"/>
                <a:ext cx="41911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L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>
            <a:off x="7315200" y="4572000"/>
            <a:ext cx="1371600" cy="152280"/>
          </a:xfrm>
          <a:prstGeom prst="rightArrow">
            <a:avLst>
              <a:gd name="adj1" fmla="val 50000"/>
              <a:gd name="adj2" fmla="val 225177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447920" y="5715000"/>
            <a:ext cx="1447560" cy="152280"/>
          </a:xfrm>
          <a:prstGeom prst="rightArrow">
            <a:avLst>
              <a:gd name="adj1" fmla="val 50000"/>
              <a:gd name="adj2" fmla="val 237648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08:59:48Z</dcterms:created>
  <dc:creator>user</dc:creator>
  <dc:description/>
  <dc:language>en-US</dc:language>
  <cp:lastModifiedBy>Fizikas un Matemātikas fakultāte</cp:lastModifiedBy>
  <dcterms:modified xsi:type="dcterms:W3CDTF">2010-08-08T07:34:03Z</dcterms:modified>
  <cp:revision>94</cp:revision>
  <dc:subject/>
  <dc:title>Matemātiskā loģika un sadzīve.</dc:title>
</cp:coreProperties>
</file>