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695-07A5-44BC-98BA-D29E72CA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8D12-D647-4FB8-93D3-A16C1E31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FC32-1D9D-45FD-BA07-CF95D6F5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736-9C77-4780-A8B2-8EC32934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960A-BB20-4324-9566-22D81A5E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DA80-125B-4EF7-8D24-2A612E9E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916E-460B-4CB8-8A7B-62CD35C0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0417-FBE8-4391-9195-1681DE9A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3188-C5C6-4189-89E6-4803F293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C14D-8A4C-4858-B09B-5DB4384A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ABFC-A0EB-4268-A968-0019A3BA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547-F832-4D74-B2A0-F5D14543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B586-E3F0-4A52-8C10-F9294503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3037-4F1F-4EF1-AC93-06A96E3F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53CD-787F-4169-AB21-FE9E2730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839B-B470-4E88-AEDE-DF3D68D3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6A46-2D1A-4FCA-A5A9-2A2F45B1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6E1-3282-4641-906A-8B985205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5F86-5D68-4E86-92EF-C3009A61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2C8F-CDD2-4694-8258-7CFF106D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C331-FD7C-45E1-9E78-3E8C0E8A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AFDC-9A05-4459-B503-57D79374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3A1E-D0DA-459A-92EB-EB92EF10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04F-E446-4C5C-8856-F50E3B53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8B13-0C52-497C-96A2-1725E1F8FDD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5BC0-1600-43B3-8977-4BE2AE2BBCC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800" spc="-1" strike="noStrike">
                <a:solidFill>
                  <a:srgbClr val="999900"/>
                </a:solidFill>
                <a:latin typeface="Garamond"/>
              </a:rPr>
              <a:t>Kopa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teorijas pamatelement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Kas ir kop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628640"/>
            <a:ext cx="3456000" cy="41054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7600" y="2060640"/>
            <a:ext cx="39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ir kaut kādu priekšmetu kop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95640" y="4869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2492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1916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2276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2997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3716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2852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8160" y="170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5080" y="2421000"/>
            <a:ext cx="38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as ir kopas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2924280"/>
            <a:ext cx="396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ar kopas elementu var būt jebkā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riekšmets, kā reāls ,kā arī kaut k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ereā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otajā gadījumā tie ir bur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4000" y="414972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as ir tukša kop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6520" y="4653000"/>
            <a:ext cx="31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Tukša kopa ir kopa kurā n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eviena elem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Apakško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773360"/>
            <a:ext cx="3673800" cy="3311280"/>
          </a:xfrm>
          <a:prstGeom prst="ellipse">
            <a:avLst/>
          </a:prstGeom>
          <a:solidFill>
            <a:srgbClr val="17eb2b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2492280"/>
            <a:ext cx="1727280" cy="1657440"/>
          </a:xfrm>
          <a:prstGeom prst="ellipse">
            <a:avLst/>
          </a:prstGeom>
          <a:solidFill>
            <a:srgbClr val="17eb2b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81800" y="2708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8160" y="234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49720" y="1413000"/>
            <a:ext cx="409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A ir kopas B apakškopa ja v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elementi (punkti), kas pieder kop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A, pieder arī kopai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2781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21337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3068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3357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4360" y="26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076720" y="2421000"/>
                <a:ext cx="2448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,d,f</m:t>
                            </m:r>
                          </m:e>
                        </m:d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,b,c,d,f,g,h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⊂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292720" y="162864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UB pieder visi tie elementi (punkti), kas pieder kopai A, vai pieder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1280" y="357192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UB={1,2,3,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318280" y="2781360"/>
                <a:ext cx="3593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vai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4160" y="3429000"/>
            <a:ext cx="124596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apvienoj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15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155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15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15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16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163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18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šķēl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1628640"/>
            <a:ext cx="36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B pieder visi tie elementi (punkti), kas vienlaicīgi pieder kopai A un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91280" y="357192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UB={4,5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281560" y="2997360"/>
                <a:ext cx="352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n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9af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4160" y="3429000"/>
            <a:ext cx="124596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193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19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19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20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203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22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starpīb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5148360" y="1773360"/>
            <a:ext cx="36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\B pieder visi tie elementi (punkti), kas vienlaicīgi pieder kopai A, bet nepieder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364500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\B={1,2,3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270828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2637000"/>
            <a:ext cx="359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219640" y="3068640"/>
                <a:ext cx="3456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n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∉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3440" y="3429000"/>
            <a:ext cx="11455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\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25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25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26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262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264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266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papildināj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162864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Ā pieder visi tie elementi (punkti), kas nepieder kopa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724360" y="2708280"/>
                <a:ext cx="1681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∉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826920" y="1628640"/>
            <a:ext cx="3673800" cy="3095640"/>
          </a:xfrm>
          <a:prstGeom prst="rect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19280" y="1989000"/>
            <a:ext cx="1944720" cy="2087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94172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360" y="494172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20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31417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79640" y="2852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7440" y="220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651640" y="3860640"/>
                <a:ext cx="172872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∈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4:32:08Z</dcterms:created>
  <dc:creator>HOMEEEE</dc:creator>
  <dc:description/>
  <dc:language>en-US</dc:language>
  <cp:lastModifiedBy>Fizikas un Matemātikas fakultāte</cp:lastModifiedBy>
  <dcterms:modified xsi:type="dcterms:W3CDTF">2010-08-08T08:10:50Z</dcterms:modified>
  <cp:revision>4</cp:revision>
  <dc:subject/>
  <dc:title>Matemātiskie spriedumi un sadzīve</dc:title>
</cp:coreProperties>
</file>