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A3F1-8130-4569-ACAA-CD76B2029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D9A9-E579-4501-9182-12309686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1F1A-5640-4BDF-8164-BCA1BCE3E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01DE-92E8-49F2-8986-356973222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DD6C-B53D-47B1-8403-212CCD7EB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7975-2C4F-4698-AB70-C52319AF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1B5D-A60B-4456-8FF9-0B7273AE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6181-B906-49D8-9F5A-38D72C95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3868-B486-4F57-9FF4-75348613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9464-CD6D-4057-B889-5588A29D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B499-5F3F-406E-86EC-37302933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F12E-D87E-4BC8-973F-5DADE547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F21A-9174-4276-ADF9-123E1172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BF81-FA0C-4A79-9CD6-FB34FA4C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AA1B-2F4D-4CC8-8BAA-CAB06DC5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3BD0-4FE4-4771-9A1D-D23AA80A2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25D3-2DEC-4EC6-ABD6-0C2AEEA42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452B00-8CD7-4EC3-A815-5F40FECA4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4E28FC-B0CC-456A-AE14-E0F3D803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DEDD29-17B1-4095-A3FC-33C7BC3E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86490A-BA66-4833-B701-E0139199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49A2D2-F3B2-4561-86E6-EC2254AB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D969-CADF-4158-9EAC-17137D8D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58CF8E-6F60-4C2F-8507-B3D2185A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84835E-42D7-4EB6-86B2-7E029BAE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E4C73A-9358-4694-815E-F6C7F9A2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163EA2-D808-4676-8E4B-570010D7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5261B4-5487-4B29-BA44-900FF9D1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72B98A-8B17-403E-8D3E-2D7C3E07F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1F74A1-401E-4DA5-BA0A-294D8BBE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2B3C4-C2C1-4BB1-B299-3767335DC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9835C-91BE-4C04-9216-0BE3FE14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893F8-FBEC-4EB3-85B0-2A1B0AAB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59B5-9AE7-4D7B-AA1D-ABF61314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593AD-A330-464E-9650-1CE67464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B4B53-5B9D-4109-BA05-C0C55088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9EC21-205C-4B62-BAC7-88C676FE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6B666-D762-4CCF-8AF4-4376822B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B9D02-6642-42B0-814F-78FCCADE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6A0BA-61DE-46B7-9F39-15113E9F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1A2C6-3D5A-4CBD-9854-CDE060DE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661EF-0F79-463D-AE2F-189CB719D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B46C5-417D-441D-AC3B-013CE1A5E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95C96E-74BB-4492-A067-D7D98FE3E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0D02-C910-4E44-8A27-79E935DE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EA9BDB-F3B9-4505-98D8-8073BF9E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ED5160-F2CC-4B59-A434-48DEE43B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9B0095-785C-4CE3-8EB8-F3863EE7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682374-610A-4370-B184-4F21128B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7047EB-8625-4465-8DC5-E38CD04C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DEF350-4186-493C-9AC6-DB8BBD3F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3288B9-A629-4675-B46A-2CB9ECDF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AE482A-0B74-45B8-AA05-AB7F34F7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A133F5-497E-468E-9CA3-8288FD73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D0FACC-39E0-41CE-8DC9-9968A3C8A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E795-87C1-4120-9608-7DE1C92F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716996-E9B5-4B0E-958D-83C829ED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AACB1A-4C42-4E0B-8154-A752901E3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97CF07-3BDE-463A-9481-8E44DCFB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9B1A8A-E21B-4AE4-8A54-2E73D960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C2C86A-CF37-4D02-BDF5-CBEF428F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34D3AC-2E56-4928-9E8C-C85B1383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4C5FBA-F25A-401B-A53D-BEA93676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9D82EF-2E0E-434C-9193-3D8929A3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33C8D9-D7B7-437E-B85B-B5DCB21D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9B1C01-D5D1-4735-A518-64BCACAE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67CF-EA38-476B-9C27-42F4B022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FB532E-3934-4880-AACA-44C2FEDE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AEBA12-A5F1-402C-A193-745F05D7E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3514DD-B129-4A16-BB52-04A3F2507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C244B1-5582-4E2E-8B5C-1AA339B71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23F21A-12C1-4439-A9ED-4F25FFAB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8338BE-0596-4091-8840-152C590F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7516E1-A6D4-45BC-9C4A-1DF66DB5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AD6E01-8CE5-431C-A206-DE0BFF09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0A2A41-26BB-42BB-83E3-C775304A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C6C31F-2ED3-42A5-84E1-4CACBFE6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9332-C5E8-46B2-942B-0F04A2DC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9190E8-7FFA-42CC-A727-335400BA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45B05B-4EE7-4DE8-8DA8-6E74E641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63B919-DECA-476B-A73A-CE1E2F09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DFE729-7731-479E-8A3E-A44E48AFA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4CAB71-8960-4BA7-9C66-0EB45C06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9CC3-69F5-4504-8F49-623910C5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aisns savienotājs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Taisns savienotājs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Taisns savienotājs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Taisnstūris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Taisns savienotājs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āls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850D-240D-49B4-96F1-DBC8B4E46ED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aisnstūris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Taisnstūris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Taisnstūris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Taisnstūris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Taisns savienotājs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Taisns savienotājs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Taisns savienotājs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Taisns savienotājs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Taisns savienotājs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Taisns savienotājs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Taisnstūris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āls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āls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āls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āls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āls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3100-260A-4F82-B950-1E8A07493C2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aisns savienotājs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Taisns savienotājs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Taisns savienotājs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Taisnstūris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Taisns savienotājs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āls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B92C-6078-4CB9-BE7B-CB39CAC2106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aisnstūris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Taisnstūris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Taisnstūris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Taisnstūris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Taisns savienotājs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Taisns savienotājs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Taisns savienotājs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Taisns savienotājs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Taisns savienotājs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Taisnstūris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āls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āls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āls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āls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āls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Taisns savienotājs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B243-73FC-40EF-B077-8D7D1B44D93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aisns savienotājs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Taisns savienotājs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Taisns savienotājs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Taisnstūris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Taisns savienotājs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āls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75DA-6BF1-4B70-AE22-C14AAAB5B28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aisns savienotājs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Taisns savienotājs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Taisns savienotājs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Taisns savienotājs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Taisnstūris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Taisns savienotājs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āls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D401-D83B-43B8-B580-ECF08CB60C9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aisns savienotājs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āls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Taisns savienotājs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Taisnstūris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Taisns savienotājs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Taisns savienotājs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Taisns savienotājs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F19B-AC08-4989-8F7D-9EFE8A492CE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340000" y="1988640"/>
            <a:ext cx="5595840" cy="18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75f6d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575f6d"/>
                </a:solidFill>
                <a:latin typeface="Times New Roman"/>
              </a:rPr>
              <a:t>Par kopām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KOP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Kopa matemātikā ir dažādu atsevišķu objektu apvienojums vienā veselum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Objektus, no kuriem sastāv kopa, sauc par kopas elementiem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iemēram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Kopa A ar tas elementiem a,b,c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To pieraksta: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A={a,b,c} </a:t>
            </a: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iemēram, kopa B ir ciparu kop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B={0,1,2,3,4,5,6,7,8,9}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1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1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10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10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00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10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KOPAS UZSKATĀMI VAR PARĀDĪT AR EILERE-VENNA DIAGRAMMĀ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pa A sakrīt ar kopu B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pa B ir kopas A apakškop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Ovāls 4"/>
          <p:cNvSpPr/>
          <p:nvPr/>
        </p:nvSpPr>
        <p:spPr>
          <a:xfrm>
            <a:off x="5364000" y="2349360"/>
            <a:ext cx="1800360" cy="180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=B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Ovāls 7"/>
          <p:cNvSpPr/>
          <p:nvPr/>
        </p:nvSpPr>
        <p:spPr>
          <a:xfrm>
            <a:off x="1187280" y="4869000"/>
            <a:ext cx="1800360" cy="1800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Ovāls 8"/>
          <p:cNvSpPr/>
          <p:nvPr/>
        </p:nvSpPr>
        <p:spPr>
          <a:xfrm>
            <a:off x="2124000" y="5373720"/>
            <a:ext cx="792360" cy="79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2"/>
              <p:cNvSpPr txBox="1"/>
              <p:nvPr/>
            </p:nvSpPr>
            <p:spPr>
              <a:xfrm>
                <a:off x="4500720" y="5324400"/>
                <a:ext cx="22320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⊂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3"/>
              <p:cNvSpPr txBox="1"/>
              <p:nvPr/>
            </p:nvSpPr>
            <p:spPr>
              <a:xfrm>
                <a:off x="2771640" y="2982960"/>
                <a:ext cx="18320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"/>
          <p:cNvPicPr/>
          <p:nvPr/>
        </p:nvPicPr>
        <p:blipFill>
          <a:blip r:embed="rId1"/>
          <a:stretch/>
        </p:blipFill>
        <p:spPr>
          <a:xfrm>
            <a:off x="971640" y="3933720"/>
            <a:ext cx="3314520" cy="25527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"/>
          <p:cNvPicPr/>
          <p:nvPr/>
        </p:nvPicPr>
        <p:blipFill>
          <a:blip r:embed="rId2"/>
          <a:stretch/>
        </p:blipFill>
        <p:spPr>
          <a:xfrm>
            <a:off x="5148360" y="2205000"/>
            <a:ext cx="3276360" cy="208584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KOPAS UZSKATĀMI VAR PARĀDĪT AR EILERE-VENNA DIAGRAMMĀ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39280" y="169992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opas apvienojums-visi elemeti tieši vienu reiz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opas šķēlums-tikkai kopīgie eleme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5076720" y="5084640"/>
                <a:ext cx="2232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2050920" y="2502000"/>
                <a:ext cx="19465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"/>
          <p:cNvPicPr/>
          <p:nvPr/>
        </p:nvPicPr>
        <p:blipFill>
          <a:blip r:embed="rId1"/>
          <a:stretch/>
        </p:blipFill>
        <p:spPr>
          <a:xfrm>
            <a:off x="4356000" y="4221000"/>
            <a:ext cx="3257640" cy="21434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3990960" cy="238104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KOPAS UZSKATĀMI VAR PARĀDĪT AR EILERE-VENNA DIAGRAMMĀ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94920" y="1600200"/>
            <a:ext cx="84978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opas atņemšan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ikai tie elemeti, kas nepieder kopai B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ikai tie elemeti, kas nepieder kopai 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Teksta vietturis 12"/>
              <p:cNvSpPr txBox="1"/>
              <p:nvPr/>
            </p:nvSpPr>
            <p:spPr>
              <a:xfrm>
                <a:off x="1835280" y="5013360"/>
                <a:ext cx="16729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5003640" y="2492280"/>
                <a:ext cx="172908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10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1000"/>
                                        <p:tgtEl>
                                          <p:spTgt spid="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0:12:24Z</dcterms:created>
  <dc:creator>Dzeralds</dc:creator>
  <dc:description/>
  <dc:language>en-US</dc:language>
  <cp:lastModifiedBy>Fizikas un Matemātikas fakultāte</cp:lastModifiedBy>
  <dcterms:modified xsi:type="dcterms:W3CDTF">2010-08-08T07:37:13Z</dcterms:modified>
  <cp:revision>46</cp:revision>
  <dc:subject/>
  <dc:title>Atkārtojuma uzdevumi</dc:title>
</cp:coreProperties>
</file>