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BA7-64E1-4AAC-8F8D-792B3BF6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EEB-A295-48C4-AC42-46AE85F5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01E-6053-4F3D-9151-30961EBA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F5A-4438-4807-8A34-03478D80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5EAE-4CF2-482A-AE07-855A9329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F519-DF47-46F2-A7F8-3C52F824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E380-B72A-4F21-81AE-83065AF5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63ED-A928-4387-B17A-6E846E3B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F727-470D-4418-AF5D-AA12141A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0D19-8AD0-4217-A1DD-07B3D962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6D18-7F40-42E4-938B-6BFDD5E1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89B-839A-49A8-924D-604C64BF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A6FB-2010-4C01-9626-EF74F472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F1EE-A078-4795-BEDB-0D34DF86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E2F5-0941-4E7B-A137-04BF80BF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8268-2F40-4A61-9260-6F194B4F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E33F-4710-45D4-85DD-99152CC8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DB8-2CAC-4E1D-B993-800E1D34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321-E4E6-43C6-8733-41295B36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F87-424B-4116-813C-4ECDE3CF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36E-96C5-4FD6-BBBC-79FC19E5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22D-2F20-4325-91EA-E15FB301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55C-5307-4860-8443-415005A4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AC0-A194-4779-A6BA-B5BD908D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2DBF-361E-4D1D-88A0-3924ECEC2F6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FC1D-ED2F-43D7-821A-D24D4BD0BA9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333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03280" y="2637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vieno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376360" cy="1376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907920"/>
            <a:ext cx="2303640" cy="1609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2232000" cy="1631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5003640" y="3357720"/>
            <a:ext cx="2160720" cy="1809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580000" y="2492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Šķē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76360" y="501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tarpī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92720" y="5300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akško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730520" y="2989440"/>
                <a:ext cx="898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769000" y="2768760"/>
                <a:ext cx="898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657440" y="5349960"/>
                <a:ext cx="749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468760" y="5559480"/>
                <a:ext cx="8956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133200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40053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94520" y="10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58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0508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18160" y="148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78880" y="126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24360" y="42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1979280" y="2205000"/>
            <a:ext cx="14436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0360" y="1773360"/>
            <a:ext cx="216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1834920" y="4652640"/>
            <a:ext cx="14436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796000" y="4581360"/>
            <a:ext cx="21600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95640" y="404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052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Piemēri</a:t>
            </a:r>
            <a:r>
              <a:rPr b="1" i="1" lang="lv-LV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1628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ādas skolas visi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i</a:t>
            </a: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2133720"/>
            <a:ext cx="56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a, kā viena no visām skolām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apakš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2708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as  el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8360" y="3213000"/>
            <a:ext cx="813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Meitenes klasē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starpība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, ja A – visi skolēni klasē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B – zēni , kuri mācās klasē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A\B – skolēni no klases, kuri nav zē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472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Klase, kurā mācās gan zēni, gan meitene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apvienoju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52:06Z</dcterms:created>
  <dc:creator>Nadja</dc:creator>
  <dc:description/>
  <dc:language>en-US</dc:language>
  <cp:lastModifiedBy>Fizikas un Matemātikas fakultāte</cp:lastModifiedBy>
  <dcterms:modified xsi:type="dcterms:W3CDTF">2010-08-08T08:34:51Z</dcterms:modified>
  <cp:revision>69</cp:revision>
  <dc:subject/>
  <dc:title>Palīgmateriāls</dc:title>
</cp:coreProperties>
</file>