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9D47-8440-471F-86D2-BC1CFD3A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DAEF7-F59D-4D3E-8331-D757FC8E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556FE-3726-4451-A019-64C74AE9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CDF1-A182-40EC-889D-0567D65B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B480-0E14-43F6-98DB-B74597F3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F357-A1AF-4D44-99E1-CAACC21D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70E2-EA87-42C7-B099-1D645E4A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08AD-DEB8-4D30-9090-915BE666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020A-4B39-42AB-888E-BF269A38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7DE6-A82B-4F87-944E-B969850E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7532-E4EB-4BE7-9137-EB24556A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2BF39-4EF4-4138-89DB-6D08EE34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92D7-CFA0-43D6-84EB-D5A9881B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753D-4964-455F-AF00-F675A069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9933-CC7A-4186-B0B8-55253F80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C028-9BB2-4C0E-8951-CB29A621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E267-7692-4F92-8F2B-C646EFBE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E9C44-EB38-4C5B-A3D8-C5CFD2F2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1CC97-6555-4510-A69C-1E8DF1F3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C4C02-2F46-4B64-98C6-809F805F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E98A4-5C34-4AAC-9831-9B5F9E82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992DF-61C4-40AF-9CFC-9703CA8B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389CF-14BB-49E5-BD98-2252DB81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1E2EC-858E-498F-93F2-B8D32206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B959-A7EE-40D9-9BA7-55AF6C2C4A30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7912-E66B-4572-8E4B-24B27165D274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</a:rPr>
              <a:t>Matemātiskie slēdzieni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kviens no mums ir kādreiz nonācis situācijā, kad nākas pamatot savu viedokl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izstāvēt pozīciju un argumentēt savu izvēli. Nereti no tā, cik veiksmīgi esam mācējuši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zdarīt, ir atkarīga mūs interesējošo lēmumu pieņemšana. Katru dienu mēs vēroja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alizējam, vērtējam un secinām. Lai varētu plānot dažādu procesu tālākās norises, mē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enšamies pamanīt vai noteikt šo procesu likumsakarības. Pamatot savu viedokli m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līdz ne tikai informācijas pieejamība, bet arī prasme loģiski spriest. Ir pazīstami dažā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priešanas paņēmieni, spriedumu un secinājumu iegūšanas vei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305680" cy="3981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657520" cy="3324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556000" y="2924280"/>
            <a:ext cx="4444920" cy="3105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348000" y="2997360"/>
            <a:ext cx="2978280" cy="3044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2987640" y="285264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3564000" y="3141720"/>
            <a:ext cx="2666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80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1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1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6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680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3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9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635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35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Kādi varbūt slēdzien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2997360"/>
            <a:ext cx="1368360" cy="151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lēdzi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V="1">
            <a:off x="4500360" y="2204280"/>
            <a:ext cx="108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3203640" y="1628640"/>
            <a:ext cx="2592360" cy="576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īri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4932000" y="4292280"/>
            <a:ext cx="63252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5003640" y="4869000"/>
            <a:ext cx="259272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ktī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/>
          <p:nvPr/>
        </p:nvCxnSpPr>
        <p:spPr>
          <a:xfrm flipH="1">
            <a:off x="3276000" y="4292280"/>
            <a:ext cx="70380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1258920" y="4869000"/>
            <a:ext cx="259236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uktī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5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450"/>
                            </p:stCondLst>
                            <p:childTnLst>
                              <p:par>
                                <p:cTn id="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95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95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45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45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95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Empīrisk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Empīriski slēdzieni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– ( no grieķu ‘empeiria’  - pieredze) slēdzieni, kas tiek izdarī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balstoties uz iepriekš gūtu pieredz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Tā kā cilvēku pieredze ir individuāla, tad vienā un tajā pašā situācijā esošu dažā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cilvēku gūtā pieredze var būt dažāda. Tieši tāpēc uz pieredzi balstīti jeb empīri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slēdzienii nevar kļūt par loģiska pierādījuma pamatu, jo tie ne vienmēr ir patiesi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attiecināmi uz visiem gadījum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1)Teksta uzdevumi parasti ir grūtāki par citiem uzdevum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2) Ģeometrija ir sarežģītāka nekā algeb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3)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5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45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5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55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6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965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16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245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78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Induktīv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Induktīvi slēdzieni- </a:t>
            </a: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(no latīņu ‘inductio’ — uzvedināšana, ierosināšana) slēdzien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kas tiek izdarīti balstoties uz vairāku eksperimentu vai vērojumu laikā gūtiem rezultāt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Induktīvās spriešanas pamatā ir vispārīgu secinājumu izdarīšana, balstoties uz atsevišķ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gadījumu rezultāt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1)Riharda, Aivara, Reinera, Imanta, Ivo meitenēm ir blondi mati, tātad zēniem vairāk patīk meitenes ar blondiem mati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2) Ja saule pēc saullēkta uzreiz ieiet mākoņos — būs lie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3)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5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55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4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85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67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23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25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Deduktīv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duktīvi slēdzieni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no latīņu valodas ‘deductio’ — izvešana, aizveš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lēdzieni, kad katrs nākamais secinājums tiek balstīts uz iepriekš pamatotu spriedu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duktīvas spriešanas gaitā secinājumi tiek iegūti, izmantojot iepriekš pierādītus fak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 patiesus apgalvojum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1)Romba diagonāles krustpunktā dalās uz pusēm, tātad arī kvadrāta diagonāles krustpunktā dalās uz pusēm, jo kvadrāts ir romba speciālgadīju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2)Jo lielāks automašīnas ātrums, jo garāks ir tās bremzēšanas ceļš. Jo garā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bremzēšanas ceļš, jo garāks apstāšanās ceļš. Tātad jo lielāks ātrums, jo garā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apstāšanās ceļ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3)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2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45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9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35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75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96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8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4:19:11Z</dcterms:created>
  <dc:creator>santa</dc:creator>
  <dc:description/>
  <dc:language>en-US</dc:language>
  <cp:lastModifiedBy>Fizikas un Matemātikas fakultāte</cp:lastModifiedBy>
  <dcterms:modified xsi:type="dcterms:W3CDTF">2010-08-08T08:02:33Z</dcterms:modified>
  <cp:revision>31</cp:revision>
  <dc:subject/>
  <dc:title>Matemātiskie spriedumi</dc:title>
</cp:coreProperties>
</file>