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EB7-8033-4B77-8FF5-A9C3C363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D68-EDED-4A10-994B-78EDA4BD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9E1-7CF9-463B-874E-37BD7CCC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A3A-4694-4CB6-9FB0-9D52B4FA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3E12-AB2B-470E-BD4C-8CBF866A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06DD-54FF-4220-9307-76C25E4E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C493-86DC-4F30-A703-C990D25C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7B3D-8B43-4396-9BE6-515D6F3C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ECF0-D6C3-4F91-A4D4-0867509C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F182-93E8-4527-818E-1E1142AA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8C78-F2E7-4B9A-A2B2-DD269236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8FF-8D08-4A62-A6D3-09F4F0AE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0801-4BE5-4EFF-9D0B-B516E367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0AB0-F4A0-4CEA-9F28-DA138FE2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0436-99AA-4931-A0FC-F8E7DFF3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20D2-A53A-4398-BFE8-103B1BBB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BBCD-262E-427A-8E9F-0E75CFBA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D36-D69E-4CF8-BC11-A4255A96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F41-72D0-4972-AF84-36A566EE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79F-86DA-4315-8DE0-7E21B18E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A16-781C-4261-ABFF-22F1E76F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F32-D5E9-4377-A3BC-5A659F8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D8B9-16F0-45AA-BC64-181C16AF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8DF-5770-4B24-A728-0DADABDA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2209-E56B-4404-B7E7-DC58F49ACF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824C-F68D-440A-96BE-B379A16FC4F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v.wikipedia.org/wiki/1632" TargetMode="External"/><Relationship Id="rId2" Type="http://schemas.openxmlformats.org/officeDocument/2006/relationships/hyperlink" Target="http://lv.wikipedia.org/wiki/29._augusts" TargetMode="External"/><Relationship Id="rId3" Type="http://schemas.openxmlformats.org/officeDocument/2006/relationships/hyperlink" Target="http://lv.wikipedia.org/wiki/1704" TargetMode="External"/><Relationship Id="rId4" Type="http://schemas.openxmlformats.org/officeDocument/2006/relationships/hyperlink" Target="http://lv.wikipedia.org/wiki/28.oktobris" TargetMode="External"/><Relationship Id="rId5" Type="http://schemas.openxmlformats.org/officeDocument/2006/relationships/hyperlink" Target="http://lv.wikipedia.org/wiki/Apgaism&#299;ba" TargetMode="External"/><Relationship Id="rId6" Type="http://schemas.openxmlformats.org/officeDocument/2006/relationships/hyperlink" Target="http://lv.wikipedia.org/wiki/Ang&#316;i" TargetMode="External"/><Relationship Id="rId7" Type="http://schemas.openxmlformats.org/officeDocument/2006/relationships/hyperlink" Target="http://lv.wikipedia.org/wiki/Filozofija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cc"/>
                </a:solidFill>
                <a:latin typeface="Tahoma"/>
              </a:rPr>
              <a:t>Matemātiskā loģika un sadzīv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 u="sng">
                <a:solidFill>
                  <a:srgbClr val="962671"/>
                </a:solidFill>
                <a:uFillTx/>
                <a:latin typeface="Tahoma"/>
              </a:rPr>
              <a:t>Slēdzie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533520"/>
            <a:ext cx="1828800" cy="1447560"/>
          </a:xfrm>
          <a:prstGeom prst="pentagon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133360" y="533520"/>
            <a:ext cx="53316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133720" y="1066680"/>
            <a:ext cx="144756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95280" y="914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002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152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533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is sastāv no trīs trijstūriem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5335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419720" y="990720"/>
                <a:ext cx="838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GR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334120" y="99072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RV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172200" y="99072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V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7315200" y="11430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67080" y="17524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1600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6400800" y="1676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GRV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731520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iekšē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leņķu summa ir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629400" y="2590920"/>
                <a:ext cx="1752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9144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733920" y="2647800"/>
                <a:ext cx="2895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295280" y="327672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plūkojot trijstūra, četrstūra, piecstūra iekšējo leņķu summu iegūšanu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ar saskatīt sakarību, ka n – stūra iekšējo leņķu summa i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925880" y="4800600"/>
                <a:ext cx="2313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523880" y="5257800"/>
            <a:ext cx="304920" cy="60948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523880" y="4571640"/>
            <a:ext cx="457200" cy="6858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4572000"/>
            <a:ext cx="914400" cy="7632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648320"/>
            <a:ext cx="609840" cy="4572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5867280"/>
            <a:ext cx="1143000" cy="304920"/>
          </a:xfrm>
          <a:prstGeom prst="line">
            <a:avLst/>
          </a:prstGeom>
          <a:ln w="28440">
            <a:solidFill>
              <a:srgbClr val="99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1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4572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2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51055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3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28800" y="5638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4,..............,n- stū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24280" y="48769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induktīv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darot vispārīgus secinājumus no atsevišķu gadījumu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āda figūra būs nākamā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Kāda figūra būs nākamā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š skaitlis būs nākamais 7; 11; 15; 19;.....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2971800"/>
            <a:ext cx="12189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9528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971800"/>
            <a:ext cx="114300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2971800"/>
            <a:ext cx="1143000" cy="99072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657600" y="2895480"/>
            <a:ext cx="121932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57600" y="2895480"/>
            <a:ext cx="1219320" cy="10670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3200400"/>
            <a:ext cx="609480" cy="45720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31240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59092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876240" y="491508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1980720" y="4800600"/>
            <a:ext cx="762120" cy="838080"/>
          </a:xfrm>
          <a:custGeom>
            <a:avLst/>
            <a:gdLst>
              <a:gd name="textAreaLeft" fmla="*/ 254160 w 762120"/>
              <a:gd name="textAreaRight" fmla="*/ 653040 w 762120"/>
              <a:gd name="textAreaTop" fmla="*/ 5346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2971800" y="4800600"/>
            <a:ext cx="914400" cy="761760"/>
          </a:xfrm>
          <a:custGeom>
            <a:avLst/>
            <a:gdLst>
              <a:gd name="textAreaLeft" fmla="*/ 304920 w 914400"/>
              <a:gd name="textAreaRight" fmla="*/ 783360 w 91440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38480" y="50292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44956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induktīvie slēdzien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ē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Situācijas, kurās induktīvo spriešanu nevaram pilnīgi droši apgalvot ir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žādu stereotipu rašanās pamatā un bieži vien var būt maldinoš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52480" y="3124080"/>
            <a:ext cx="2840040" cy="31338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1381320" cy="32860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5257800" y="2514600"/>
            <a:ext cx="3352680" cy="914400"/>
          </a:xfrm>
          <a:prstGeom prst="cloudCallout">
            <a:avLst>
              <a:gd name="adj1" fmla="val -33523"/>
              <a:gd name="adj2" fmla="val 8003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Arial"/>
              </a:rPr>
              <a:t>Tātad visām meitenēm patīk sarkana krā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5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konstatējuši, ka 10 dažādos laikrakstos reklāma aizņem vismaz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20%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o avīzes laukuma, tad spriedums, ka “visās avīzēs reklām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izņem vismaz 20% no tā laukuma”, var būt nepati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novērojuši, ka visi mūsu paziņas vīrieši brauc ar automašīnām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u dzinēja tilpums ir vismaz 2 litri, mēs nedrīkstam pilnīgi droši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pgalvot, ka visi vīrieši brauc tikai ar šādām mašīn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2362320" cy="16495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2209680" y="2438280"/>
            <a:ext cx="2114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Ļaujot noformulēt idejas un izvirzīt hipotēzes par pētāmo procesu priekšmetu vai parādību. Vēlāk, šīs hipotēzes pamatojot, ir iespējams gūt apstiprinošu vai noliedzošu spriedumu par mūsu veiktajiem vērojum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zvirzi hipotēzi, kāda varētu būt nākamā figūr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337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5400000">
            <a:off x="2933280" y="346716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7339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952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52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290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19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62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3392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42900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6386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238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958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10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67280" y="47242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62720" y="3657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3352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04520" y="52578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16292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De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pamatotu spried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, ka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romba diagonāles krustpunktā dalās uz 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o  zinot, var droši apgalvot, ka arī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kvadrāta diagonāles krustpunktā dalās u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, jo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kvadrāts ir romba speciālgadīju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4495680"/>
            <a:ext cx="1676520" cy="15242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52578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44956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7160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146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8128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62320" y="4952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00400" y="41911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O=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O=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4572000"/>
            <a:ext cx="1219320" cy="106668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1500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71464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5562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9343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3432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7220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67480" y="4191120"/>
            <a:ext cx="1067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T=T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T=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deduktīvā slēdzienā jauns paties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mantojot iepriekš pierādītus faktus, patiesus apgalvojumus un loģiski secin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lielāks automašīnas ātrums, jo garāks ir tās bremzēšana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pat 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garāks bremzēšanas ceļš, jo garāks apstāšanā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 kā pirmie divi apgalvojumi ir patiesi, var secināt, ka patiess ir apgalvojums –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“jo lielāks ātrums, jo garāks apstāšanās ceļš”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, kas izriet no diviem patiesajiem apgalvojumie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deduktīvā ceļā iegūti spriedum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J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16765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Pierādīt teorēmas, pamatot faktu paties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3352680" y="2438280"/>
            <a:ext cx="221004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Eksperi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2895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3124080"/>
            <a:ext cx="2286000" cy="6098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In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81280" y="4038480"/>
            <a:ext cx="1447920" cy="3812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4419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76720" y="4724280"/>
            <a:ext cx="2361960" cy="5335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e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43400" y="5257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5486400"/>
            <a:ext cx="441936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s apstiprinājums vai nolieg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1523880"/>
            <a:ext cx="358164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Slēdzie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29718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Empīrisk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In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1500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De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as ir slēdzien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Slēdziens ir domāšanas forma, kurā no viena vai vairākiem spriedumiem tiek iegūts jauns spriedums. Sākotnējos spriedumus sauc par slēdziena premisām (no latīņu v. “praemissa” – priekšnoteikums), bet jauniegūto spriedumu – par slēdziena secināj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lēdziena piemērs, kur secinājums izriet no divām premisā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arūgtinājumi ir nepatīka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i sarūgtinājumi ir derī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as derīgas lietas ir nepatīkam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5410080" y="3962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Divas premi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76920" y="37339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05520" y="48006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34120" y="48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Secinā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Empīrisk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gūto pieredzi, uz sajūtām (dzird, redz, saož), izlasot vai dzird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Sarkanā gaisma sāk mirgot, tātad drīz luksoforā iedegsies dzeltenā gaisma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Pulksten astoņos no rīta, ejot garām maizes ceptuvei, var saost cepta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aizes smarž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3. “Ejam uz stundu, tikko nozvanīja zvans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13716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empīrisk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o Individuālas pieredzes.</a:t>
            </a: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.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1752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962671"/>
                </a:solidFill>
                <a:uFillTx/>
                <a:latin typeface="Tahoma"/>
              </a:rPr>
              <a:t>Vai empīriskie slēdzieni vienmēr ir paties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Nē.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Tā kā cilvēku pieredze ir individuāla, tad vienā un tajā pašā situācijā esošu dažādu cilvēku gūtā pieredze var būt dažāda.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Piemēri: No iepriekšējiem piemēri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” </a:t>
            </a: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būs patiess tiem cilvēkiem, kas neplāno savus izdevumus un ienākum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” ir spēkā tikai  kādai skolēnu daļa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Var palīdzēt pierādījuma veidošanā. Zināšanu  attīstīšanai, sevis pilnveidošan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Džons Lok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John Lock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163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29. august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70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28.oktobri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apgaismība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laikmeta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angļ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filozof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Empīrists. Viens no liberālisma pamatlicējie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Loks uzsvēra maņu, nevis intuīcijas vai dedukcijas, nozīmi zināšanu iegūšanā. Loks uzskatīja, ka piedzimstot cilvēka prāts ir k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tabula ra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tīra tāfele, uz kuras maņas atstāj nospiedumus, kas veido zināšanas. Viņš uzskatīja arī, ka visi cilvēki piedzimst labi, vienlīdzīgi un neatkarīg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3581280" y="1676520"/>
            <a:ext cx="1905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In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vairāku eksperimentu vai vērojumu laikā gūtiem 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i="1" lang="lv-LV" sz="20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Ticējumi, kas atticas uz laika apstākļiem – cilvēku novērojum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udzu gadu garumā ļauj secināt: “ja saule pēc saullēkta uzrei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eiet mākoņos – būs lietus”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3851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00120" y="382680"/>
          <a:ext cx="6051600" cy="92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82680"/>
                    <a:ext cx="60516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685800" y="16765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18600">
            <a:off x="2133720" y="2285640"/>
            <a:ext cx="1600200" cy="685800"/>
          </a:xfrm>
          <a:prstGeom prst="flowChartExtra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905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419720" y="2590920"/>
                <a:ext cx="3124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1295280" y="40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09680" y="4343400"/>
            <a:ext cx="144792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09680" y="4343400"/>
            <a:ext cx="14479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288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410080" y="4191120"/>
                <a:ext cx="6937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00600" y="4191120"/>
                <a:ext cx="3808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0" y="4495680"/>
                <a:ext cx="2057400" cy="2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K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NLK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4572000" y="3657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4724280"/>
                <a:ext cx="38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334120" y="4724280"/>
                <a:ext cx="6858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N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5029200"/>
                <a:ext cx="22100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L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6858000" y="4038480"/>
            <a:ext cx="304920" cy="129564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429000" y="5562720"/>
                <a:ext cx="41911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7315200" y="457200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571500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59:48Z</dcterms:created>
  <dc:creator>user</dc:creator>
  <dc:description/>
  <dc:language>en-US</dc:language>
  <cp:lastModifiedBy>Fizikas un Matemātikas fakultāte</cp:lastModifiedBy>
  <dcterms:modified xsi:type="dcterms:W3CDTF">2010-08-08T07:34:03Z</dcterms:modified>
  <cp:revision>94</cp:revision>
  <dc:subject/>
  <dc:title>Matemātiskā loģika un sadzīve.</dc:title>
</cp:coreProperties>
</file>