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2D6-A722-42CA-A3BC-5B53E87B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06D-1D22-4AC7-A4D6-5F2CDB71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D78-3DDE-4D18-80DF-C563C466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29C-A36F-49FF-968B-D40AD17A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02EF-49C2-404E-AAC2-804C8F85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F5DA-D40E-4497-86E9-3828FFBE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CC09-8181-4C79-9A5F-57CFEB3B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FFD3-6C1E-4C37-8E94-8F1C50DA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974-2A0E-474F-A2E2-EC32EDB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8E7C-CC65-4D43-9ED0-CF88C752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AD63-7893-4A43-940B-C5C41C94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1DD-ECC0-4111-9573-9497E74D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CBE5-8106-4D8F-A981-F86F6BD6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249A-EBEE-4212-97B9-B00A5F7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309B-BE46-4C6C-B446-ECC8214D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9AD8-F632-4A80-9800-A026084E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53DF-A3A5-4F76-951A-49651F5F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276-9F4A-43C6-BF56-37FB5D04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184-25B7-463F-97F6-964852F3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07F-FA52-460D-B1C4-558A7517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F1B-4AC0-4B33-96F4-3D62C544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49E-EC35-4DCE-97CD-FF87A127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7D4-B0BB-42F9-AF5B-656FC6BF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670-911D-4363-98ED-40726237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6095-6A76-4408-996F-D258DA9346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C641-368A-41E6-8407-853DA539B8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saki slēdziena veid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9680"/>
          <a:ext cx="8229600" cy="4530960"/>
        </p:xfrm>
        <a:graphic>
          <a:graphicData uri="http://schemas.openxmlformats.org/drawingml/2006/table">
            <a:tbl>
              <a:tblPr/>
              <a:tblGrid>
                <a:gridCol w="4656240"/>
                <a:gridCol w="1244520"/>
                <a:gridCol w="1146240"/>
                <a:gridCol w="1182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īris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Kad saulei rietot gaiļi dzied, tad lai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īsi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uvojoties semestra beigām, skolēni sāk labot atzī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Vasarā es guļu līdz 11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 maijā daudz odu – b</a:t>
                      </a:r>
                      <a:r>
                        <a:rPr b="1" lang="lv-LV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agāts rudens (Latviešu tautas ticēju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Taisnleņķa trijstūra šauro leņķu summa ir 9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Jo lielāks ir automašīnas ātrums, jo garāks ir tās bremzēšanas ceļš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isiem trijstūriem iekšējo leņķu summa ir    18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saki, izteikums ir patiess vai apla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657600"/>
                <a:ext cx="53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838080" y="2286000"/>
          <a:ext cx="7086600" cy="4383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teik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eme ir Saules sistēmas planē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kaitlis 17 ir pirmskait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alatinoLinotype-Roman"/>
                        </a:rPr>
                        <a:t>3. Funkcijas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ks vienmē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das I un III  kvadrant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Vienādmalu trijstūrim visi iekšējie leņķi ir 6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mba diagonāles ir perpendikulā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Skaitlis 63 nedalās a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aralēlas taisnes krusto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38:01Z</dcterms:created>
  <dc:creator>Girsts</dc:creator>
  <dc:description/>
  <dc:language>en-US</dc:language>
  <cp:lastModifiedBy>Fizikas un Matemātikas fakultāte</cp:lastModifiedBy>
  <dcterms:modified xsi:type="dcterms:W3CDTF">2010-08-08T08:18:41Z</dcterms:modified>
  <cp:revision>65</cp:revision>
  <dc:subject/>
  <dc:title>Semestra darbs</dc:title>
</cp:coreProperties>
</file>