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4E9-5BC1-489C-9F93-4ADB9C30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DBC-1EA8-4B4C-AB67-316F0C45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831-B365-43AE-B535-48DBCFCD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9BBA-432B-4A50-84B3-574C3C46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60C4-9ABE-4A47-8A79-2A5CA8CE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B451-E284-4AC4-86B2-788F337E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6FBF-C25A-45D0-BCE4-DD12775A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1624-3288-4ADA-B5DE-74952CBA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4125-7A83-4E3E-A57D-6CB1EA91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E8A2-1C28-4946-8561-666E8C3A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803E-270B-4944-98B0-3B3D3328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05CC-B4CD-4E87-8CCB-16AA606A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69C7-A6E1-4C35-A326-DCB1EC2F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EBBA-4EEA-4A5F-AA85-F8C69CF0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63F2-053C-4CB3-AE4C-2BD62C7B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CA03-1E5D-4989-9554-AD80D986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F507-ACA1-45A8-A468-0107226A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586-22CB-4B0C-8D59-5DB75DFC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C5B9-0374-4FEE-824D-671C2BDD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D2A7-136C-49E3-B0F7-FA0818DC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CE5-6AB7-4966-9BB3-183BF908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57C0-6D3E-42CE-B31D-2B963D27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E577-722A-46E0-94EE-F8F831E6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4642-3247-4CBB-986A-C53E32A7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9EE4-821F-49B0-9335-0F6969FFF97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9D45-4750-4915-BBAD-34C475DE083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800" spc="-1" strike="noStrike">
                <a:solidFill>
                  <a:srgbClr val="999900"/>
                </a:solidFill>
                <a:latin typeface="Garamond"/>
              </a:rPr>
              <a:t>Kopa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teorijas pamatelement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Kas ir kop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628640"/>
            <a:ext cx="3456000" cy="41054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7600" y="2060640"/>
            <a:ext cx="39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ir kaut kādu priekšmetu kop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95640" y="4869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492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1916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2276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2997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3716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2852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8160" y="17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5080" y="2421000"/>
            <a:ext cx="38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as ir kopas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2924280"/>
            <a:ext cx="396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ar kopas elementu var būt jebkā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riekšmets, kā reāls ,kā arī kaut k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ereā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otajā gadījumā tie ir bur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4000" y="414972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as ir tukša kop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6520" y="465300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Tukša kopa ir kopa kurā n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eviena ele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Apakško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773360"/>
            <a:ext cx="3673800" cy="3311280"/>
          </a:xfrm>
          <a:prstGeom prst="ellipse">
            <a:avLst/>
          </a:prstGeom>
          <a:solidFill>
            <a:srgbClr val="17eb2b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2492280"/>
            <a:ext cx="1727280" cy="1657440"/>
          </a:xfrm>
          <a:prstGeom prst="ellipse">
            <a:avLst/>
          </a:prstGeom>
          <a:solidFill>
            <a:srgbClr val="17eb2b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81800" y="270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8160" y="234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49720" y="1413000"/>
            <a:ext cx="409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A ir kopas B apakškopa ja v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elementi (punkti), kas pieder kop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A, pieder arī kopai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2781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21337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3068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3357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4360" y="26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076720" y="2421000"/>
                <a:ext cx="2448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,d,f</m:t>
                            </m:r>
                          </m:e>
                        </m:d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,b,c,d,f,g,h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⊂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292720" y="162864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UB pieder visi tie elementi (punkti), kas pieder kopai A, vai pieder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1280" y="357192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UB={1,2,3,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318280" y="2781360"/>
                <a:ext cx="359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vai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4160" y="3429000"/>
            <a:ext cx="124596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apvienoj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15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155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15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15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16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163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18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šķēl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1628640"/>
            <a:ext cx="36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B pieder visi tie elementi (punkti), kas vienlaicīgi pieder kopai A un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91280" y="357192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UB={4,5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281560" y="2997360"/>
                <a:ext cx="352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n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9af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4160" y="3429000"/>
            <a:ext cx="124596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193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19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19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20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22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starpīb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1773360"/>
            <a:ext cx="36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\B pieder visi tie elementi (punkti), kas vienlaicīgi pieder kopai A, bet nepieder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364500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\B={1,2,3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270828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2637000"/>
            <a:ext cx="359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219640" y="3068640"/>
                <a:ext cx="3456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n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∉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3440" y="3429000"/>
            <a:ext cx="11455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\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25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25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26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262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264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266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papildināj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162864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Ā pieder visi tie elementi (punkti), kas nepieder kopa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724360" y="2708280"/>
                <a:ext cx="1681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∉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826920" y="1628640"/>
            <a:ext cx="3673800" cy="3095640"/>
          </a:xfrm>
          <a:prstGeom prst="rect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1989000"/>
            <a:ext cx="1944720" cy="2087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94172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360" y="494172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20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31417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79640" y="2852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7440" y="220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651640" y="3860640"/>
                <a:ext cx="172872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∈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4:32:08Z</dcterms:created>
  <dc:creator>HOMEEEE</dc:creator>
  <dc:description/>
  <dc:language>en-US</dc:language>
  <cp:lastModifiedBy>Fizikas un Matemātikas fakultāte</cp:lastModifiedBy>
  <dcterms:modified xsi:type="dcterms:W3CDTF">2010-08-08T08:10:50Z</dcterms:modified>
  <cp:revision>4</cp:revision>
  <dc:subject/>
  <dc:title>Matemātiskie spriedumi un sadzīve</dc:title>
</cp:coreProperties>
</file>