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09CA1C-DA6B-44A3-B532-2CB92FC943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D1E29-4359-42FD-B1CD-0FCB608E0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520B40-9A56-461E-8A6B-44432CC7CB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4EA70-ACB0-4C03-B356-1A34924E49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E3310-3447-4CAE-8F48-E669AD634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C7FD9-4BBF-40D5-8AF7-F556D84DC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3BC76-96CB-45A9-AED1-04BE96958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B18EC-0452-43E4-BCA3-AD83F5325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3F1A2-9EFB-4EE1-845C-ED34B4C50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B5EB3-D731-4DF6-A27C-B1243AAD0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121B5-73F8-43B3-AFFE-DE66D5F4A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017BD-2802-4BBD-9F23-F6F2F2B71B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4A1D4-B110-416A-823F-0327F4CD65F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Matemātika un loģika sadzīvē</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Netici visam, ko tev stāsta</a:t>
            </a:r>
            <a:endParaRPr b="0" lang="en-US" sz="4400" spc="-1" strike="noStrike">
              <a:solidFill>
                <a:srgbClr val="000000"/>
              </a:solidFill>
              <a:latin typeface="Arial"/>
            </a:endParaRPr>
          </a:p>
        </p:txBody>
      </p:sp>
      <p:sp>
        <p:nvSpPr>
          <p:cNvPr id="43" name="PlaceHolder 2"/>
          <p:cNvSpPr>
            <a:spLocks noGrp="1"/>
          </p:cNvSpPr>
          <p:nvPr>
            <p:ph/>
          </p:nvPr>
        </p:nvSpPr>
        <p:spPr>
          <a:xfrm>
            <a:off x="468000" y="1628640"/>
            <a:ext cx="82184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Reiz kāds skolēns X, kas neko nezināja par piramīdām un lodi, nejauši nokļuva skolēnu zinātnisko darbu konferencē.</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Referents Y pārliecinoši izstāstīja un pamatoja, ka ap jebkuru lodi var apvilkt piramīdu, un tāpēc patiess ir arī apgalvojums (teorēma), ka jebkurā piramīdā var ievilkt lod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Skolēns X aizdomājā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Kas abos gadījumos kopīg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līst lietus, tad es ņemu lietussarg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es ņemu lietussargu, tad līst liet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Abos gadījumos, gan par piramīdu un lodi, gan par lietu un lietussargu ir pielietota loģiska shēma, domu gājiens, ka, j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patiess ir A, tad patiess ir arī B (to pierā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Tad tiek secināts arī otrādi (bez pierādījum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Kas abos gadījumos kopīg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Tā kā, acīmredzami, nevar vienmēr droši apgalvot spriedumu patiesumu, tad gadījumā par lodi un piramīd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dotā apgalvojuma apgrieztā apgalvojuma patiesums ir jāpierā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Pievērsiet uzmanību!</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Lai slēdzienos ( domu gaitā, pamatojumos) atrastu kļūdu, dažreiz vari būt arī nekompetents dotajā tematik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Kur palicis noziedzniek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Divi policisti, katrs ar savu auto, dzenas pakaļ noziedzniekam. Pēkšņi ceļš sadalās divos ceļos un katrs policists aizbrauc pa vienu no tiem. Matemātiski aprēķini rāda, ka pēc piecām minūtēm kādam no policistiem jāpanāk noziedznieks, jo policisti brauc ātrāk nekā bēgošais noziedznieks un citu ceļu na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Kur palicis noziedzniek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Bet, tā nenotika. Kāpē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1.Ceļš sadalījās vairākos ceļos (netika teikts, ka tikai, vai tieši div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2.Noziedznieks uzkāpa kokā un paslēpā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3.Noziedznieks aizbrauca pa pļav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4. Policistam sākās sirdslēkme un viņš bija spiests apstāt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24000" y="260280"/>
            <a:ext cx="8362800" cy="437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Dažreiz pat visprecīzākie matemātiskie aprēķini nedod gaidīto rezultātu, jāapskata visi iespējamie gadījumi.</a:t>
            </a:r>
            <a:endParaRPr b="0" lang="en-US" sz="4000" spc="-1" strike="noStrike">
              <a:solidFill>
                <a:srgbClr val="000000"/>
              </a:solidFill>
              <a:latin typeface="Arial"/>
            </a:endParaRPr>
          </a:p>
        </p:txBody>
      </p:sp>
      <p:sp>
        <p:nvSpPr>
          <p:cNvPr id="55" name=""/>
          <p:cNvSpPr/>
          <p:nvPr/>
        </p:nvSpPr>
        <p:spPr>
          <a:xfrm>
            <a:off x="3782160" y="83664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Uzmanīb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9T10:02:37Z</dcterms:created>
  <dc:creator>DJ_Diesel</dc:creator>
  <dc:description/>
  <dc:language>en-US</dc:language>
  <cp:lastModifiedBy>Fizikas un Matemātikas fakultāte</cp:lastModifiedBy>
  <dcterms:modified xsi:type="dcterms:W3CDTF">2010-08-08T07:05:38Z</dcterms:modified>
  <cp:revision>19</cp:revision>
  <dc:subject/>
  <dc:title>Математика и логика в быту</dc:title>
</cp:coreProperties>
</file>