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6B0-4316-4635-94B8-7760165C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866-4081-4DC3-8952-61B65167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3CE-39F4-4C56-AFD3-DE78D93D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66D-E7E6-4848-BC68-80171951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E020-8EC9-4C17-B380-AB152C9A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7223-6030-40A4-B990-CF3E51A1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C213-FCEE-445A-93F9-3921A064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AD96-F20B-468D-AA26-F6EA8046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2AD2-6841-4EFC-A29F-02578B3D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A83C-1505-46AB-B053-16A4EE23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37AB-9957-4133-8DD1-B66FC6C0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9B1-4509-43C1-BE0D-6B371F59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0DE9-DE45-4780-9EE2-49142E22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0BFF-392B-4E53-99AA-726FADBF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9F37-4267-4F20-A574-3C4FEE5E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A6AB-9F7A-4A93-97C9-7470E9BE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9AEB-B5C1-464E-A160-CE8AD8A6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70B-7031-4A80-A2AD-D2FB157E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14E-F8A6-400B-9F9D-A76C420F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A72-B94D-4D90-A8D6-39D25E58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06CE-1C94-46A6-A314-D4EA47FA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256-4ADE-4065-9B38-179C6648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2BA-C20D-47A6-BF37-4067693A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D7B-49BD-4A26-BA56-C5B1F72C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2B3B-4F6B-4F67-931F-CD94F9B3705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4947-F2DD-485B-90A8-DEA6ACD86F6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333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03280" y="2637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vieno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376360" cy="1376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907920"/>
            <a:ext cx="2303640" cy="1609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2232000" cy="1631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5003640" y="3357720"/>
            <a:ext cx="2160720" cy="1809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580000" y="2492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Šķē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76360" y="501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tarpī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92720" y="5300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akško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730520" y="2989440"/>
                <a:ext cx="898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769000" y="2768760"/>
                <a:ext cx="898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657440" y="5349960"/>
                <a:ext cx="749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468760" y="5559480"/>
                <a:ext cx="8956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133200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40053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94520" y="10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58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0508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18160" y="148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78880" y="126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24360" y="42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1979280" y="2205000"/>
            <a:ext cx="14436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0360" y="1773360"/>
            <a:ext cx="216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1834920" y="4652640"/>
            <a:ext cx="14436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796000" y="4581360"/>
            <a:ext cx="21600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95640" y="404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052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Piemēri</a:t>
            </a:r>
            <a:r>
              <a:rPr b="1" i="1" lang="lv-LV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1628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ādas skolas visi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i</a:t>
            </a: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2133720"/>
            <a:ext cx="56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a, kā viena no visām skolām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apakš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2708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as  el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8360" y="3213000"/>
            <a:ext cx="813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Meitenes klasē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starpība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, ja A – visi skolēni klasē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B – zēni , kuri mācās klasē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A\B – skolēni no klases, kuri nav zē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472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Klase, kurā mācās gan zēni, gan meitene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apvienoju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52:06Z</dcterms:created>
  <dc:creator>Nadja</dc:creator>
  <dc:description/>
  <dc:language>en-US</dc:language>
  <cp:lastModifiedBy>Fizikas un Matemātikas fakultāte</cp:lastModifiedBy>
  <dcterms:modified xsi:type="dcterms:W3CDTF">2010-08-08T08:34:51Z</dcterms:modified>
  <cp:revision>69</cp:revision>
  <dc:subject/>
  <dc:title>Palīgmateriāls</dc:title>
</cp:coreProperties>
</file>