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34051-AC31-49D0-BF43-8F4B45ED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72E37-ACA7-40AE-9397-4A643B5A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B39ED-7CBF-4980-8D22-2EF78DF3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DEA8C-D0AD-40E5-9CE6-8B6875FE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00C4-27FF-4D0D-B6E2-0C3E775B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A209-2223-4125-A553-2D861B50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EBBE-6871-4B71-B4ED-87C63672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1536-212B-4E2C-9C2E-59A312E6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5D0E-035C-4CDE-BA10-934D603D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F307-F893-4E18-B344-954F801F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3F17-AC9E-4B0D-BB3B-6CF65C4D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0DC67-817F-4B1F-B8EF-FFD224FA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49D6-16B7-4415-945A-FE346492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66F0-DFFF-4DF4-B6B0-3581F82F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3716-206A-49D6-ADA7-6F43C572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6B3F-84B8-4077-ABF3-82CD149F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B52F-7399-436D-9972-D9C76C72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9289B-77E3-486E-97C6-98BDC1F9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D5EF7-F355-43DA-B399-44713663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3502D-CA2B-4E75-BE56-94E325A0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4B259-F939-47EA-8B6C-EEDBA78C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D96F3-7DA6-471C-8099-FEAAC004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106BD-D2E7-4D2B-9C5A-FA53A24E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1F97B-2874-4FD1-A09C-74ADD04F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0552-2CB8-41A4-9E87-49D04ADD0171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62FE-74EA-4F75-9547-25D975BD4C52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"/>
              </a:rPr>
              <a:t>Matemātiskie slēdzieni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kviens no mums ir kādreiz nonācis situācijā, kad nākas pamatot savu viedokl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izstāvēt pozīciju un argumentēt savu izvēli. Nereti no tā, cik veiksmīgi esam mācējuši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zdarīt, ir atkarīga mūs interesējošo lēmumu pieņemšana. Katru dienu mēs vēroja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alizējam, vērtējam un secinām. Lai varētu plānot dažādu procesu tālākās norises, mē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enšamies pamanīt vai noteikt šo procesu likumsakarības. Pamatot savu viedokli mu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līdz ne tikai informācijas pieejamība, bet arī prasme loģiski spriest. Ir pazīstami dažā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priešanas paņēmieni, spriedumu un secinājumu iegūšanas vei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305680" cy="3981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059280" y="335772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2657520" cy="3324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556000" y="2924280"/>
            <a:ext cx="4444920" cy="3105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348000" y="2997360"/>
            <a:ext cx="2978280" cy="3044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2987640" y="2852640"/>
            <a:ext cx="3529080" cy="352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3564000" y="3141720"/>
            <a:ext cx="2666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80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1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1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6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680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3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14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9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635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35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Kādi varbūt slēdzien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2997360"/>
            <a:ext cx="1368360" cy="1511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lēdzi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V="1">
            <a:off x="4500360" y="2204280"/>
            <a:ext cx="108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3203640" y="1628640"/>
            <a:ext cx="2592360" cy="576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īri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/>
          <p:nvPr/>
        </p:nvCxnSpPr>
        <p:spPr>
          <a:xfrm>
            <a:off x="4932000" y="4292280"/>
            <a:ext cx="63252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5003640" y="4869000"/>
            <a:ext cx="259272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ktī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/>
          <p:nvPr/>
        </p:nvCxnSpPr>
        <p:spPr>
          <a:xfrm flipH="1">
            <a:off x="3276000" y="4292280"/>
            <a:ext cx="70380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1258920" y="4869000"/>
            <a:ext cx="259236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uktī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45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450"/>
                            </p:stCondLst>
                            <p:childTnLst>
                              <p:par>
                                <p:cTn id="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95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95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45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45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95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Empīrisk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Empīriski slēdzieni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– ( no grieķu ‘empeiria’  - pieredze) slēdzieni, kas tiek izdarī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balstoties uz iepriekš gūtu pieredz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Tā kā cilvēku pieredze ir individuāla, tad vienā un tajā pašā situācijā esošu dažā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cilvēku gūtā pieredze var būt dažāda. Tieši tāpēc uz pieredzi balstīti jeb empīri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slēdzienii nevar kļūt par loģiska pierādījuma pamatu, jo tie ne vienmēr ir patiesi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attiecināmi uz visiem gadījum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1)Teksta uzdevumi parasti ir grūtāki par citiem uzdevum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2) Ģeometrija ir sarežģītāka nekā algeb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3)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35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45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5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55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6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965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16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245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78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Induktīv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Induktīvi slēdzieni- </a:t>
            </a: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(no latīņu ‘inductio’ — uzvedināšana, ierosināšana) slēdzien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kas tiek izdarīti balstoties uz vairāku eksperimentu vai vērojumu laikā gūtiem rezultāt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Induktīvās spriešanas pamatā ir vispārīgu secinājumu izdarīšana, balstoties uz atsevišķ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gadījumu rezultāt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1)Riharda, Aivara, Reinera, Imanta, Ivo meitenēm ir blondi mati, tātad zēniem vairāk patīk meitenes ar blondiem mati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2) Ja saule pēc saullēkta uzreiz ieiet mākoņos — būs lie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3)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35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55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4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85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67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23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25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Deduktīv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duktīvi slēdzieni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no latīņu valodas ‘deductio’ — izvešana, aizveša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lēdzieni, kad katrs nākamais secinājums tiek balstīts uz iepriekš pamatotu spriedu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duktīvas spriešanas gaitā secinājumi tiek iegūti, izmantojot iepriekš pierādītus fak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 patiesus apgalvojum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1)Romba diagonāles krustpunktā dalās uz pusēm, tātad arī kvadrāta diagonāles krustpunktā dalās uz pusēm, jo kvadrāts ir romba speciālgadīju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2)Jo lielāks automašīnas ātrums, jo garāks ir tās bremzēšanas ceļš. Jo garā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bremzēšanas ceļš, jo garāks apstāšanās ceļš. Tātad jo lielāks ātrums, jo garā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apstāšanās ceļ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3)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2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45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9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35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75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96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8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4:19:11Z</dcterms:created>
  <dc:creator>santa</dc:creator>
  <dc:description/>
  <dc:language>en-US</dc:language>
  <cp:lastModifiedBy>Fizikas un Matemātikas fakultāte</cp:lastModifiedBy>
  <dcterms:modified xsi:type="dcterms:W3CDTF">2010-08-08T08:02:33Z</dcterms:modified>
  <cp:revision>31</cp:revision>
  <dc:subject/>
  <dc:title>Matemātiskie spriedumi</dc:title>
</cp:coreProperties>
</file>