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71A-AE92-4A63-94C4-4B90CEFD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D6A9-607D-4EB6-ABAE-13B8643B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0204-C38B-489D-9AC9-F4C5AE82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A6CF-7629-4F4C-9401-2E95A51D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86D6-D35D-41E1-A907-CE6FA948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24DE-D938-4882-8FA4-672E583D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C477-1EFE-4466-9627-A03400F3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E5DD-9E08-444A-B684-AC3E5936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761D-0DC8-4EF4-AB32-0CE8F36D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8436-45BE-4842-A5F0-E5BC9D3E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9ED3-BA16-4D2B-9E3D-292E6609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8340-60E3-4ADA-885B-99ED423F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3BB3-593E-42E3-81B1-4E19FD33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988B-8080-432A-BFBB-A16C4617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2FE3-7B32-4E27-86A5-1AC6F09D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3ABC-291A-4BA9-AA7D-E0952811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5F38-128F-4C41-937B-C600732D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83D38-4AAB-4CD8-B5EE-BB7CBB35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54AAF-2454-41E8-8A82-86982ACC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6BFC8-B659-4915-8085-B97DC794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BD6EC-89AE-44B2-A422-7F185C31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63956-4C4E-4E2D-B5E1-0E648877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0DBF-1FFE-4D8E-B36C-0EA72638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E3156-D822-4856-A738-BAC0076E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63857-6C32-4506-8C4D-0667500E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DC634-FD2D-4F23-87DC-5874021E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FA0B7-3A19-4C1C-A11B-730B9D61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C61A7-69C9-44D2-919D-BD879C51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B0295-02AE-4AE5-8481-60244898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D6BCC-7B12-4AF5-A726-6015C0D4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C2E3D-80C6-44CD-B861-48507F36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60BEC-9521-46E4-881B-B6CEF73E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394D5-BAAA-44B9-A61E-A0360A21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F00-4DC8-44BD-8BB3-B8827584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9AEB7-1BF1-44AE-9F7C-956CF7B5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878C7-183A-4DF9-A855-96FFEB4D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55E0B-1B75-4ECE-88FA-EE4B34A2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D2000-0188-4C49-A850-E3E12B53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E4A60-B23E-4CF0-B7E1-EC47C232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B5C4A-23D1-461D-8EE8-6FA7C1CC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86C3A-E2BD-42BF-9BB2-09B9CC1D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61C73-F2C2-42C8-A4BA-E267DD40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B789A-DBE0-45B7-982C-FBB910CB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2D32-AF32-4A0B-987D-B52CC3DA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0ABB-EA94-48B9-A628-9B5FBAD7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E5E7-541A-4C32-B71C-99E4E550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6C6F-DE33-46E1-AEA2-32C0F230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1EF6-897E-4468-A7D0-E6D9F62D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5532-E21C-418A-8DA4-A066B3603DB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853F-FA89-43A7-ABA6-9007DA32EF1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E6F9-3550-4BD0-9507-D661C46A1A7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6AFC-F5BD-4481-A534-8AD42774664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tle 1"/>
          <p:cNvSpPr/>
          <p:nvPr/>
        </p:nvSpPr>
        <p:spPr>
          <a:xfrm>
            <a:off x="250920" y="260280"/>
            <a:ext cx="86630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Kopu teorijas pamatjēdzie</a:t>
            </a: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ni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opu teorijas pamatjēdzien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58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opa-Kopas jēdziens ir viens no matemātikas pamatjēdzieniem.  Par kopu matemātikā var uzskatīt atsevišķu objektu veidotu jaunu un vienotu apvienojumu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urpmāk pieņemsim un darbosimies ar divām kopām: A un B (darīsim tā tikai uzskatāmības dēļ, faktiski, visi atzinumi ir derīgi jebkādam kopu skaitam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1576440" y="4000680"/>
            <a:ext cx="2781360" cy="2714400"/>
            <a:chOff x="1576440" y="4000680"/>
            <a:chExt cx="2781360" cy="2714400"/>
          </a:xfrm>
        </p:grpSpPr>
        <p:sp>
          <p:nvSpPr>
            <p:cNvPr id="199" name="Oval 3"/>
            <p:cNvSpPr/>
            <p:nvPr/>
          </p:nvSpPr>
          <p:spPr>
            <a:xfrm>
              <a:off x="1643040" y="400068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6"/>
            <p:cNvSpPr/>
            <p:nvPr/>
          </p:nvSpPr>
          <p:spPr>
            <a:xfrm>
              <a:off x="1576440" y="400068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"/>
          <p:cNvGrpSpPr/>
          <p:nvPr/>
        </p:nvGrpSpPr>
        <p:grpSpPr>
          <a:xfrm>
            <a:off x="5214960" y="4000680"/>
            <a:ext cx="2857320" cy="2724120"/>
            <a:chOff x="5214960" y="4000680"/>
            <a:chExt cx="2857320" cy="2724120"/>
          </a:xfrm>
        </p:grpSpPr>
        <p:sp>
          <p:nvSpPr>
            <p:cNvPr id="202" name="Oval 5"/>
            <p:cNvSpPr/>
            <p:nvPr/>
          </p:nvSpPr>
          <p:spPr>
            <a:xfrm>
              <a:off x="5214960" y="4000680"/>
              <a:ext cx="2724120" cy="2724120"/>
            </a:xfrm>
            <a:prstGeom prst="ellipse">
              <a:avLst/>
            </a:prstGeom>
            <a:solidFill>
              <a:srgbClr val="55a839"/>
            </a:solidFill>
            <a:ln w="25560">
              <a:solidFill>
                <a:srgbClr val="387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7"/>
            <p:cNvSpPr/>
            <p:nvPr/>
          </p:nvSpPr>
          <p:spPr>
            <a:xfrm>
              <a:off x="7607160" y="4000680"/>
              <a:ext cx="46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as elementi- matemātiskie objekti, no kā sastāv kop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1643040" y="2571840"/>
            <a:ext cx="2781360" cy="2714400"/>
            <a:chOff x="1643040" y="2571840"/>
            <a:chExt cx="2781360" cy="2714400"/>
          </a:xfrm>
        </p:grpSpPr>
        <p:sp>
          <p:nvSpPr>
            <p:cNvPr id="207" name="Oval 4"/>
            <p:cNvSpPr/>
            <p:nvPr/>
          </p:nvSpPr>
          <p:spPr>
            <a:xfrm>
              <a:off x="1709640" y="257184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5"/>
            <p:cNvSpPr/>
            <p:nvPr/>
          </p:nvSpPr>
          <p:spPr>
            <a:xfrm>
              <a:off x="1643040" y="257184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1"/>
          <p:cNvSpPr/>
          <p:nvPr/>
        </p:nvSpPr>
        <p:spPr>
          <a:xfrm>
            <a:off x="3571920" y="35719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2214720" y="38577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3071880" y="26431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2571840" y="32860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0"/>
          <p:cNvSpPr/>
          <p:nvPr/>
        </p:nvSpPr>
        <p:spPr>
          <a:xfrm>
            <a:off x="5504760" y="35002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={a;b;c;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kša kopa-kopa, kas nesatur nevienu elemen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1643040" y="2571840"/>
            <a:ext cx="2781360" cy="2714400"/>
            <a:chOff x="1643040" y="2571840"/>
            <a:chExt cx="2781360" cy="2714400"/>
          </a:xfrm>
        </p:grpSpPr>
        <p:sp>
          <p:nvSpPr>
            <p:cNvPr id="217" name="Oval 4"/>
            <p:cNvSpPr/>
            <p:nvPr/>
          </p:nvSpPr>
          <p:spPr>
            <a:xfrm>
              <a:off x="1709640" y="257184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5"/>
            <p:cNvSpPr/>
            <p:nvPr/>
          </p:nvSpPr>
          <p:spPr>
            <a:xfrm>
              <a:off x="1643040" y="257184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Box 20"/>
          <p:cNvSpPr/>
          <p:nvPr/>
        </p:nvSpPr>
        <p:spPr>
          <a:xfrm>
            <a:off x="5525280" y="3500280"/>
            <a:ext cx="20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={} jeb A=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onstantia"/>
              </a:rPr>
              <a:t>Galīga kopa-kopa, kas satur galīgu skaitu elementu. Piemēram, kopa A (Latvijas Valsts prezidenti pēc 1991.gada)={Guntis Ulmanis, Vaira Vīķe-Freiberga, Valdis Zatlers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onstantia"/>
              </a:rPr>
              <a:t>Bezgalīga kopa-kopa, kas satur bezgalīgu skaitu elementu. Piemēram, kopa B (pozitīvo naturālo skaitļu kopa)={1,2,3,4,....}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arbības ar kopā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u šķēlums-par divu kopu A un B šķēlumu sauc kopu C, tādu kuras elementi pieder abām dotajām kopām A un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1500120" y="3571920"/>
            <a:ext cx="2781360" cy="2714760"/>
            <a:chOff x="1500120" y="3571920"/>
            <a:chExt cx="2781360" cy="2714760"/>
          </a:xfrm>
        </p:grpSpPr>
        <p:sp>
          <p:nvSpPr>
            <p:cNvPr id="225" name="Oval 4"/>
            <p:cNvSpPr/>
            <p:nvPr/>
          </p:nvSpPr>
          <p:spPr>
            <a:xfrm>
              <a:off x="1566720" y="3571920"/>
              <a:ext cx="2714760" cy="271476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"/>
            <p:cNvSpPr/>
            <p:nvPr/>
          </p:nvSpPr>
          <p:spPr>
            <a:xfrm>
              <a:off x="1500120" y="357192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Group 6" descr=""/>
          <p:cNvPicPr/>
          <p:nvPr/>
        </p:nvPicPr>
        <p:blipFill>
          <a:blip r:embed="rId2"/>
          <a:stretch/>
        </p:blipFill>
        <p:spPr>
          <a:xfrm>
            <a:off x="3054240" y="3584520"/>
            <a:ext cx="2932200" cy="28036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0"/>
          <p:cNvSpPr/>
          <p:nvPr/>
        </p:nvSpPr>
        <p:spPr>
          <a:xfrm flipH="1">
            <a:off x="3999960" y="32860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3500280" y="48578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2428920" y="51436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3429000" y="42148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2571840" y="41432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4286160" y="39290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4500720" y="52149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2928960" y="36432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9"/>
          <p:cNvSpPr/>
          <p:nvPr/>
        </p:nvSpPr>
        <p:spPr>
          <a:xfrm>
            <a:off x="6072120" y="40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      B=C={b;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6357960" y="4071960"/>
                <a:ext cx="4842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u apvienojums-par divu kopu A un B apvienojumu sauc kopu C, tādu kuras elementi pieder kopai A vai kopai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000080" y="3214800"/>
            <a:ext cx="2781360" cy="2714400"/>
            <a:chOff x="1000080" y="3214800"/>
            <a:chExt cx="2781360" cy="2714400"/>
          </a:xfrm>
        </p:grpSpPr>
        <p:sp>
          <p:nvSpPr>
            <p:cNvPr id="240" name="Oval 4"/>
            <p:cNvSpPr/>
            <p:nvPr/>
          </p:nvSpPr>
          <p:spPr>
            <a:xfrm>
              <a:off x="1066680" y="321480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5"/>
            <p:cNvSpPr/>
            <p:nvPr/>
          </p:nvSpPr>
          <p:spPr>
            <a:xfrm>
              <a:off x="1000080" y="321480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Group 6" descr=""/>
          <p:cNvPicPr/>
          <p:nvPr/>
        </p:nvPicPr>
        <p:blipFill>
          <a:blip r:embed="rId2"/>
          <a:stretch/>
        </p:blipFill>
        <p:spPr>
          <a:xfrm>
            <a:off x="2481120" y="3157560"/>
            <a:ext cx="2938680" cy="27986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0"/>
          <p:cNvSpPr/>
          <p:nvPr/>
        </p:nvSpPr>
        <p:spPr>
          <a:xfrm flipH="1">
            <a:off x="2928240" y="25002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4071960" y="49291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2928960" y="4643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3786120" y="3429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2571840" y="41432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4286160" y="39290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1500120" y="44290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2143080" y="35719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9"/>
          <p:cNvSpPr/>
          <p:nvPr/>
        </p:nvSpPr>
        <p:spPr>
          <a:xfrm>
            <a:off x="5429160" y="40006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    B=C={a;b;c;d;e;f;g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3"/>
              <p:cNvSpPr txBox="1"/>
              <p:nvPr/>
            </p:nvSpPr>
            <p:spPr>
              <a:xfrm>
                <a:off x="5643720" y="4071960"/>
                <a:ext cx="4093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u starpība-par divu kopu A un B starpību sauc kopu C, tādu kuras elementi pieder kopai A ,bet nepieder kopai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1000080" y="3214800"/>
            <a:ext cx="2781360" cy="2714400"/>
            <a:chOff x="1000080" y="3214800"/>
            <a:chExt cx="2781360" cy="2714400"/>
          </a:xfrm>
        </p:grpSpPr>
        <p:sp>
          <p:nvSpPr>
            <p:cNvPr id="255" name="Oval 4"/>
            <p:cNvSpPr/>
            <p:nvPr/>
          </p:nvSpPr>
          <p:spPr>
            <a:xfrm>
              <a:off x="1066680" y="321480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5"/>
            <p:cNvSpPr/>
            <p:nvPr/>
          </p:nvSpPr>
          <p:spPr>
            <a:xfrm>
              <a:off x="1000080" y="321480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Group 6" descr=""/>
          <p:cNvPicPr/>
          <p:nvPr/>
        </p:nvPicPr>
        <p:blipFill>
          <a:blip r:embed="rId2"/>
          <a:stretch/>
        </p:blipFill>
        <p:spPr>
          <a:xfrm>
            <a:off x="2481120" y="3157560"/>
            <a:ext cx="2938680" cy="27986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0"/>
          <p:cNvSpPr/>
          <p:nvPr/>
        </p:nvSpPr>
        <p:spPr>
          <a:xfrm flipH="1">
            <a:off x="2928240" y="25718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2857680" y="46432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4286160" y="42861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1643040" y="4500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2571840" y="41432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1500120" y="36432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3143160" y="42861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143080" y="35719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9"/>
          <p:cNvSpPr/>
          <p:nvPr/>
        </p:nvSpPr>
        <p:spPr>
          <a:xfrm>
            <a:off x="5429160" y="40006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\B=C={b;f;g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as papildinājums-kopas A papildinājumu sauc visus tos elementus, kas nepieder kopai 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2000160" y="3214800"/>
            <a:ext cx="2781360" cy="2714400"/>
            <a:chOff x="2000160" y="3214800"/>
            <a:chExt cx="2781360" cy="2714400"/>
          </a:xfrm>
        </p:grpSpPr>
        <p:sp>
          <p:nvSpPr>
            <p:cNvPr id="269" name="Oval 4"/>
            <p:cNvSpPr/>
            <p:nvPr/>
          </p:nvSpPr>
          <p:spPr>
            <a:xfrm>
              <a:off x="2066760" y="321480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5"/>
            <p:cNvSpPr/>
            <p:nvPr/>
          </p:nvSpPr>
          <p:spPr>
            <a:xfrm>
              <a:off x="2000160" y="321480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1"/>
          <p:cNvSpPr/>
          <p:nvPr/>
        </p:nvSpPr>
        <p:spPr>
          <a:xfrm>
            <a:off x="3071880" y="50720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3286080" y="3500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1357200" y="44290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4000680" y="43578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2286000" y="3500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5429160" y="40006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={a;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0"/>
          <p:cNvSpPr/>
          <p:nvPr/>
        </p:nvSpPr>
        <p:spPr>
          <a:xfrm>
            <a:off x="5500800" y="4071960"/>
            <a:ext cx="21420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4429080" y="27860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2571840" y="43578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19:33:16Z</dcterms:created>
  <dc:creator>***</dc:creator>
  <dc:description/>
  <dc:language>en-US</dc:language>
  <cp:lastModifiedBy>Fizikas un Matemātikas fakultāte</cp:lastModifiedBy>
  <dcterms:modified xsi:type="dcterms:W3CDTF">2010-08-06T16:10:26Z</dcterms:modified>
  <cp:revision>18</cp:revision>
  <dc:subject/>
  <dc:title>Slide 1</dc:title>
</cp:coreProperties>
</file>