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3E736-A912-4923-8BD8-ED4AADF7E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268C2-B77E-4D50-BC23-0FC3A2881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BF5B4-50F2-466B-AC2E-26DFE4663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BEEEA-1EA0-45FE-9BB9-450E61026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FE7FD-5E12-48C6-A858-A2FE2211F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A46FA-F90F-49D9-9CD6-871C091B0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9BF1F-C119-4026-B435-C0C69A7A5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66B6E-F678-444F-AD56-E19FC3E35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FEFC1-3482-4BB3-866D-54D4EE242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8D7A2-2027-4419-8817-EA74EAB78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B2EC1-BF5D-4F88-9D9C-3680AADE3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BFEBF-30EC-4D7B-9950-AD1F1BA08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24D49-862E-4F44-9971-D8508D8A9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79D8F-2706-484C-9788-F488CB718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B1FE8-9229-45E6-B0A3-6897849D8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6DBDA-6A9D-4646-837A-9D4A6DD39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D57A1-3695-427D-9E5D-1D27ADD45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36DE9-8F6A-4A7C-836F-1BF947D8A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486C0-7979-4408-BA91-5CB530426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82B8E-018B-4D3F-8232-3336B9F57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63436-48AB-4A4B-9615-3A30AE496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52CD4-7719-4673-B11A-5A311BE03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A504F-EB0B-4D65-9498-A1D291623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D4419-6B1F-4540-BDEE-13C9F2C31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8387F-0B26-488C-99CD-806D75A0227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122A2-0445-4D7A-9FA9-79061F14F01C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53" name="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420000"/>
                </a:solidFill>
                <a:latin typeface="Times New Roman"/>
              </a:rPr>
              <a:t>Uzdevums</a:t>
            </a:r>
            <a:r>
              <a:rPr b="0" lang="lv-LV" sz="4400" spc="-1" strike="noStrike">
                <a:solidFill>
                  <a:srgbClr val="42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3848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Times New Roman"/>
              </a:rPr>
              <a:t>Nosaki slēdziena veidu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457200" y="2209680"/>
          <a:ext cx="8229600" cy="4530960"/>
        </p:xfrm>
        <a:graphic>
          <a:graphicData uri="http://schemas.openxmlformats.org/drawingml/2006/table">
            <a:tbl>
              <a:tblPr/>
              <a:tblGrid>
                <a:gridCol w="4656240"/>
                <a:gridCol w="1244520"/>
                <a:gridCol w="1146240"/>
                <a:gridCol w="1182600"/>
              </a:tblGrid>
              <a:tr h="36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mpīrisk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duktīv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duktīv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7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Kad saulei rietot gaiļi dzied, tad laik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inīsies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#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8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Tuvojoties semestra beigām, skolēni sāk labot atzīme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Vasarā es guļu līdz 11</a:t>
                      </a:r>
                      <a:r>
                        <a:rPr b="1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8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Ja maijā daudz odu – b</a:t>
                      </a:r>
                      <a:r>
                        <a:rPr b="1" lang="lv-LV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ū</a:t>
                      </a: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 bagāts rudens (Latviešu tautas ticējums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8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 Taisnleņķa trijstūra šauro leņķu summa ir 90</a:t>
                      </a:r>
                      <a:r>
                        <a:rPr b="1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8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 Jo lielāks ir automašīnas ātrums, jo garāks ir tās bremzēšanas ceļš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8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 Visiem trijstūriem iekšējo leņķu summa ir    180</a:t>
                      </a:r>
                      <a:r>
                        <a:rPr b="1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420000"/>
                </a:solidFill>
                <a:latin typeface="Times New Roman"/>
              </a:rPr>
              <a:t>Uzdevums</a:t>
            </a:r>
            <a:r>
              <a:rPr b="0" lang="lv-LV" sz="4400" spc="-1" strike="noStrike">
                <a:solidFill>
                  <a:srgbClr val="42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Nosaki, izteikums ir patiess vai aplam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2514600" y="3657600"/>
                <a:ext cx="53352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101" name=""/>
          <p:cNvGraphicFramePr/>
          <p:nvPr/>
        </p:nvGraphicFramePr>
        <p:xfrm>
          <a:off x="838080" y="2286000"/>
          <a:ext cx="7086600" cy="4383000"/>
        </p:xfrm>
        <a:graphic>
          <a:graphicData uri="http://schemas.openxmlformats.org/drawingml/2006/table">
            <a:tbl>
              <a:tblPr/>
              <a:tblGrid>
                <a:gridCol w="4876920"/>
                <a:gridCol w="1143000"/>
                <a:gridCol w="10666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zteikum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ties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plam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Zeme ir Saules sistēmas planē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#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Skaitlis 17 ir pirmskaitl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PalatinoLinotype-Roman"/>
                        </a:rPr>
                        <a:t>3. Funkcijas            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rafiks vienmēr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trodas I un III  kvadrant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Vienādmalu trijstūrim visi iekšējie leņķi ir 60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 Romba diagonāles ir perpendikulāra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  Skaitlis 63 nedalās ar 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 Paralēlas taisnes krustoj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2T11:38:01Z</dcterms:created>
  <dc:creator>Girsts</dc:creator>
  <dc:description/>
  <dc:language>en-US</dc:language>
  <cp:lastModifiedBy>Fizikas un Matemātikas fakultāte</cp:lastModifiedBy>
  <dcterms:modified xsi:type="dcterms:W3CDTF">2010-08-08T08:18:41Z</dcterms:modified>
  <cp:revision>65</cp:revision>
  <dc:subject/>
  <dc:title>Semestra darbs</dc:title>
</cp:coreProperties>
</file>