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7EE703-C566-4E82-97BD-300C02EED6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F53FB-7C73-4410-9FFE-8B10AC7B7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6903DB-24EF-438D-8AD2-48DCC9A41D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CC9B13-E3DF-43C7-9B29-95408A0C4F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2D5B1F-0AE2-4BD3-B30E-AD3ABEDAD7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00CC78-3A87-48C2-9B4D-8184BE8350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88E8A0-D098-4B32-AADC-DFF4B52E7A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F634CA-C0C3-46CF-A88F-5F38BA4839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704264-A521-4FE0-9B85-836264452A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9A4DA7-63AC-4CAF-AD3B-EB6546B91F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3AF7F2-04BE-439D-A744-626D5490A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319A1-EB7C-4AAC-BDBC-EE32E4A4B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15C4E-7EC8-43D5-9532-F34609EEA4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94D6C5-AF62-40B2-B418-54DF99249B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768BE3-CF0B-43CC-8DD4-ACCDA5DB59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375C83-A011-421A-A13D-0607AB0B02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2108B8-4773-44F3-9F4E-554DF84EFC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724FBA-A0EC-42BF-BED4-DFCC9C6E16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1"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B2091C-E046-4FEE-BF67-9BB971BDFA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3"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3DE15A-D679-4735-9E25-D9371AC4A0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719597-CE0E-42AC-B2E5-B7B755D9E0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495641-ADF8-478D-8508-E5E4BADE88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04E02-FF13-4E6F-9C1C-09F469EE4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5895DD-4D22-42E6-8DF6-1781A58D2F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772E8D-DACA-4312-9335-B44AB3E7B7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D8ED1B-2015-4A69-AACD-E7C781E83F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E471F1-B15B-4CF7-9819-6300A09055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2"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3"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4A84E6-9493-4A01-B085-8EC39982B3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5A64F2-6158-408A-85A4-F3739FB86C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0"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27247D-ED17-4E18-958C-1DF8A50D9A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2CC404-BBDE-414C-AFC3-BC56823AB2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115BE3-4F3F-4305-AF29-37FA993EE3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4F979A-55C6-41B8-BAA2-5713DA4033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C2F17-52D1-4729-9F1B-B0FABEB54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BBE75A-8B5A-44AA-AFEA-5EFEAD1527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6B4895-2452-4A23-851B-E770A17B3C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009E50-C11B-434A-AEFA-A98C3D62D5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7A1A9D-DBBF-44A8-8619-9315986CAA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31F130-F4BE-44EF-BF90-4E9AACC09C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5437E5-3BA8-4D06-8709-985CAD6A7C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D3800D-3853-4BF6-A5D0-B6D5373137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A87A5C-22B4-469A-A6DB-0537807DD6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C64055-477A-445A-AD47-ABA187BB21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6C8DB-CFB9-4D41-A2D4-3470E7A0E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E76AA-6D45-4D61-BB01-7FC26EBE9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771D5-2B92-4B61-8AC7-E8EAA61DC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6D5F9-6944-4DB1-BD0F-609F10E5C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CB792-21D2-4691-A825-F0532C1900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Perpetua"/>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C5424-8317-494C-A7C2-2F25AB8B1688}"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nvGrpSpPr>
          <p:cNvPr id="44" name="Rounded Rectangle 10"/>
          <p:cNvGrpSpPr/>
          <p:nvPr/>
        </p:nvGrpSpPr>
        <p:grpSpPr>
          <a:xfrm>
            <a:off x="60480" y="60480"/>
            <a:ext cx="9028080" cy="6711840"/>
            <a:chOff x="60480" y="60480"/>
            <a:chExt cx="9028080" cy="6711840"/>
          </a:xfrm>
        </p:grpSpPr>
        <p:pic>
          <p:nvPicPr>
            <p:cNvPr id="45" name="Rounded Rectangle 10" descr=""/>
            <p:cNvPicPr/>
            <p:nvPr/>
          </p:nvPicPr>
          <p:blipFill>
            <a:blip r:embed="rId3"/>
            <a:stretch/>
          </p:blipFill>
          <p:spPr>
            <a:xfrm>
              <a:off x="60480" y="60480"/>
              <a:ext cx="9028080" cy="6711840"/>
            </a:xfrm>
            <a:prstGeom prst="rect">
              <a:avLst/>
            </a:prstGeom>
            <a:ln w="0">
              <a:noFill/>
            </a:ln>
          </p:spPr>
        </p:pic>
        <p:sp>
          <p:nvSpPr>
            <p:cNvPr id="46"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sp>
        <p:nvSpPr>
          <p:cNvPr id="47"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8"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9"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2"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Perpetua"/>
            </a:endParaRPr>
          </a:p>
        </p:txBody>
      </p:sp>
      <p:sp>
        <p:nvSpPr>
          <p:cNvPr id="53" name="PlaceHolder 4"/>
          <p:cNvSpPr>
            <a:spLocks noGrp="1"/>
          </p:cNvSpPr>
          <p:nvPr>
            <p:ph type="ftr" idx="5"/>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4" name="PlaceHolder 5"/>
          <p:cNvSpPr>
            <a:spLocks noGrp="1"/>
          </p:cNvSpPr>
          <p:nvPr>
            <p:ph type="sldNum" idx="6"/>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C8611-97A3-403F-9C84-06326924ECB0}"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2"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4"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6"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7"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Perpetua"/>
            </a:endParaRPr>
          </a:p>
        </p:txBody>
      </p:sp>
      <p:sp>
        <p:nvSpPr>
          <p:cNvPr id="98" name="PlaceHolder 4"/>
          <p:cNvSpPr>
            <a:spLocks noGrp="1"/>
          </p:cNvSpPr>
          <p:nvPr>
            <p:ph type="ftr" idx="8"/>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9" name="PlaceHolder 5"/>
          <p:cNvSpPr>
            <a:spLocks noGrp="1"/>
          </p:cNvSpPr>
          <p:nvPr>
            <p:ph type="sldNum" idx="9"/>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923E6-2BA6-4F67-8C7D-E3F7CC36F9D1}"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7"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8"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9"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0"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Perpetua"/>
            </a:endParaRPr>
          </a:p>
        </p:txBody>
      </p:sp>
      <p:sp>
        <p:nvSpPr>
          <p:cNvPr id="144" name="PlaceHolder 4"/>
          <p:cNvSpPr>
            <a:spLocks noGrp="1"/>
          </p:cNvSpPr>
          <p:nvPr>
            <p:ph type="ftr" idx="11"/>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5" name="PlaceHolder 5"/>
          <p:cNvSpPr>
            <a:spLocks noGrp="1"/>
          </p:cNvSpPr>
          <p:nvPr>
            <p:ph type="sldNum" idx="12"/>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70E88-401C-43D3-91EA-125B67B6187A}"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9280" y="549360"/>
            <a:ext cx="8147160" cy="868320"/>
          </a:xfrm>
          <a:prstGeom prst="rect">
            <a:avLst/>
          </a:prstGeom>
          <a:solidFill>
            <a:srgbClr val="ffff99"/>
          </a:solid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00000"/>
                </a:solidFill>
                <a:latin typeface="Franklin Gothic Book"/>
              </a:rPr>
              <a:t>Matemātika. Loģika. Sadzīve.</a:t>
            </a:r>
            <a:endParaRPr b="0" lang="en-US" sz="4000" spc="-1" strike="noStrike">
              <a:solidFill>
                <a:srgbClr val="696464"/>
              </a:solidFill>
              <a:latin typeface="Franklin Gothic Book"/>
            </a:endParaRPr>
          </a:p>
        </p:txBody>
      </p:sp>
      <p:sp>
        <p:nvSpPr>
          <p:cNvPr id="183" name="TextBox 3"/>
          <p:cNvSpPr/>
          <p:nvPr/>
        </p:nvSpPr>
        <p:spPr>
          <a:xfrm>
            <a:off x="826920" y="1844640"/>
            <a:ext cx="777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Bieži vien nākas dzirdēt: “Algebra un ģeometrija...? Kāpēc man tas vajadzīgs? Kur tas noderēs?”</a:t>
            </a:r>
            <a:endParaRPr b="0" lang="en-US" sz="2400" spc="-1" strike="noStrike">
              <a:solidFill>
                <a:srgbClr val="000000"/>
              </a:solidFill>
              <a:latin typeface="Perpetua"/>
            </a:endParaRPr>
          </a:p>
        </p:txBody>
      </p:sp>
      <p:sp>
        <p:nvSpPr>
          <p:cNvPr id="184" name="TextBox 4"/>
          <p:cNvSpPr/>
          <p:nvPr/>
        </p:nvSpPr>
        <p:spPr>
          <a:xfrm>
            <a:off x="826920" y="2997360"/>
            <a:ext cx="73454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Ikdienā nereti piedzīvojam situācijas, kur nepieciešams kaut ko izrēķināt. Bet pat aizmirstot šo faktu, varu apgalvot, ka jebkuram cilvēkam algebra un ģeometrija dzīvē noder, tikai varbūt ne tiešā veidā - logaritmi nav jārēķina, bet ikdienas situācijās mēs bieži varam ieekonomēt laiku un naudu, varam uzturēt labākas attiecības, būt radošāki utt., ja mūsos ir kaut nedaudz no loģikas, kuru attīsta tieši algebra un ģeometrija.</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TextBox 3"/>
          <p:cNvSpPr/>
          <p:nvPr/>
        </p:nvSpPr>
        <p:spPr>
          <a:xfrm>
            <a:off x="539640" y="333360"/>
            <a:ext cx="820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Apskatīsim piemēru, kā ikdienas sarunā tiek izmantota loģika, pievēršot uzmanību “un” un “vai” lietojumam.</a:t>
            </a:r>
            <a:endParaRPr b="0" lang="en-US" sz="2400" spc="-1" strike="noStrike">
              <a:solidFill>
                <a:srgbClr val="000000"/>
              </a:solidFill>
              <a:latin typeface="Perpetua"/>
            </a:endParaRPr>
          </a:p>
        </p:txBody>
      </p:sp>
      <p:sp>
        <p:nvSpPr>
          <p:cNvPr id="186" name="TextBox 4"/>
          <p:cNvSpPr/>
          <p:nvPr/>
        </p:nvSpPr>
        <p:spPr>
          <a:xfrm>
            <a:off x="684360" y="1268280"/>
            <a:ext cx="76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Salīdzini abus teikumus!</a:t>
            </a:r>
            <a:endParaRPr b="0" lang="en-US" sz="2400" spc="-1" strike="noStrike">
              <a:solidFill>
                <a:srgbClr val="000000"/>
              </a:solidFill>
              <a:latin typeface="Perpetua"/>
            </a:endParaRPr>
          </a:p>
          <a:p>
            <a:pPr>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Man vajag zīmuli un pildspalvu.</a:t>
            </a:r>
            <a:endParaRPr b="0" lang="en-US" sz="2400" spc="-1" strike="noStrike">
              <a:solidFill>
                <a:srgbClr val="000000"/>
              </a:solidFill>
              <a:latin typeface="Perpetua"/>
            </a:endParaRPr>
          </a:p>
          <a:p>
            <a:pPr>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Man vajag zīmuli vai pildspalvu.</a:t>
            </a:r>
            <a:endParaRPr b="0" lang="en-US" sz="2400" spc="-1" strike="noStrike">
              <a:solidFill>
                <a:srgbClr val="000000"/>
              </a:solidFill>
              <a:latin typeface="Perpetua"/>
            </a:endParaRPr>
          </a:p>
        </p:txBody>
      </p:sp>
      <p:sp>
        <p:nvSpPr>
          <p:cNvPr id="187" name="TextBox 5"/>
          <p:cNvSpPr/>
          <p:nvPr/>
        </p:nvSpPr>
        <p:spPr>
          <a:xfrm>
            <a:off x="684360" y="2637000"/>
            <a:ext cx="79912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1) Pirmajā teikumā tiek pateikts, ka ir nepieciešama gan pildspalva, gan zīmulis. Tātad uz šo teikumu pareiza reakcija būtu, ja pasniegtu gan zīmuli, gan pildspalvu</a:t>
            </a:r>
            <a:endParaRPr b="0" lang="en-US" sz="2400" spc="-1" strike="noStrike">
              <a:solidFill>
                <a:srgbClr val="000000"/>
              </a:solidFill>
              <a:latin typeface="Perpet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piemērsituācija: skolā ir semestra sākums un skolēnam nav ne zīmuļa, ne pildspalvas).</a:t>
            </a:r>
            <a:endParaRPr b="0" lang="en-US" sz="2400" spc="-1" strike="noStrike">
              <a:solidFill>
                <a:srgbClr val="000000"/>
              </a:solidFill>
              <a:latin typeface="Perpet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2) Otrajā teikumā tiek pateikts, ka ir vienalga, vai ir tikai zīmulis, vai tikai pildspalva. Tātad uz šo teikumu ir divi varianti, kā var pareizi reaģēt: </a:t>
            </a:r>
            <a:endParaRPr b="0" lang="en-US" sz="2400" spc="-1" strike="noStrike">
              <a:solidFill>
                <a:srgbClr val="000000"/>
              </a:solidFill>
              <a:latin typeface="Perpetu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Pasniegt tikai zīmuli;</a:t>
            </a:r>
            <a:endParaRPr b="0" lang="en-US" sz="2400" spc="-1" strike="noStrike">
              <a:solidFill>
                <a:srgbClr val="000000"/>
              </a:solidFill>
              <a:latin typeface="Perpetu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Pasniegt tikai pildspalvu.</a:t>
            </a:r>
            <a:endParaRPr b="0" lang="en-US" sz="2400" spc="-1" strike="noStrike">
              <a:solidFill>
                <a:srgbClr val="000000"/>
              </a:solidFill>
              <a:latin typeface="Perpet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piemērsituācija: vajag aši pierakstīt adresi, bet nav ar ko)</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TextBox 1"/>
          <p:cNvSpPr/>
          <p:nvPr/>
        </p:nvSpPr>
        <p:spPr>
          <a:xfrm>
            <a:off x="611280" y="476280"/>
            <a:ext cx="806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Iepriekš bija piemērs, kur vienā teikumā bija izmantots viens no abiem: “un” vai “vai”. Bet var būt arī teikumi, kur “un” un “vai” tiek kombinēti.</a:t>
            </a:r>
            <a:endParaRPr b="0" lang="en-US" sz="2400" spc="-1" strike="noStrike">
              <a:solidFill>
                <a:srgbClr val="000000"/>
              </a:solidFill>
              <a:latin typeface="Perpetua"/>
            </a:endParaRPr>
          </a:p>
        </p:txBody>
      </p:sp>
      <p:sp>
        <p:nvSpPr>
          <p:cNvPr id="189" name="TextBox 2"/>
          <p:cNvSpPr/>
          <p:nvPr/>
        </p:nvSpPr>
        <p:spPr>
          <a:xfrm>
            <a:off x="539640" y="1916280"/>
            <a:ext cx="777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ea typeface="Arial"/>
              </a:rPr>
              <a:t>Piemērs. </a:t>
            </a:r>
            <a:r>
              <a:rPr b="0" lang="lv-LV" sz="2400" spc="-1" strike="noStrike">
                <a:solidFill>
                  <a:srgbClr val="000000"/>
                </a:solidFill>
                <a:latin typeface="Arial"/>
                <a:ea typeface="Arial"/>
              </a:rPr>
              <a:t>Man vajag papīru un rakstāmo vai telefonu.</a:t>
            </a:r>
            <a:endParaRPr b="0" lang="en-US" sz="2400" spc="-1" strike="noStrike">
              <a:solidFill>
                <a:srgbClr val="000000"/>
              </a:solidFill>
              <a:latin typeface="Perpetua"/>
            </a:endParaRPr>
          </a:p>
        </p:txBody>
      </p:sp>
      <p:sp>
        <p:nvSpPr>
          <p:cNvPr id="190" name="TextBox 3"/>
          <p:cNvSpPr/>
          <p:nvPr/>
        </p:nvSpPr>
        <p:spPr>
          <a:xfrm>
            <a:off x="684360" y="2781360"/>
            <a:ext cx="7920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Ir divas dažādas pareizas reakcijas uz šādu teikumu:</a:t>
            </a:r>
            <a:endParaRPr b="0" lang="en-US" sz="2400" spc="-1" strike="noStrike">
              <a:solidFill>
                <a:srgbClr val="000000"/>
              </a:solidFill>
              <a:latin typeface="Perpetu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 </a:t>
            </a:r>
            <a:r>
              <a:rPr b="0" lang="lv-LV" sz="2400" spc="-1" strike="noStrike">
                <a:solidFill>
                  <a:srgbClr val="000000"/>
                </a:solidFill>
                <a:latin typeface="Arial"/>
                <a:ea typeface="Arial"/>
              </a:rPr>
              <a:t>Pasniegt papīru un rakstāmo;</a:t>
            </a:r>
            <a:endParaRPr b="0" lang="en-US" sz="2400" spc="-1" strike="noStrike">
              <a:solidFill>
                <a:srgbClr val="000000"/>
              </a:solidFill>
              <a:latin typeface="Perpetu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 </a:t>
            </a:r>
            <a:r>
              <a:rPr b="0" lang="lv-LV" sz="2400" spc="-1" strike="noStrike">
                <a:solidFill>
                  <a:srgbClr val="000000"/>
                </a:solidFill>
                <a:latin typeface="Arial"/>
                <a:ea typeface="Arial"/>
              </a:rPr>
              <a:t>Pasniegt telefonu.</a:t>
            </a:r>
            <a:endParaRPr b="0" lang="en-US" sz="2400" spc="-1" strike="noStrike">
              <a:solidFill>
                <a:srgbClr val="000000"/>
              </a:solidFill>
              <a:latin typeface="Perpet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piemērsituācija: ir nepieciešams pierakstīt telefona nummuru - to var izdarīt, vai nu ar rakstāmo uz lapas, vai arī ieraksīt telefonā.</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18:53:30Z</dcterms:created>
  <dc:creator>Lenovo User</dc:creator>
  <dc:description/>
  <dc:language>en-US</dc:language>
  <cp:lastModifiedBy>Fizikas un Matemātikas fakultāte</cp:lastModifiedBy>
  <dcterms:modified xsi:type="dcterms:W3CDTF">2010-08-08T08:13:39Z</dcterms:modified>
  <cp:revision>94</cp:revision>
  <dc:subject/>
  <dc:title>Matemātika. Loģika. Sadzīve.</dc:title>
</cp:coreProperties>
</file>