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BBE-F5C1-402E-A53B-9DE81673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0F4-4606-47B5-A123-1B4C27C2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531-D8A3-4DFD-8AC5-F193E679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6FB-EC55-438A-992A-1F0C8EF7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B136-3175-4B92-9BC2-90C3D42B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A238-6245-4B73-93D3-DAC19FC1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A1B7-00CB-4CD5-BBF9-2A88DBD9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E498-C786-43D5-962C-8962BFE6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29BE-3BFC-4DE2-88AA-EE5D68D1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C926-894F-406E-A3C5-746D70AF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1A0E-DF6F-4D65-9A9F-35222830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036-9D67-4B15-9982-D241785C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EB03-A192-4EE6-8845-5A765314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BF02-F27B-4ADC-B5D7-A02750EE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E658-606F-4328-8499-F69FA6CE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1E65-51F3-4ED1-8BD9-252210F9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0B97-8304-415A-BECB-24C99226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6DD-74C2-4115-AABB-89711C0C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615-AD85-4DA9-99DB-721C9D5F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324-E44F-4F50-B865-15971536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81A-7502-4566-B6BC-83BC7CA9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728-F17D-4994-880F-125E0C1D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3EF-47C1-4475-B45F-5068A864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BBD-A40B-485C-951B-55D2FDD8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8C60-09A9-4B99-9351-D96201BBC6F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5447-C1CF-4CD4-86B0-0196CDD9CEF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63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vieno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376360" cy="1376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2303640" cy="1609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216072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8000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ķē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tarpī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530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akšk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30520" y="2989440"/>
                <a:ext cx="89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69000" y="2768760"/>
                <a:ext cx="89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7440" y="5349960"/>
                <a:ext cx="749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68760" y="5559480"/>
                <a:ext cx="895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33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005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4520" y="10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50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8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88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42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979280" y="2205000"/>
            <a:ext cx="144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0360" y="1773360"/>
            <a:ext cx="216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34920" y="465264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96000" y="458136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0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052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Piemēri</a:t>
            </a:r>
            <a:r>
              <a:rPr b="1" i="1" lang="lv-LV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ādas skolas visi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i</a:t>
            </a: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133720"/>
            <a:ext cx="56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a, kā viena no visām skolām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apakš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2708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as  el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3213000"/>
            <a:ext cx="81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Meitenes klasē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starpība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, ja A – visi skolēni klasē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B – zēni , kuri mācās klasē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\B – skolēni no klases, kuri nav zē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7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Klase, kurā mācās gan zēni, gan meitene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apvienoju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52:06Z</dcterms:created>
  <dc:creator>Nadja</dc:creator>
  <dc:description/>
  <dc:language>en-US</dc:language>
  <cp:lastModifiedBy>Fizikas un Matemātikas fakultāte</cp:lastModifiedBy>
  <dcterms:modified xsi:type="dcterms:W3CDTF">2010-08-08T08:34:51Z</dcterms:modified>
  <cp:revision>69</cp:revision>
  <dc:subject/>
  <dc:title>Palīgmateriāls</dc:title>
</cp:coreProperties>
</file>