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71EA-0337-4443-A9B0-A491D97E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8C39-64AC-4CD8-96DD-7E6249C4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16CB-E6E0-4BDA-8D99-3DDB3F72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08698-5754-43D8-8357-F56F9A37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78C3-8C1B-4BCB-8E54-7C608EE4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2442-1F16-424F-A400-F3B4DFC3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52C0-66B8-4E9E-8CA5-A60B1F6C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BC74-EDE3-40CA-B56A-9A7899CF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B4DE-74A8-4063-8A2E-7A928FF7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9779-B806-4FA2-898D-675E79C0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9EA0-AE3C-4FA6-B9F7-7FCDA72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597E-0EF5-494D-9ADB-3EF3424F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2C2F-2E39-43AD-9E42-742932E2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53EE-1D39-4F54-BB34-AB68A5C7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B576-978E-4E4D-A431-57CE1D62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489A-7721-4DAD-97F7-1620E82F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89DA-5FB3-4438-9364-0495A04E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6F6F-BDEF-4802-9A52-CB72F06B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11A0-1C9D-44A6-98A2-FD48D7AD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78AD-C184-4611-8B48-1644A9EB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3128-3AFA-431B-9A62-2A3FC64C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D8C9-53AA-46D7-B6E3-A1EE7F1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5305-563D-4D29-B676-D0453A1B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E241-314F-4667-A22D-583AEBA2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B5B4-DA57-4F42-9B88-C4EAE1172DA2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5754-234A-4F6C-BF60-B5AC162B7E95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Matemātiskie slēdzien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kviens no mums ir kādreiz nonācis situācijā, kad nākas pamatot savu viedok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izstāvēt pozīciju un argumentēt savu izvēli. Nereti no tā, cik veiksmīgi esam mācējuši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zdarīt, ir atkarīga mūs interesējošo lēmumu pieņemšana. Katru dienu mēs vēroj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izējam, vērtējam un secinām. Lai varētu plānot dažādu procesu tālākās norises, mē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nšamies pamanīt vai noteikt šo procesu likumsakarības. Pamatot savu viedokli m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līdz ne tikai informācijas pieejamība, bet arī prasme loģiski spriest. Ir pazīstami dažā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riešanas paņēmieni, spriedumu un secinājumu iegūšanas vei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305680" cy="398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57520" cy="332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4444920" cy="310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348000" y="2997360"/>
            <a:ext cx="2978280" cy="304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987640" y="2852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564000" y="3141720"/>
            <a:ext cx="2666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6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8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3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9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35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35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Kādi varbūt slēdzie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2997360"/>
            <a:ext cx="136836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lēdzi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4500360" y="2204280"/>
            <a:ext cx="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03640" y="1628640"/>
            <a:ext cx="2592360" cy="576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īri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4932000" y="4292280"/>
            <a:ext cx="63252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003640" y="4869000"/>
            <a:ext cx="259272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H="1">
            <a:off x="3276000" y="4292280"/>
            <a:ext cx="70380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258920" y="4869000"/>
            <a:ext cx="259236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5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50"/>
                            </p:stCondLst>
                            <p:childTnLst>
                              <p:par>
                                <p:cTn id="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5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95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5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45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5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Empīrisk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Empīriski slēdzieni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– ( no grieķu ‘empeiria’  - pieredze) slēdzieni, kas tiek izdarī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balstoties uz iepriekš gūtu pieredz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Tā kā cilvēku pieredze ir individuāla, tad vienā un tajā pašā situācijā esošu dažā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cilvēku gūtā pieredze var būt dažāda. Tieši tāpēc uz pieredzi balstīti jeb empīri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slēdzienii nevar kļūt par loģiska pierādījuma pamatu, jo tie ne vienmēr ir patiesi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attiecināmi uz visiem gadīj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Teksta uzdevumi parasti ir grūtāki par citiem uzdev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Ģeometrija ir sarežģītāka nekā alg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5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45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5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6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65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6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45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8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In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Induktīvi slēdzieni-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(no latīņu ‘inductio’ — uzvedināšana, ierosināšana) slēdzie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kas tiek izdarīti balstoties uz vairāku eksperimentu vai vērojumu laikā gūtiem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Induktīvās spriešanas pamatā ir vispārīgu secinājumu izdarīšana, balstoties uz atsevišķ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gadījumu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Riharda, Aivara, Reinera, Imanta, Ivo meitenēm ir blondi mati, tātad zēniem vairāk patīk meitenes ar blondiem mati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Ja saule pēc saullēkta uzreiz ieiet mākoņos — būs lie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85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7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3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2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De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duktīvi slēdzieni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 latīņu valodas ‘deductio’ — izvešana, aizveš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lēdzieni, kad katrs nākamais secinājums tiek balstīts uz iepriekš pamatotu spriedu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duktīvas spriešanas gaitā secinājumi tiek iegūti, izmantojot iepriekš pierādītus fak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 patiesus apgalvojum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1)Romba diagonāles krustpunktā dalās uz pusēm, tātad arī kvadrāta diagonāles krustpunktā dalās uz pusēm, jo kvadrāts ir romba speciālgadīju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2)Jo lielāks automašīnas ātrums, jo garāks ir tās bremzēšanas ceļš.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bremzēšanas ceļš, jo garāks apstāšanās ceļš. Tātad jo lielāks ātrums,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apstāšanās ceļ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3)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45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9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35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75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96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8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4:19:11Z</dcterms:created>
  <dc:creator>santa</dc:creator>
  <dc:description/>
  <dc:language>en-US</dc:language>
  <cp:lastModifiedBy>Fizikas un Matemātikas fakultāte</cp:lastModifiedBy>
  <dcterms:modified xsi:type="dcterms:W3CDTF">2010-08-08T08:02:33Z</dcterms:modified>
  <cp:revision>31</cp:revision>
  <dc:subject/>
  <dc:title>Matemātiskie spriedumi</dc:title>
</cp:coreProperties>
</file>