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82F7-2E50-4534-8AA9-7E496777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72FA-9197-4278-89E2-9C098119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BB31-03F0-4791-AC24-75C17AFB8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4385-8665-4A3D-B3DE-D83299106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A9B5-E288-4DF6-BFC4-B8BBF26A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E829-99BD-4EDB-B704-4554F16D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76F1-6113-4C53-BCDC-960F5007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CA22-290C-493F-9585-B561AF8E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9502-FDF4-4B88-8C0C-C8DA2BDD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4987-9C80-4E7B-9397-C73D1EC2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6FAB-FB9E-4C47-8482-2DB171A4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5A43-23C9-4498-BC18-310AD8E5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410C-0BAD-4EE5-B1A5-0A74A73F2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Times New Roman"/>
              </a:rPr>
              <a:t>Matemātiskie spriedum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71400" y="5716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Dota kopa</a:t>
            </a:r>
            <a:r>
              <a:rPr b="0" lang="lv-LV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 = {8, 9, 15, 26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43040" y="1886040"/>
            <a:ext cx="5943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lv-LV" sz="3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lang="lv-LV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26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i="1" lang="lv-LV" sz="3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lang="lv-LV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lv-LV" sz="36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ff0066"/>
                </a:solidFill>
                <a:latin typeface="Times New Roman"/>
              </a:rPr>
              <a:t>7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15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26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71560" y="4014720"/>
            <a:ext cx="37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Atrast kopu </a:t>
            </a:r>
            <a:r>
              <a:rPr b="1" i="1" lang="lv-LV" sz="3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692680" y="4003560"/>
            <a:ext cx="3165480" cy="2629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71560" y="5057640"/>
            <a:ext cx="28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Atrast </a:t>
            </a:r>
            <a:r>
              <a:rPr b="1" i="1" lang="lv-LV" sz="3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i="1" lang="lv-LV" sz="3600" spc="-1" strike="noStrike">
                <a:solidFill>
                  <a:srgbClr val="9933ff"/>
                </a:solidFill>
                <a:latin typeface="Times New Roman"/>
              </a:rPr>
              <a:t>\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75248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Loģika ir viena no visvecākajām zinātnēm, kas radusies 4. gs. p.m.ē. Tā pēta likumsakarības, kurām seko organizēta un pareiza domāšana. Matemātiskā loģika pēta piemērotu matemātisko metožu izmantošanu loģikas zinātnē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477120" y="4267080"/>
            <a:ext cx="228276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1474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5335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ff0066"/>
                </a:solidFill>
                <a:latin typeface="Times New Roman"/>
              </a:rPr>
              <a:t>Ko matemātikā sauc par izteikumi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46483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3333cc"/>
                </a:solidFill>
                <a:latin typeface="Times New Roman"/>
              </a:rPr>
              <a:t>Par izteikumu sauc apgalvojumu, par kuru var viennozīmīgi pateikt, vai tas ir patiess, vai – apla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867280" y="144792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371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12 dalās a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1371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50dd45"/>
                </a:solidFill>
                <a:latin typeface="Times New Roman"/>
              </a:rPr>
              <a:t>pati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048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5 ir pirmskaitl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3048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50dd45"/>
                </a:solidFill>
                <a:latin typeface="Times New Roman"/>
              </a:rPr>
              <a:t>pati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3886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8 ir pirmskaitl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38862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ff0000"/>
                </a:solidFill>
                <a:latin typeface="Times New Roman"/>
              </a:rPr>
              <a:t>apl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2096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11 dalās a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1337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ff0000"/>
                </a:solidFill>
                <a:latin typeface="Times New Roman"/>
              </a:rPr>
              <a:t>apl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8006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Latvija ir NATO dalībval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4800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50dd45"/>
                </a:solidFill>
                <a:latin typeface="Times New Roman"/>
              </a:rPr>
              <a:t>pati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Krievija ir NATO dalībval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7120" y="5791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ff0000"/>
                </a:solidFill>
                <a:latin typeface="Times New Roman"/>
              </a:rPr>
              <a:t>apl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3049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Nosaki, vai izteikums ir patiess, vai – aplam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2120" y="762120"/>
            <a:ext cx="803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3333cc"/>
                </a:solidFill>
                <a:latin typeface="Times New Roman"/>
              </a:rPr>
              <a:t>Kas ir tiešā teorēm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236232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ff0000"/>
                </a:solidFill>
                <a:latin typeface="Times New Roman"/>
              </a:rPr>
              <a:t>Kas ir apgrieztā teorēm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76160" y="454356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cc00"/>
                </a:solidFill>
                <a:latin typeface="Times New Roman"/>
              </a:rPr>
              <a:t>Kas ir pretējā teorēm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308640" y="1957320"/>
            <a:ext cx="246852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9907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Ja daudzstūris ir četrstūris, tad tā iekšējo leņķu summa ir 360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24382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ff0000"/>
                </a:solidFill>
                <a:latin typeface="Times New Roman"/>
              </a:rPr>
              <a:t>Apgrieztā teorē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049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Tiešā teorē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30481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Ja daudzstūra iekšējo leņķu summa ir 360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, tad šis daudzstūris ir četrstūr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464832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0d523"/>
                </a:solidFill>
                <a:latin typeface="Times New Roman"/>
              </a:rPr>
              <a:t>Pretējā teorē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52578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Ja daudzstūris nav četrstūris, tad tā iekšējo leņķu summa nav 360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76212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ff0066"/>
                </a:solidFill>
                <a:latin typeface="Times New Roman"/>
              </a:rPr>
              <a:t>Kā tu saproti jēdzienu “kopa”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36232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cc00"/>
                </a:solidFill>
                <a:latin typeface="Times New Roman"/>
              </a:rPr>
              <a:t>Kādas kopas sauc par tukšām kopā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76160" y="454356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c00cc"/>
                </a:solidFill>
                <a:latin typeface="Times New Roman"/>
              </a:rPr>
              <a:t>Kādas kopas sauc par galīgām, un kādas sauc par bezgalīgām kopā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143840" y="1314360"/>
            <a:ext cx="200016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52480" y="947880"/>
            <a:ext cx="514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933ff"/>
                </a:solidFill>
                <a:latin typeface="Times New Roman"/>
              </a:rPr>
              <a:t>Kas ir kopu šķēlu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920" y="2824200"/>
            <a:ext cx="57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ff3300"/>
                </a:solidFill>
                <a:latin typeface="Times New Roman"/>
              </a:rPr>
              <a:t>Kas ir kopu apvienoju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4700520"/>
            <a:ext cx="50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cc00"/>
                </a:solidFill>
                <a:latin typeface="Times New Roman"/>
              </a:rPr>
              <a:t>Kas ir kopu starpīb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591240" y="866880"/>
            <a:ext cx="255276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2286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Dotas kopa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2895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Atrod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905120"/>
            <a:ext cx="5276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00cc00"/>
                </a:solidFill>
                <a:latin typeface="Times New Roman"/>
              </a:rPr>
              <a:t>C</a:t>
            </a:r>
            <a:r>
              <a:rPr b="1" lang="lv-LV" sz="3800" spc="-1" strike="noStrike">
                <a:solidFill>
                  <a:srgbClr val="00cc00"/>
                </a:solidFill>
                <a:latin typeface="Times New Roman"/>
              </a:rPr>
              <a:t> = {1, 10, 30, 45}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1066680"/>
            <a:ext cx="4083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1" lang="lv-LV" sz="3800" spc="-1" strike="noStrike">
                <a:solidFill>
                  <a:srgbClr val="fc6826"/>
                </a:solidFill>
                <a:latin typeface="Times New Roman"/>
              </a:rPr>
              <a:t> = {3, 4, 5, 7, 8}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066680"/>
            <a:ext cx="4948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1" lang="lv-LV" sz="3800" spc="-1" strike="noStrike">
                <a:solidFill>
                  <a:srgbClr val="3333ff"/>
                </a:solidFill>
                <a:latin typeface="Times New Roman"/>
              </a:rPr>
              <a:t> = {2, 4, 6, 7, 9}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657600"/>
            <a:ext cx="73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1) kopu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un 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šķēlumu –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4419720"/>
            <a:ext cx="63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2) kopu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un </a:t>
            </a:r>
            <a:r>
              <a:rPr b="1" i="1" lang="lv-LV" sz="3600" spc="-1" strike="noStrike">
                <a:solidFill>
                  <a:srgbClr val="00cc00"/>
                </a:solidFill>
                <a:latin typeface="Times New Roman"/>
              </a:rPr>
              <a:t>C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šķēlumu –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lv-LV" sz="3600" spc="-1" strike="noStrike">
                <a:solidFill>
                  <a:srgbClr val="00cc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5181480"/>
            <a:ext cx="753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3) kopu 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un </a:t>
            </a:r>
            <a:r>
              <a:rPr b="1" i="1" lang="lv-LV" sz="3600" spc="-1" strike="noStrike">
                <a:solidFill>
                  <a:srgbClr val="00cc00"/>
                </a:solidFill>
                <a:latin typeface="Times New Roman"/>
              </a:rPr>
              <a:t>C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apvienojumu – 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i="1" lang="lv-LV" sz="3600" spc="-1" strike="noStrike">
                <a:solidFill>
                  <a:srgbClr val="00cc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5943600"/>
            <a:ext cx="689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4) kopu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un 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starpību –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lv-LV" sz="36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3T16:04:57Z</dcterms:created>
  <dc:creator>The Only One</dc:creator>
  <dc:description/>
  <dc:language>en-US</dc:language>
  <cp:lastModifiedBy>Fizikas un Matemātikas fakultāte</cp:lastModifiedBy>
  <dcterms:modified xsi:type="dcterms:W3CDTF">2010-08-08T08:08:42Z</dcterms:modified>
  <cp:revision>21</cp:revision>
  <dc:subject/>
  <dc:title>Matemātiskie spriedumi</dc:title>
</cp:coreProperties>
</file>