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AAEF-71DC-4D06-959F-CE2DEF6E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878-BA13-433B-AFC5-74B9F618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2E0-48BD-47C7-80F7-D72C3F4E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E545-AA40-4E16-A23C-592F6854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EE15-45B5-4E75-A59A-B52EA510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D25B-3537-4FB6-AAE9-916D3B7F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1572-6835-44AD-A1F0-3CB44B99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23BE-35C4-4D51-8F11-841AD766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E307-1EEB-4AE9-8281-40EAA534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5E13-DEA7-4B5C-BCCC-551DD6AA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6EB9-9846-4733-8E04-D5298F45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7B81-77EE-4CA7-886D-E9146E58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9757-8E88-4394-8084-3151296D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9D7E-8673-4E8E-B9C7-5A470897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B182-ABD9-412C-8628-CCD51DFE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E62D-2868-4993-8DA1-51706864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6222-0030-4E3D-8922-0577C6DA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BAF9-5153-4CBB-B4E0-49F3C8C7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9912-308A-414E-AB92-064691FC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D178-C15F-4624-9369-DB70664F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21C-9DA6-4635-947E-BF71B654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2F3-EF5D-424F-B6E0-AD94A624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E4B-9152-44D4-8F65-3D53A0A1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9030-E89D-4BA7-9761-5164D546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628E-4E38-4C87-9BDB-F9C5A20C183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AC3A-E75A-4FDE-A679-EEC980106F0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800" spc="-1" strike="noStrike">
                <a:solidFill>
                  <a:srgbClr val="999900"/>
                </a:solidFill>
                <a:latin typeface="Garamond"/>
              </a:rPr>
              <a:t>Kopa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teorijas pamatelement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Kas ir kop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628640"/>
            <a:ext cx="3456000" cy="41054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7600" y="2060640"/>
            <a:ext cx="39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ir kaut kādu priekšmetu kop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5640" y="4869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492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1916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2276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2997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3716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2852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8160" y="17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5080" y="242100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s ir kopas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2924280"/>
            <a:ext cx="396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ar kopas elementu var būt jebkā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riekšmets, kā reāls ,kā arī kaut k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ereā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otajā gadījumā tie ir bur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4000" y="414972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s ir tukša kop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6520" y="465300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ukša kopa ir kopa kurā n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eviena ele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Apakško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773360"/>
            <a:ext cx="3673800" cy="3311280"/>
          </a:xfrm>
          <a:prstGeom prst="ellipse">
            <a:avLst/>
          </a:prstGeom>
          <a:solidFill>
            <a:srgbClr val="17eb2b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2492280"/>
            <a:ext cx="1727280" cy="1657440"/>
          </a:xfrm>
          <a:prstGeom prst="ellipse">
            <a:avLst/>
          </a:prstGeom>
          <a:solidFill>
            <a:srgbClr val="17eb2b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1800" y="270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8160" y="234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49720" y="1413000"/>
            <a:ext cx="409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A ir kopas B apakškopa ja v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elementi (punkti), kas pieder kop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A, pieder arī kopai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2781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21337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3068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357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26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076720" y="2421000"/>
                <a:ext cx="2448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,d,f</m:t>
                            </m:r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,b,c,d,f,g,h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⊂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292720" y="162864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UB pieder visi tie elementi (punkti), kas pieder kopai A, vai pieder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1280" y="357192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UB={1,2,3,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318280" y="2781360"/>
                <a:ext cx="359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vai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4160" y="3429000"/>
            <a:ext cx="124596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apvienoj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15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155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15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15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16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163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18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šķēl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1628640"/>
            <a:ext cx="36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B pieder visi tie elementi (punkti), kas vienlaicīgi pieder kopai A un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1280" y="357192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UB={4,5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281560" y="2997360"/>
                <a:ext cx="352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n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9af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4160" y="3429000"/>
            <a:ext cx="124596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19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19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19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20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starpīb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1773360"/>
            <a:ext cx="36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\B pieder visi tie elementi (punkti), kas vienlaicīgi pieder kopai A, bet nepieder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364500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\B={1,2,3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270828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2637000"/>
            <a:ext cx="359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219640" y="3068640"/>
                <a:ext cx="3456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n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∉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3440" y="3429000"/>
            <a:ext cx="11455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\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25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25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26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262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26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266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papildināj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162864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Ā pieder visi tie elementi (punkti), kas nepieder kopa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724360" y="2708280"/>
                <a:ext cx="1681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∉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826920" y="1628640"/>
            <a:ext cx="3673800" cy="3095640"/>
          </a:xfrm>
          <a:prstGeom prst="rect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1989000"/>
            <a:ext cx="1944720" cy="2087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94172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360" y="494172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20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31417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79640" y="2852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7440" y="220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651640" y="3860640"/>
                <a:ext cx="172872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∈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4:32:08Z</dcterms:created>
  <dc:creator>HOMEEEE</dc:creator>
  <dc:description/>
  <dc:language>en-US</dc:language>
  <cp:lastModifiedBy>Fizikas un Matemātikas fakultāte</cp:lastModifiedBy>
  <dcterms:modified xsi:type="dcterms:W3CDTF">2010-08-08T08:10:50Z</dcterms:modified>
  <cp:revision>4</cp:revision>
  <dc:subject/>
  <dc:title>Matemātiskie spriedumi un sadzīve</dc:title>
</cp:coreProperties>
</file>