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94212-27C3-4077-8462-F2C25725C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E1263-083F-4945-BCA8-83BFCC8EB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EB655-678B-4522-B903-B9521DF64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02D3C-EBE1-4BAA-B0B1-A54FDE857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BCB9E-5C90-484A-9525-C707FFF4B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C94BB-0FAA-40C9-ADEA-03F195439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9FE3C-779B-4043-82C6-6B87B7A0E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5C947-92BC-4AC6-88C9-EEA40C0A6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91EE1-76E6-437C-95A0-AB6AAF3EC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E8B7B-3B66-41A2-A396-2477A6BD1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03C58-8DF5-491F-BBFB-CCF87136B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1DF0A-E58E-459F-BD36-D9C88820B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50F9D-F42B-47BF-8265-6F1EB35CC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E6547-9E31-4F23-8605-4FD284AF0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5DDF6-FD22-45F4-AC09-BD4637C45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D8430-0398-4BAC-95AB-D262F5406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D0C89-3E29-4471-AE27-F14B78538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2D0BE41-4ECF-4ED6-88F9-8FF4546C0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DB28E62-3D59-4A96-B06B-477D428D5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246F742-37EF-4B00-931F-903CF04B9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A2ED964-FA24-45EE-B2D4-B3E477931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AF3C5A2-7514-4C42-9E31-D7044428E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DE61E-9C14-4354-843F-4DDA45F66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77A422D-833B-4EDD-8529-7F00B2C64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B90D5BB-7C6C-4F78-A532-AC9D32DBC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023BBF8-DFA1-4E1A-80FE-0401A6AFC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48B9752-D59E-443D-865F-C2CED03A5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4631D88-94AE-4B62-AA31-EB8AA4A61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F8CCAC0-9C2B-42EC-A84A-CF4E34419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C82059E-7AEA-4B6C-8404-9BF94C3B8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D2C1BB-6583-4CC2-8F4C-6C020C73B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9F59F8-D6E8-4E3F-BF9C-EACA5A7EA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902880-4F60-4DDA-989E-ADCC4AC75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7246F-F380-4A07-8D51-779A42968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B18EC3-2834-43FE-9EE2-DC8A9A1D7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3D0070-9C07-47A3-92AB-49D77FB24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1F4C26-68C2-40F5-AD0E-3911773A4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2CE850-1677-430F-8D32-13BF13A49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DB17E4-8A51-4A36-AC38-8E7158FE3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7F9DA3-C1B7-48FD-8966-C61020EF0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3CE21D-EB6C-40AB-8B85-B1348CAD8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58CD70-F20B-4F7A-BC2B-34DAA08B6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3348C3-3192-495B-A87F-6D140E673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17E6326-B114-4623-AF65-88057C01A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5A399-DD0E-4E45-A917-D2A6ABFF7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310C98A-69A2-4725-B8D4-ACA5B56B1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B26704D-BA8A-4861-BAE8-BFD07CC3D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F47E8B6-524E-487C-89E9-7E97E2E19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3F89BB9-0245-4E4D-9E7F-D9734A4FA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2F95A0E-D5D1-41CA-878D-E0B2069A5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03695BB-9C93-453D-A42D-BA921E7C7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2406D47-844A-44F4-9E79-05820466C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6286316-7F67-462D-BF91-CEFAACD34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590CC16-6286-491E-ABD3-1703152E6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47DCA5A-F7AB-4D93-9BE5-4B09865E6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2EE3D-A7F3-489A-A4B9-1BEF95547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37E4D19-FD1C-47ED-B725-B57595553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FF4B703-1F46-456F-809E-1953447B6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EAB80D2-DB8F-4D2C-842F-B842D598F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658BBAF-8789-4249-ACB1-5C932EE9B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DE8CD3A-5576-4754-8864-5FBDA06CE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D4EF98C-C4D6-4974-9407-605870912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C3B4F6F-4199-4672-9766-5810E4DF7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7DB30FB-2CDF-48D6-9327-633344BDD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0C486CF-20C1-473A-BB7B-D357CAF0D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39FCF4F-A0EB-4FD5-8A5E-9B9FF13B1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B071E-3610-4CA1-975D-B96BDB337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255B593-D426-40EB-944D-C4F87089D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9EF8183-0A5A-4FDF-8D68-03BF87F85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976E791-4AD3-4672-A0AC-827C577AD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3802F8B-96CA-4A7A-B79B-2B0E9782E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CBF9D5B-5D10-4CA1-A3D8-EF2726B11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060CF44-C32A-47E6-8130-B81CCEE78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9217C2A-3BB7-4B77-91A5-6562F8FDE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DCC7BEE-5878-44A7-B26C-8046C17CB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019800C-9F9D-4109-A2D6-5F1D609AB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97BC038-D09A-4027-B447-6160F6709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4B905-887D-4A13-A9C4-C110AE31B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87B69DE-1207-4C5B-8757-E020A1D92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603F4D2-F2E2-48FA-95BA-AC63B9AA6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51723FA-1CF6-4955-B0EA-55DAB4B64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EBBB5ED-E864-42CA-9BD5-05FB5B8BD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3114449-EF56-4F4B-8C15-C7DCB3B34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4BE97-34BC-495F-B795-BDD81DAE0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aisns savienotājs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Taisns savienotājs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Taisns savienotājs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Taisnstūris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Taisns savienotājs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Ovāls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2D78C-B6C4-4E2B-B857-5CFD6DEF0D44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aisnstūris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Taisnstūris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Taisnstūris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Taisnstūris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Taisns savienotājs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Taisns savienotājs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Taisns savienotājs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Taisns savienotājs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Taisns savienotājs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Taisns savienotājs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Taisnstūris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Ovāls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Ovāls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Ovāls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Ovāls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Ovāls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15AA4-E958-4BAD-B8D5-4369F26189A2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aisns savienotājs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Taisns savienotājs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Taisns savienotājs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Taisnstūris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Taisns savienotājs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Ovāls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87B9F-035C-41BB-9322-8E5AC2FF3FFD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aisnstūris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Taisnstūris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Taisnstūris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Taisnstūris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Taisns savienotājs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Taisns savienotājs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Taisns savienotājs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Taisns savienotājs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Taisns savienotājs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Taisnstūris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Ovāls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Ovāls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Ovāls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Ovāls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Ovāls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Taisns savienotājs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A5799-5450-45C9-8F1E-80B9A02F2E5B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Taisns savienotājs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Taisns savienotājs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Taisns savienotājs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Taisnstūris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Taisns savienotājs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Ovāls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8583C-6432-41B6-9D9F-5961FC467903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Taisns savienotājs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Taisns savienotājs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Taisns savienotājs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Taisns savienotājs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Taisnstūris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Taisns savienotājs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Ovāls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3D959-9AA2-4F22-93B9-6F75D789AF2C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Taisns savienotājs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Ovāls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Taisns savienotājs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Taisnstūris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Taisns savienotājs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Taisns savienotājs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Taisns savienotājs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530AA-6CF1-421B-B4A5-8FA306956875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340000" y="1988640"/>
            <a:ext cx="5595840" cy="187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575f6d"/>
                </a:solidFill>
                <a:latin typeface="Times New Roman"/>
              </a:rPr>
              <a:t> </a:t>
            </a:r>
            <a:r>
              <a:rPr b="1" lang="en-US" sz="5400" spc="-1" strike="noStrike">
                <a:solidFill>
                  <a:srgbClr val="575f6d"/>
                </a:solidFill>
                <a:latin typeface="Times New Roman"/>
              </a:rPr>
              <a:t>Par kopām</a:t>
            </a:r>
            <a:endParaRPr b="0" lang="en-US" sz="54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KOPA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entury Schoolbook"/>
              </a:rPr>
              <a:t>Kopa matemātikā ir dažādu atsevišķu objektu apvienojums vienā veselumā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entury Schoolbook"/>
              </a:rPr>
              <a:t>Objektus, no kuriem sastāv kopa, sauc par kopas elementiem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entury Schoolbook"/>
              </a:rPr>
              <a:t>Piemēram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1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lv-LV" sz="2100" spc="-1" strike="noStrike">
                <a:solidFill>
                  <a:srgbClr val="000000"/>
                </a:solidFill>
                <a:latin typeface="Century Schoolbook"/>
              </a:rPr>
              <a:t>Kopa A ar tas elementiem a,b,c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100" spc="-1" strike="noStrike">
                <a:solidFill>
                  <a:srgbClr val="000000"/>
                </a:solidFill>
                <a:latin typeface="Century Schoolbook"/>
              </a:rPr>
              <a:t>To pieraksta: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1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lv-LV" sz="21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lv-LV" sz="2100" spc="-1" strike="noStrike">
                <a:solidFill>
                  <a:srgbClr val="000000"/>
                </a:solidFill>
                <a:latin typeface="Century Schoolbook"/>
              </a:rPr>
              <a:t>A={a,b,c} </a:t>
            </a:r>
            <a:r>
              <a:rPr b="0" lang="lv-LV" sz="2100" spc="-1" strike="noStrike">
                <a:solidFill>
                  <a:srgbClr val="000000"/>
                </a:solidFill>
                <a:latin typeface="Century Schoolbook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entury Schoolbook"/>
              </a:rPr>
              <a:t>Piemēram, kopa B ir ciparu kopa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100" spc="-1" strike="noStrike">
                <a:solidFill>
                  <a:srgbClr val="000000"/>
                </a:solidFill>
                <a:latin typeface="Century Schoolbook"/>
              </a:rPr>
              <a:t>B={0,1,2,3,4,5,6,7,8,9}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2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" dur="1000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3000"/>
                            </p:stCondLst>
                            <p:childTnLst>
                              <p:par>
                                <p:cTn id="1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" dur="1000"/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4000"/>
                            </p:stCondLst>
                            <p:childTnLst>
                              <p:par>
                                <p:cTn id="1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1000"/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5000"/>
                            </p:stCondLst>
                            <p:childTnLst>
                              <p:par>
                                <p:cTn id="2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" dur="1000"/>
                                        <p:tgtEl>
                                          <p:spTgt spid="3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6000"/>
                            </p:stCondLst>
                            <p:childTnLst>
                              <p:par>
                                <p:cTn id="2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1000"/>
                                        <p:tgtEl>
                                          <p:spTgt spid="3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7000"/>
                            </p:stCondLst>
                            <p:childTnLst>
                              <p:par>
                                <p:cTn id="2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" dur="1000"/>
                                        <p:tgtEl>
                                          <p:spTgt spid="3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8000"/>
                            </p:stCondLst>
                            <p:childTnLst>
                              <p:par>
                                <p:cTn id="3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" dur="1000"/>
                                        <p:tgtEl>
                                          <p:spTgt spid="3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9000"/>
                            </p:stCondLst>
                            <p:childTnLst>
                              <p:par>
                                <p:cTn id="3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1000"/>
                                        <p:tgtEl>
                                          <p:spTgt spid="3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KOPAS UZSKATĀMI VAR PARĀDĪT AR EILERE-VENNA DIAGRAMMĀM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opa A sakrīt ar kopu B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opa B ir kopas A apakškopa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6" name="Ovāls 4"/>
          <p:cNvSpPr/>
          <p:nvPr/>
        </p:nvSpPr>
        <p:spPr>
          <a:xfrm>
            <a:off x="5364000" y="2349360"/>
            <a:ext cx="1800360" cy="18003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777c8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=B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7" name="Ovāls 7"/>
          <p:cNvSpPr/>
          <p:nvPr/>
        </p:nvSpPr>
        <p:spPr>
          <a:xfrm>
            <a:off x="1187280" y="4869000"/>
            <a:ext cx="1800360" cy="18000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777c8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8" name="Ovāls 8"/>
          <p:cNvSpPr/>
          <p:nvPr/>
        </p:nvSpPr>
        <p:spPr>
          <a:xfrm>
            <a:off x="2124000" y="5373720"/>
            <a:ext cx="792360" cy="7920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777c8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9" name="Object 2"/>
              <p:cNvSpPr txBox="1"/>
              <p:nvPr/>
            </p:nvSpPr>
            <p:spPr>
              <a:xfrm>
                <a:off x="4500720" y="5324400"/>
                <a:ext cx="2232000" cy="85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⊂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0" name="Object 3"/>
              <p:cNvSpPr txBox="1"/>
              <p:nvPr/>
            </p:nvSpPr>
            <p:spPr>
              <a:xfrm>
                <a:off x="2771640" y="2982960"/>
                <a:ext cx="1832040" cy="74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1000"/>
                            </p:stCondLst>
                            <p:childTnLst>
                              <p:par>
                                <p:cTn id="4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" dur="1000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2000"/>
                            </p:stCondLst>
                            <p:childTnLst>
                              <p:par>
                                <p:cTn id="5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1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3000"/>
                            </p:stCondLst>
                            <p:childTnLst>
                              <p:par>
                                <p:cTn id="5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" dur="500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500"/>
                            </p:stCondLst>
                            <p:childTnLst>
                              <p:par>
                                <p:cTn id="6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2500"/>
                            </p:stCondLst>
                            <p:childTnLst>
                              <p:par>
                                <p:cTn id="7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Picture 3" descr=""/>
          <p:cNvPicPr/>
          <p:nvPr/>
        </p:nvPicPr>
        <p:blipFill>
          <a:blip r:embed="rId1"/>
          <a:stretch/>
        </p:blipFill>
        <p:spPr>
          <a:xfrm>
            <a:off x="971640" y="3933720"/>
            <a:ext cx="3314520" cy="255276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2" descr=""/>
          <p:cNvPicPr/>
          <p:nvPr/>
        </p:nvPicPr>
        <p:blipFill>
          <a:blip r:embed="rId2"/>
          <a:stretch/>
        </p:blipFill>
        <p:spPr>
          <a:xfrm>
            <a:off x="5148360" y="2205000"/>
            <a:ext cx="3276360" cy="2085840"/>
          </a:xfrm>
          <a:prstGeom prst="rect">
            <a:avLst/>
          </a:prstGeom>
          <a:ln w="0">
            <a:noFill/>
          </a:ln>
        </p:spPr>
      </p:pic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KOPAS UZSKATĀMI VAR PARĀDĪT AR EILERE-VENNA DIAGRAMMĀM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539280" y="1699920"/>
            <a:ext cx="748836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Kopas apvienojums-visi elemeti tieši vienu reizi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Kopas šķēlums-tikkai kopīgie elemeti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5" name=""/>
              <p:cNvSpPr txBox="1"/>
              <p:nvPr/>
            </p:nvSpPr>
            <p:spPr>
              <a:xfrm>
                <a:off x="5076720" y="5084640"/>
                <a:ext cx="2232000" cy="87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∩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6" name=""/>
              <p:cNvSpPr txBox="1"/>
              <p:nvPr/>
            </p:nvSpPr>
            <p:spPr>
              <a:xfrm>
                <a:off x="2050920" y="2502000"/>
                <a:ext cx="1946520" cy="80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∪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" dur="1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000"/>
                            </p:stCondLst>
                            <p:childTnLst>
                              <p:par>
                                <p:cTn id="8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" dur="1000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3000"/>
                            </p:stCondLst>
                            <p:childTnLst>
                              <p:par>
                                <p:cTn id="9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" dur="1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" dur="500"/>
                                        <p:tgtEl>
                                          <p:spTgt spid="3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500"/>
                            </p:stCondLst>
                            <p:childTnLst>
                              <p:par>
                                <p:cTn id="10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1500"/>
                            </p:stCondLst>
                            <p:childTnLst>
                              <p:par>
                                <p:cTn id="10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" dur="1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7" name="Picture 3" descr=""/>
          <p:cNvPicPr/>
          <p:nvPr/>
        </p:nvPicPr>
        <p:blipFill>
          <a:blip r:embed="rId1"/>
          <a:stretch/>
        </p:blipFill>
        <p:spPr>
          <a:xfrm>
            <a:off x="4356000" y="4221000"/>
            <a:ext cx="3257640" cy="2143440"/>
          </a:xfrm>
          <a:prstGeom prst="rect">
            <a:avLst/>
          </a:prstGeom>
          <a:ln w="0">
            <a:noFill/>
          </a:ln>
        </p:spPr>
      </p:pic>
      <p:pic>
        <p:nvPicPr>
          <p:cNvPr id="368" name="Picture 2" descr=""/>
          <p:cNvPicPr/>
          <p:nvPr/>
        </p:nvPicPr>
        <p:blipFill>
          <a:blip r:embed="rId2"/>
          <a:stretch/>
        </p:blipFill>
        <p:spPr>
          <a:xfrm>
            <a:off x="539640" y="1916280"/>
            <a:ext cx="3990960" cy="2381040"/>
          </a:xfrm>
          <a:prstGeom prst="rect">
            <a:avLst/>
          </a:prstGeom>
          <a:ln w="0">
            <a:noFill/>
          </a:ln>
        </p:spPr>
      </p:pic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KOPAS UZSKATĀMI VAR PARĀDĪT AR EILERE-VENNA DIAGRAMMĀM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94920" y="1600200"/>
            <a:ext cx="849780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Kopas atņemšana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Tikai tie elemeti, kas nepieder kopai B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Tikai tie elemeti, kas nepieder kopai A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1" name="Teksta vietturis 12"/>
              <p:cNvSpPr txBox="1"/>
              <p:nvPr/>
            </p:nvSpPr>
            <p:spPr>
              <a:xfrm>
                <a:off x="1835280" y="5013360"/>
                <a:ext cx="1672920" cy="83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2" name=""/>
              <p:cNvSpPr txBox="1"/>
              <p:nvPr/>
            </p:nvSpPr>
            <p:spPr>
              <a:xfrm>
                <a:off x="5003640" y="2492280"/>
                <a:ext cx="1729080" cy="86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" dur="1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1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1000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2" dur="1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6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0" dur="1000"/>
                                        <p:tgtEl>
                                          <p:spTgt spid="3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4500"/>
                            </p:stCondLst>
                            <p:childTnLst>
                              <p:par>
                                <p:cTn id="13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4" dur="1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5500"/>
                            </p:stCondLst>
                            <p:childTnLst>
                              <p:par>
                                <p:cTn id="13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8" dur="1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6500"/>
                            </p:stCondLst>
                            <p:childTnLst>
                              <p:par>
                                <p:cTn id="14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2" dur="1000"/>
                                        <p:tgtEl>
                                          <p:spTgt spid="37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9T10:12:24Z</dcterms:created>
  <dc:creator>Dzeralds</dc:creator>
  <dc:description/>
  <dc:language>en-US</dc:language>
  <cp:lastModifiedBy>Fizikas un Matemātikas fakultāte</cp:lastModifiedBy>
  <dcterms:modified xsi:type="dcterms:W3CDTF">2010-08-08T07:37:13Z</dcterms:modified>
  <cp:revision>46</cp:revision>
  <dc:subject/>
  <dc:title>Atkārtojuma uzdevumi</dc:title>
</cp:coreProperties>
</file>