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D22-866B-4A4C-93A2-736F3038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EF7-D72E-4625-9DE6-44B5975F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097-5532-4226-8175-7FDF6F38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939-77AC-49B1-96DC-BEF8ABBE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F3E6-AB65-4899-9797-8C1954BA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B915-603F-4D1A-8D58-F6EE72D7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353E-4D62-4403-AB46-1B025510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4999-7CE3-4B9D-9830-B2FD969E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5EB0-4F45-422A-BE50-33015500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8F5B-6924-40DA-ADA6-512F87C0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1AB1-6481-44DD-AC90-17ED6422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34D-E985-458A-8F15-D0CC2F41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986D-741F-42E6-A57E-A20FCCA3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2A96-C9A2-485E-A94E-835924A1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D6B9-330C-453C-9493-EFECCC88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6A95-E04B-481C-BB85-D664C28C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949C-03D4-4953-88B5-5657A384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6FD-EEF5-4B69-A4AC-FAAC476C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5F0-7112-4C44-9434-093E92B2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A1C-27B5-4394-8C64-4CD38F2D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996-4C02-492C-8DBC-22CADF1B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B08-283D-4F87-858C-778970CC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D26-129C-4DCD-B03F-E760F92C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0FD-F3E6-42FE-9E4A-3819DA7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C0DE-3AB6-4A62-828A-F2BD66D1740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CD06-0575-4CBB-85F0-89EDFF55478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33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2637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vieno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376360" cy="1376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907920"/>
            <a:ext cx="2303640" cy="1609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2160720" cy="1809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580000" y="2492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Šķē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tarpī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2720" y="5300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akško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730520" y="2989440"/>
                <a:ext cx="898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769000" y="2768760"/>
                <a:ext cx="89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57440" y="5349960"/>
                <a:ext cx="749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468760" y="5559480"/>
                <a:ext cx="895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1332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4005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4520" y="10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8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0508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1816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8880" y="126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24360" y="42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1979280" y="2205000"/>
            <a:ext cx="144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0360" y="1773360"/>
            <a:ext cx="216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34920" y="4652640"/>
            <a:ext cx="144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96000" y="4581360"/>
            <a:ext cx="21600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40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052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Piemēri</a:t>
            </a:r>
            <a:r>
              <a:rPr b="1" i="1" lang="lv-LV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62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ādas skolas visi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i</a:t>
            </a: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133720"/>
            <a:ext cx="56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a, kā viena no visām skolām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apakš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2708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as  el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3213000"/>
            <a:ext cx="813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Meitenes klasē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starpība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, ja A – visi skolēni klasē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B – zēni , kuri mācās klasē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A\B – skolēni no klases, kuri nav zē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472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Klase, kurā mācās gan zēni, gan meitene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apvienoju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52:06Z</dcterms:created>
  <dc:creator>Nadja</dc:creator>
  <dc:description/>
  <dc:language>en-US</dc:language>
  <cp:lastModifiedBy>Fizikas un Matemātikas fakultāte</cp:lastModifiedBy>
  <dcterms:modified xsi:type="dcterms:W3CDTF">2010-08-08T08:34:51Z</dcterms:modified>
  <cp:revision>69</cp:revision>
  <dc:subject/>
  <dc:title>Palīgmateriāls</dc:title>
</cp:coreProperties>
</file>