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527-635A-451A-B16B-CCB050DD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0DE-49E7-40AD-91FC-A444FA70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DF3-CACE-4311-A2BC-BBB29DD0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397-25D5-4641-A2D0-4D4FAFC6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0834-9613-47CF-A88B-3E4B32A9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5E27-1C4F-4708-907C-AE310FE4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D48D-9EFB-4A79-9409-C38A6CEA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8A8C-B5AA-4374-A60A-519C1C47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742D-B154-4D52-BD88-25C83B75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A4AE-4DD6-484A-98E8-5B385823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64C2-718A-4394-AF4D-EEE79FB1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B9C-7F23-453F-B30C-95CC047F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53F9-1404-4DDB-8159-FCB2D7F3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9543-2DDB-4D41-B1BB-207E030B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8800-91A6-47F1-B4B1-051B2843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BF6C-B068-4EC9-B395-C4529BCC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38B4-9FF6-41D9-AAB0-26BC0367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4A06-2049-4F8F-B6A1-8A143E1B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8E04-8614-4CD6-9249-085DF954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74CB-3E3F-4AE2-82AE-25820F7C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02BB8-7371-477F-9A3F-0C78852E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6BE1-AAD9-4CCF-A043-14E2FD82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5C2-63E0-4C7C-9B17-0CE835D8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9FC1-2E0C-4F34-AEF0-A6D587F4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F74F-113F-4786-8160-616408CD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9B28-25D5-4AE6-8871-D75203BA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6B59-7BE4-46C1-AFC1-1E89E234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69D2-948E-47E7-A7BC-8A32B6C5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B624-2FB0-4C94-B6CA-AAFFCD69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5EEF-5EE4-47FC-ABC8-129BD4DC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12087-A542-4C0F-BA21-38C6457E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666B-E973-443B-8FF2-7945C74F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635B-0232-40C9-81C1-498EC624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97E-469B-404D-A70E-9F90FC0A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6176A-CCDE-4642-9342-AC418195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59E8F-06F5-43F7-97C0-414983BE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D2D8-A7BA-45A2-9886-D5B9587B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BB6D-6EAE-41B4-9B45-2E643DFD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2BAD-DE3D-42B5-8D62-4B6A04E5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68B3F-FDBB-4472-A181-A7FFDC8F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B65C-80E1-48EA-856A-2A38ABF7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5210A-5A4D-4DAC-A164-86FF645A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363D9-7711-4457-A1D5-D8514198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C99-C8B3-4D9D-8A2B-3BB5A585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999-5DA1-4B47-B142-5202218C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175-F3E6-41CC-816C-247535E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012-F072-4ABE-8BEB-D0973F8C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0B3-EA03-42CB-964D-43EA7CE7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BCC3-B69A-4751-89CF-AF116C165B1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CAD6-E094-4D32-80DE-31BDFC58A97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FA1-139B-4CD6-B392-2709DC8CA17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4D32-B5B9-467E-A1E4-4313DF4A563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le 1"/>
          <p:cNvSpPr/>
          <p:nvPr/>
        </p:nvSpPr>
        <p:spPr>
          <a:xfrm>
            <a:off x="250920" y="260280"/>
            <a:ext cx="866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Kopu teorijas pamatjēdzie</a:t>
            </a: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ni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pu teorijas pamatjēdzie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opa-Kopas jēdziens ir viens no matemātikas pamatjēdzieniem.  Par kopu matemātikā var uzskatīt atsevišķu objektu veidotu jaunu un vienotu apvienojumu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rpmāk pieņemsim un darbosimies ar divām kopām: A un B (darīsim tā tikai uzskatāmības dēļ, faktiski, visi atzinumi ir derīgi jebkādam kopu skaita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1576440" y="4000680"/>
            <a:ext cx="2781360" cy="2714400"/>
            <a:chOff x="1576440" y="4000680"/>
            <a:chExt cx="2781360" cy="2714400"/>
          </a:xfrm>
        </p:grpSpPr>
        <p:sp>
          <p:nvSpPr>
            <p:cNvPr id="199" name="Oval 3"/>
            <p:cNvSpPr/>
            <p:nvPr/>
          </p:nvSpPr>
          <p:spPr>
            <a:xfrm>
              <a:off x="1643040" y="400068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"/>
            <p:cNvSpPr/>
            <p:nvPr/>
          </p:nvSpPr>
          <p:spPr>
            <a:xfrm>
              <a:off x="1576440" y="400068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5214960" y="4000680"/>
            <a:ext cx="2857320" cy="2724120"/>
            <a:chOff x="5214960" y="4000680"/>
            <a:chExt cx="2857320" cy="2724120"/>
          </a:xfrm>
        </p:grpSpPr>
        <p:sp>
          <p:nvSpPr>
            <p:cNvPr id="202" name="Oval 5"/>
            <p:cNvSpPr/>
            <p:nvPr/>
          </p:nvSpPr>
          <p:spPr>
            <a:xfrm>
              <a:off x="5214960" y="4000680"/>
              <a:ext cx="2724120" cy="2724120"/>
            </a:xfrm>
            <a:prstGeom prst="ellipse">
              <a:avLst/>
            </a:prstGeom>
            <a:solidFill>
              <a:srgbClr val="55a839"/>
            </a:solidFill>
            <a:ln w="25560">
              <a:solidFill>
                <a:srgbClr val="387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7"/>
            <p:cNvSpPr/>
            <p:nvPr/>
          </p:nvSpPr>
          <p:spPr>
            <a:xfrm>
              <a:off x="7607160" y="400068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elementi- matemātiskie objekti, no kā sastāv ko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0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"/>
          <p:cNvSpPr/>
          <p:nvPr/>
        </p:nvSpPr>
        <p:spPr>
          <a:xfrm>
            <a:off x="3571920" y="35719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214720" y="38577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071880" y="26431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71840" y="32860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5504760" y="35002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b;c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kša kopa-kopa, kas nesatur nevienu elemen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1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20"/>
          <p:cNvSpPr/>
          <p:nvPr/>
        </p:nvSpPr>
        <p:spPr>
          <a:xfrm>
            <a:off x="5525280" y="35002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={} jeb A=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Galīga kopa-kopa, kas satur galīgu skaitu elementu. Piemēram, kopa A (Latvijas Valsts prezidenti pēc 1991.gada)={Guntis Ulmanis, Vaira Vīķe-Freiberga, Valdis Zatlers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Bezgalīga kopa-kopa, kas satur bezgalīgu skaitu elementu. Piemēram, kopa B (pozitīvo naturālo skaitļu kopa)={1,2,3,4,....}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rbības ar kopā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šķēlums-par divu kopu A un B šķēlumu sauc kopu C, tādu kuras elementi pieder abām dotajām kopām A un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500120" y="3571920"/>
            <a:ext cx="2781360" cy="2714760"/>
            <a:chOff x="1500120" y="3571920"/>
            <a:chExt cx="2781360" cy="2714760"/>
          </a:xfrm>
        </p:grpSpPr>
        <p:sp>
          <p:nvSpPr>
            <p:cNvPr id="225" name="Oval 4"/>
            <p:cNvSpPr/>
            <p:nvPr/>
          </p:nvSpPr>
          <p:spPr>
            <a:xfrm>
              <a:off x="1566720" y="3571920"/>
              <a:ext cx="2714760" cy="271476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1500120" y="35719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6" descr=""/>
          <p:cNvPicPr/>
          <p:nvPr/>
        </p:nvPicPr>
        <p:blipFill>
          <a:blip r:embed="rId2"/>
          <a:stretch/>
        </p:blipFill>
        <p:spPr>
          <a:xfrm>
            <a:off x="3054240" y="3584520"/>
            <a:ext cx="293220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 flipH="1">
            <a:off x="399996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500280" y="48578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28920" y="51436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429000" y="4214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500720" y="52149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92896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607212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  B=C={b;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357960" y="4071960"/>
                <a:ext cx="484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apvienojums-par divu kopu A un B apvienojumu sauc kopu C, tādu kuras elementi pieder kopai A vai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40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 flipH="1">
            <a:off x="2928240" y="2500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071960" y="492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28960" y="4643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3786120" y="3429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0012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B=C={a;b;c;d;e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5643720" y="4071960"/>
                <a:ext cx="409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starpība-par divu kopu A un B starpību sauc kopu C, tādu kuras elementi pieder kopai A ,bet nepieder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55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 flipH="1">
            <a:off x="2928240" y="2571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57680" y="46432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286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1643040" y="4500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50012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143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\B=C={b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papildinājums-kopas A papildinājumu sauc visus tos elementus, kas nepieder kopai 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000160" y="3214800"/>
            <a:ext cx="2781360" cy="2714400"/>
            <a:chOff x="2000160" y="3214800"/>
            <a:chExt cx="2781360" cy="2714400"/>
          </a:xfrm>
        </p:grpSpPr>
        <p:sp>
          <p:nvSpPr>
            <p:cNvPr id="269" name="Oval 4"/>
            <p:cNvSpPr/>
            <p:nvPr/>
          </p:nvSpPr>
          <p:spPr>
            <a:xfrm>
              <a:off x="206676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5"/>
            <p:cNvSpPr/>
            <p:nvPr/>
          </p:nvSpPr>
          <p:spPr>
            <a:xfrm>
              <a:off x="200016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3071880" y="50720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8608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35720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00068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2860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0"/>
          <p:cNvSpPr/>
          <p:nvPr/>
        </p:nvSpPr>
        <p:spPr>
          <a:xfrm>
            <a:off x="5500800" y="4071960"/>
            <a:ext cx="2142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429080" y="2786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7184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9:33:16Z</dcterms:created>
  <dc:creator>***</dc:creator>
  <dc:description/>
  <dc:language>en-US</dc:language>
  <cp:lastModifiedBy>Fizikas un Matemātikas fakultāte</cp:lastModifiedBy>
  <dcterms:modified xsi:type="dcterms:W3CDTF">2010-08-06T16:10:26Z</dcterms:modified>
  <cp:revision>18</cp:revision>
  <dc:subject/>
  <dc:title>Slide 1</dc:title>
</cp:coreProperties>
</file>