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74E8-A486-4D3D-A20C-AAC0F1FC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C817-D039-4268-B868-A3873D66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2738-1CD9-452E-BC3A-F4788C11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CDBF-F7A8-4D10-AD95-E08105902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F471-A223-4D16-A471-DBE4709DA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1577-96B3-453A-A275-7B7FE10F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49A0-C379-4ACC-8357-89AB7623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9B5B-0F5C-4F61-BE0C-A6A4C77E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B536-B6DA-4598-B611-8ADC8579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2DF2-217A-4C9C-8C9E-7172CBE8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BE15-1826-4903-BC44-0B70979D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93B0-2C33-4BF3-B39E-510F7111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5681-6140-46CA-8E45-1719CD95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6ABB-2A62-468A-AC7E-09BF3BDD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8352-3D07-4805-92B5-AE01B78D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2866-8BDB-4003-8688-2FF2CDAC0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9A64-0C98-4594-8FB8-BEC0FC37E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056C-B7C0-481C-84C1-CFF24E84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B2AE-0E75-45B4-895C-095B2199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0481-C3D3-4557-A016-99CF2E46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F524-2002-421B-A398-A640855A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D7DD-C462-46DB-983E-D8F1D8FE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C2E8-4EFE-4CB3-9FF9-FC7C954B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4028-58FA-45C3-A498-88AE24CE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FA2A-A0E3-4E55-9619-C6B15C34BFF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3100-2442-4E7F-8E3F-5D83C57E24A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5800" spc="-1" strike="noStrike">
                <a:solidFill>
                  <a:srgbClr val="999900"/>
                </a:solidFill>
                <a:latin typeface="Garamond"/>
              </a:rPr>
              <a:t>Kopa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Kopu teorijas pamatelementi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Verdana"/>
              </a:rPr>
              <a:t>Kas ir kop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628640"/>
            <a:ext cx="3456000" cy="4105440"/>
          </a:xfrm>
          <a:prstGeom prst="ellipse">
            <a:avLst/>
          </a:prstGeom>
          <a:solidFill>
            <a:srgbClr val="17eb2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7600" y="2060640"/>
            <a:ext cx="39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ir kaut kādu priekšmetu kop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95640" y="48690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3860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2492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1916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71640" y="2276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9280" y="29973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0920" y="3716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2852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87640" y="3933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8160" y="1700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45080" y="2421000"/>
            <a:ext cx="388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as ir kopas el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3280" y="2924280"/>
            <a:ext cx="396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ar kopas elementu var būt jebkā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riekšmets, kā reāls ,kā arī kaut k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nereā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otajā gadījumā tie ir bur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4000" y="4149720"/>
            <a:ext cx="31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as ir tukša kop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46520" y="4653000"/>
            <a:ext cx="31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Tukša kopa ir kopa kurā na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neviena elem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Apakškop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1773360"/>
            <a:ext cx="3673800" cy="3311280"/>
          </a:xfrm>
          <a:prstGeom prst="ellipse">
            <a:avLst/>
          </a:prstGeom>
          <a:solidFill>
            <a:srgbClr val="17eb2b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2360" y="2492280"/>
            <a:ext cx="1727280" cy="1657440"/>
          </a:xfrm>
          <a:prstGeom prst="ellipse">
            <a:avLst/>
          </a:prstGeom>
          <a:solidFill>
            <a:srgbClr val="17eb2b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81800" y="2708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8160" y="2349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49720" y="1413000"/>
            <a:ext cx="409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Kopa A ir kopas B apakškopa ja vi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elementi (punkti), kas pieder kopa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A, pieder arī kopai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35280" y="2781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3860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32000" y="23493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16360" y="213372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43280" y="3068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79640" y="3357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84360" y="26370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87640" y="3933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076720" y="2421000"/>
                <a:ext cx="2448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,d,f</m:t>
                            </m:r>
                          </m:e>
                        </m:d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,b,c,d,f,g,h</m:t>
                            </m:r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⊂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292720" y="1628640"/>
            <a:ext cx="36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Kopai AUB pieder visi tie elementi (punkti), kas pieder kopai A, vai pieder kopai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91280" y="357192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Piemē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={1,2,3,4,5}; B={4,5,6,7,8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UB={1,2,3,4,5,6,7,8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318280" y="2781360"/>
                <a:ext cx="35938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∪</m:t>
                    </m:r>
                    <m:r>
                      <m:t xml:space="preserve">B</m:t>
                    </m: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∈</m:t>
                    </m:r>
                    <m:m>
                      <m:mr>
                        <m:e>
                          <m:r>
                            <m:t xml:space="preserve">A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vai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∈</m:t>
                          </m:r>
                        </m:e>
                      </m:mr>
                    </m:m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11280" y="1773360"/>
            <a:ext cx="1439640" cy="143964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87640" y="1773360"/>
            <a:ext cx="1440000" cy="1439640"/>
          </a:xfrm>
          <a:prstGeom prst="ellipse">
            <a:avLst/>
          </a:prstGeom>
          <a:solidFill>
            <a:srgbClr val="17eb2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3429000"/>
            <a:ext cx="93672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60720" y="3429000"/>
            <a:ext cx="981000" cy="368280"/>
          </a:xfrm>
          <a:prstGeom prst="rect">
            <a:avLst/>
          </a:prstGeom>
          <a:solidFill>
            <a:srgbClr val="17e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Kop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4160" y="3429000"/>
            <a:ext cx="124596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6360" y="2349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23493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6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16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92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1773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48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24360" y="22050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16360" y="2276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16360" y="1844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Kopu apvienoju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21965E-006 L -0.14757 4.21965E-006 E">
                                      <p:cBhvr>
                                        <p:cTn id="153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7.40741E-007 L -0.15034 -0.00463 E">
                                      <p:cBhvr>
                                        <p:cTn id="155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33333E-006 L -0.15017 -0.00486 E">
                                      <p:cBhvr>
                                        <p:cTn id="157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81481E-006 L -0.17448 0.01135 E">
                                      <p:cBhvr>
                                        <p:cTn id="159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07407E-006 L -0.15816 0.00579 E">
                                      <p:cBhvr>
                                        <p:cTn id="161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27746E-006 L -0.15816 0.00578 E">
                                      <p:cBhvr>
                                        <p:cTn id="163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0000"/>
                                      </p:to>
                                    </p:animClr>
                                    <p:set>
                                      <p:cBhvr>
                                        <p:cTn id="18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80000"/>
                                      </p:to>
                                    </p:animClr>
                                    <p:set>
                                      <p:cBhvr>
                                        <p:cTn id="18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Kopu šķēlu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4" name=""/>
          <p:cNvSpPr/>
          <p:nvPr/>
        </p:nvSpPr>
        <p:spPr>
          <a:xfrm>
            <a:off x="5292720" y="1628640"/>
            <a:ext cx="36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Kopai A</a:t>
            </a:r>
            <a:r>
              <a:rPr b="1" lang="lv-LV" sz="20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B pieder visi tie elementi (punkti), kas vienlaicīgi pieder kopai A un kopai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91280" y="357192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Piemē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={1,2,3,4,5}; B={4,5,6,7,8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UB={4,5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281560" y="2997360"/>
                <a:ext cx="3524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∈</m:t>
                    </m:r>
                    <m:m>
                      <m:mr>
                        <m:e>
                          <m:r>
                            <m:t xml:space="preserve">A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un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∈</m:t>
                          </m:r>
                        </m:e>
                      </m:mr>
                    </m:m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11280" y="1773360"/>
            <a:ext cx="1439640" cy="1439640"/>
          </a:xfrm>
          <a:prstGeom prst="ellipse">
            <a:avLst/>
          </a:prstGeom>
          <a:solidFill>
            <a:srgbClr val="f80000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1773360"/>
            <a:ext cx="1440000" cy="1439640"/>
          </a:xfrm>
          <a:prstGeom prst="ellipse">
            <a:avLst/>
          </a:prstGeom>
          <a:solidFill>
            <a:srgbClr val="17eb2b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3429000"/>
            <a:ext cx="936720" cy="368280"/>
          </a:xfrm>
          <a:prstGeom prst="rect">
            <a:avLst/>
          </a:prstGeom>
          <a:solidFill>
            <a:srgbClr val="f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60720" y="3429000"/>
            <a:ext cx="981000" cy="368280"/>
          </a:xfrm>
          <a:prstGeom prst="rect">
            <a:avLst/>
          </a:prstGeom>
          <a:solidFill>
            <a:srgbClr val="9af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Kop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74160" y="3429000"/>
            <a:ext cx="124596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76360" y="2349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23493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76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6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92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1773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48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24360" y="22050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16360" y="2276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16360" y="1844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21965E-006 L -0.14757 4.21965E-006 E">
                                      <p:cBhvr>
                                        <p:cTn id="193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7.40741E-007 L -0.15034 -0.00463 E">
                                      <p:cBhvr>
                                        <p:cTn id="195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33333E-006 L -0.15017 -0.00486 E">
                                      <p:cBhvr>
                                        <p:cTn id="197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81481E-006 L -0.17448 0.01135 E">
                                      <p:cBhvr>
                                        <p:cTn id="199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07407E-006 L -0.15816 0.00579 E">
                                      <p:cBhvr>
                                        <p:cTn id="201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27746E-006 L -0.15816 0.00578 E">
                                      <p:cBhvr>
                                        <p:cTn id="203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0000"/>
                                      </p:to>
                                    </p:animClr>
                                    <p:set>
                                      <p:cBhvr>
                                        <p:cTn id="22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Kopu starpīb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3" name=""/>
          <p:cNvSpPr/>
          <p:nvPr/>
        </p:nvSpPr>
        <p:spPr>
          <a:xfrm>
            <a:off x="5148360" y="1773360"/>
            <a:ext cx="367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Kopai A\B pieder visi tie elementi (punkti), kas vienlaicīgi pieder kopai A, bet nepieder kopai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19640" y="364500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Piemē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={1,2,3,4,5}; B={4,5,6,7,8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\B={1,2,3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270828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2637000"/>
            <a:ext cx="3598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219640" y="3068640"/>
                <a:ext cx="3456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∈</m:t>
                    </m:r>
                    <m:m>
                      <m:mr>
                        <m:e>
                          <m:r>
                            <m:t xml:space="preserve">A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un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∉</m:t>
                          </m:r>
                        </m:e>
                      </m:mr>
                    </m:m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611280" y="1773360"/>
            <a:ext cx="1439640" cy="143964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87640" y="1773360"/>
            <a:ext cx="1440000" cy="1439640"/>
          </a:xfrm>
          <a:prstGeom prst="ellipse">
            <a:avLst/>
          </a:prstGeom>
          <a:solidFill>
            <a:srgbClr val="17eb2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3429000"/>
            <a:ext cx="93672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60720" y="3429000"/>
            <a:ext cx="981000" cy="368280"/>
          </a:xfrm>
          <a:prstGeom prst="rect">
            <a:avLst/>
          </a:prstGeom>
          <a:solidFill>
            <a:srgbClr val="17e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Kop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3440" y="3429000"/>
            <a:ext cx="114552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\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76360" y="2349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23493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76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16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1773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48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24360" y="22050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16360" y="2276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16360" y="1844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21965E-006 L -0.14757 4.21965E-006 E">
                                      <p:cBhvr>
                                        <p:cTn id="25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7.40741E-007 L -0.15034 -0.00463 E">
                                      <p:cBhvr>
                                        <p:cTn id="258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33333E-006 L -0.15017 -0.00486 E">
                                      <p:cBhvr>
                                        <p:cTn id="260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81481E-006 L -0.17448 0.01135 E">
                                      <p:cBhvr>
                                        <p:cTn id="262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07407E-006 L -0.15816 0.00579 E">
                                      <p:cBhvr>
                                        <p:cTn id="264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27746E-006 L -0.15816 0.00578 E">
                                      <p:cBhvr>
                                        <p:cTn id="266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4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8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6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0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4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Kopu papildināju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4" name=""/>
          <p:cNvSpPr/>
          <p:nvPr/>
        </p:nvSpPr>
        <p:spPr>
          <a:xfrm>
            <a:off x="5292720" y="1628640"/>
            <a:ext cx="36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Kopai Ā pieder visi tie elementi (punkti), kas nepieder kopai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724360" y="2708280"/>
                <a:ext cx="16812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∉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826920" y="1628640"/>
            <a:ext cx="3673800" cy="3095640"/>
          </a:xfrm>
          <a:prstGeom prst="rect">
            <a:avLst/>
          </a:prstGeom>
          <a:solidFill>
            <a:srgbClr val="17eb2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19280" y="1989000"/>
            <a:ext cx="1944720" cy="208764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4941720"/>
            <a:ext cx="93672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76360" y="4941720"/>
            <a:ext cx="981000" cy="368280"/>
          </a:xfrm>
          <a:prstGeom prst="rect">
            <a:avLst/>
          </a:prstGeom>
          <a:solidFill>
            <a:srgbClr val="17e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Kopa 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92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6000" y="3860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16000" y="2060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56000" y="22050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56000" y="314172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79640" y="2852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87640" y="3933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37440" y="2205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651640" y="3860640"/>
                <a:ext cx="1728720" cy="15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,</m:t>
                        </m:r>
                        <m:r>
                          <m:t xml:space="preserve">e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∈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4:32:08Z</dcterms:created>
  <dc:creator>HOMEEEE</dc:creator>
  <dc:description/>
  <dc:language>en-US</dc:language>
  <cp:lastModifiedBy>Fizikas un Matemātikas fakultāte</cp:lastModifiedBy>
  <dcterms:modified xsi:type="dcterms:W3CDTF">2010-08-08T08:10:50Z</dcterms:modified>
  <cp:revision>4</cp:revision>
  <dc:subject/>
  <dc:title>Matemātiskie spriedumi un sadzīve</dc:title>
</cp:coreProperties>
</file>