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0599-D21D-46AE-A256-2B194A1E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33354-A78E-40A1-B888-5A5B7441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25A6-E6CC-49FB-9754-0327B111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0101E-2359-4D8A-97BB-DEB9801F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2741-6D4F-4AF6-8921-542ABE78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B459-CA59-4B71-80EA-BD0E59ED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8873-8EEF-4006-AA6A-FE93ABA6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4364-BECD-4E24-A949-8C424CE4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EB7C-2F2A-4158-8A72-A1E9C99D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85CB-C163-45D1-AB2F-94190775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A961-A856-4488-9D36-BC906EA4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8A85-84E9-4E1B-AE74-D1C27711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66277-CDB3-4708-99CD-4114B37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C94C-5BFA-4723-8FF1-AC3E542B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27E7-F2E1-436F-A890-8D832994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39A2-D38C-4DD6-B65D-FE944556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8355-C576-4BAE-8036-17C57238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4774-F4C2-4909-86DC-BA0D4EE8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D5F7-6863-4F9E-8C63-DA4549F9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46D0-5F18-4418-A01C-B34ECE09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E19C-7612-4592-A8BB-F649B3CF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E2C9-8C1D-481C-8A54-B7B0A010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C7D9-C650-46B9-A192-5566725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B64F-8C87-4564-88E4-BBA4140B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92E1-27D7-42F6-AB05-8BFE0D1EEFBA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0C0D-4717-4AB1-A5A9-1528A334DD72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ff"/>
                </a:solidFill>
                <a:latin typeface="Arial"/>
              </a:rPr>
              <a:t>Matemātiskie slēdzieni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kviens no mums ir kādreiz nonācis situācijā, kad nākas pamatot savu viedokl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izstāvēt pozīciju un argumentēt savu izvēli. Nereti no tā, cik veiksmīgi esam mācējuši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zdarīt, ir atkarīga mūs interesējošo lēmumu pieņemšana. Katru dienu mēs vēroja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alizējam, vērtējam un secinām. Lai varētu plānot dažādu procesu tālākās norises, mē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enšamies pamanīt vai noteikt šo procesu likumsakarības. Pamatot savu viedokli m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līdz ne tikai informācijas pieejamība, bet arī prasme loģiski spriest. Ir pazīstami dažā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priešanas paņēmieni, spriedumu un secinājumu iegūšanas vei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305680" cy="3981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59280" y="3357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57520" cy="332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2556000" y="2924280"/>
            <a:ext cx="4444920" cy="310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3348000" y="2997360"/>
            <a:ext cx="2978280" cy="304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2987640" y="2852640"/>
            <a:ext cx="3529080" cy="352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3564000" y="3141720"/>
            <a:ext cx="2666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1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100"/>
                            </p:stCondLst>
                            <p:childTnLst>
                              <p:par>
                                <p:cTn id="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26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6800"/>
                            </p:stCondLst>
                            <p:childTnLst>
                              <p:par>
                                <p:cTn id="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3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9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35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735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Kādi varbūt slēdzie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2997360"/>
            <a:ext cx="1368360" cy="1511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lēdzi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V="1">
            <a:off x="4500360" y="2204280"/>
            <a:ext cx="1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03640" y="1628640"/>
            <a:ext cx="2592360" cy="576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īri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4932000" y="4292280"/>
            <a:ext cx="63252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003640" y="4869000"/>
            <a:ext cx="259272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/>
          <p:nvPr/>
        </p:nvCxnSpPr>
        <p:spPr>
          <a:xfrm flipH="1">
            <a:off x="3276000" y="4292280"/>
            <a:ext cx="70380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1258920" y="4869000"/>
            <a:ext cx="259236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uktī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5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450"/>
                            </p:stCondLst>
                            <p:childTnLst>
                              <p:par>
                                <p:cTn id="9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95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95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45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45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95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Empīrisk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Empīriski slēdzieni </a:t>
            </a: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– ( no grieķu ‘empeiria’  - pieredze) slēdzieni, kas tiek izdarī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balstoties uz iepriekš gūtu pieredz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Tā kā cilvēku pieredze ir individuāla, tad vienā un tajā pašā situācijā esošu dažā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cilvēku gūtā pieredze var būt dažāda. Tieši tāpēc uz pieredzi balstīti jeb empīri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slēdzienii nevar kļūt par loģiska pierādījuma pamatu, jo tie ne vienmēr ir patiesi 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attiecināmi uz visiem gadīj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Teksta uzdevumi parasti ir grūtāki par citiem uzdevum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Ģeometrija ir sarežģītāka nekā algebr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5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45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5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55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6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965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16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245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78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In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lv-LV" sz="1600" spc="-1" strike="noStrike">
                <a:solidFill>
                  <a:srgbClr val="000000"/>
                </a:solidFill>
                <a:latin typeface="Arial"/>
              </a:rPr>
              <a:t>Induktīvi slēdzieni- </a:t>
            </a: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(no latīņu ‘inductio’ — uzvedināšana, ierosināšana) slēdzieni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kas tiek izdarīti balstoties uz vairāku eksperimentu vai vērojumu laikā gūtiem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Induktīvās spriešanas pamatā ir vispārīgu secinājumu izdarīšana, balstoties uz atsevišķ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00"/>
                </a:solidFill>
                <a:latin typeface="Arial"/>
              </a:rPr>
              <a:t>gadījumu rezultāt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1)Riharda, Aivara, Reinera, Imanta, Ivo meitenēm ir blondi mati, tātad zēniem vairāk patīk meitenes ar blondiem matie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2) Ja saule pēc saullēkta uzreiz ieiet mākoņos — būs lie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1600" spc="-1" strike="noStrike">
                <a:solidFill>
                  <a:srgbClr val="00007d"/>
                </a:solidFill>
                <a:latin typeface="Arial"/>
              </a:rPr>
              <a:t>3)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35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55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85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7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3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25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7d"/>
                </a:solidFill>
                <a:latin typeface="Arial"/>
              </a:rPr>
              <a:t>Deduktīvi slēdzi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duktīvi slēdzieni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 latīņu valodas ‘deductio’ — izvešana, aizveš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lēdzieni, kad katrs nākamais secinājums tiek balstīts uz iepriekš pamatotu spriedu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duktīvas spriešanas gaitā secinājumi tiek iegūti, izmantojot iepriekš pierādītus fak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 patiesus apgalvojum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7d"/>
                </a:solidFill>
                <a:latin typeface="Arial"/>
              </a:rPr>
              <a:t>Piemēr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1)Romba diagonāles krustpunktā dalās uz pusēm, tātad arī kvadrāta diagonāles krustpunktā dalās uz pusēm, jo kvadrāts ir romba speciālgadīju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2)Jo lielāks automašīnas ātrums, jo garāks ir tās bremzēšanas ceļš.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bremzēšanas ceļš, jo garāks apstāšanās ceļš. Tātad jo lielāks ātrums, jo garā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apstāšanās ceļ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7d"/>
                </a:solidFill>
                <a:latin typeface="Arial"/>
              </a:rPr>
              <a:t>3)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4960" y="5719680"/>
            <a:ext cx="158904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2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45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9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35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75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96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8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4:19:11Z</dcterms:created>
  <dc:creator>santa</dc:creator>
  <dc:description/>
  <dc:language>en-US</dc:language>
  <cp:lastModifiedBy>Fizikas un Matemātikas fakultāte</cp:lastModifiedBy>
  <dcterms:modified xsi:type="dcterms:W3CDTF">2010-08-08T08:02:33Z</dcterms:modified>
  <cp:revision>31</cp:revision>
  <dc:subject/>
  <dc:title>Matemātiskie spriedumi</dc:title>
</cp:coreProperties>
</file>