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8D0-7259-4F6E-BA30-E360372F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A3F-3990-4AA2-8A7A-11724AAF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DDE-4F44-4FEA-A02C-2DA798DF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E29-9B59-440B-8C35-F3F83F8A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040F-BE37-4B46-AD01-A9447F5C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709E-E43D-4577-9466-0F9F295F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9F1B-4B90-4EF0-ABE2-3DBF7A48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34E9-29E8-40ED-8AC8-1162A10D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F428-9A7D-419D-B984-6DC67BE1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A7B2-4687-4F83-92AB-A033BEB5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A82C-7F61-434C-9197-90E3D745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C32-8C1A-4F6E-BD82-25455F66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A79D-24D9-4ACE-9277-4EE9C829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2B03-701A-4A42-AEAD-E0586B1B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9496-6989-40BA-8A86-BDF2474F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B986-8317-4143-B236-816FDD17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B687-0102-4C32-A7F4-20C97E27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4F4-9B11-4DC7-856B-DFEEFEE5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BDB-5E89-473B-ACEE-7CE6037A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BF2-6E45-4453-A8C6-D117D5F9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9AE-D960-4A78-9FBF-A752BD5B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43E-67C1-465F-B8CA-C2832F3A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9A8-46A7-4910-AEAA-FFA533D5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92E-87F0-4A5B-9BEB-F8CA40D3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821E-271B-4DAC-A100-9CC6816E0E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05F5-4761-4E64-9DDC-32C15A9A906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420000"/>
                </a:solidFill>
                <a:latin typeface="Times New Roman"/>
              </a:rPr>
              <a:t>Uzdevums</a:t>
            </a:r>
            <a:r>
              <a:rPr b="0" lang="lv-LV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Nosaki slēdziena veid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2209680"/>
          <a:ext cx="8229600" cy="4530960"/>
        </p:xfrm>
        <a:graphic>
          <a:graphicData uri="http://schemas.openxmlformats.org/drawingml/2006/table">
            <a:tbl>
              <a:tblPr/>
              <a:tblGrid>
                <a:gridCol w="4656240"/>
                <a:gridCol w="1244520"/>
                <a:gridCol w="1146240"/>
                <a:gridCol w="118260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īrisk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ktīv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duktīv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Kad saulei rietot gaiļi dzied, tad laik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īsie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Tuvojoties semestra beigām, skolēni sāk labot atzī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Vasarā es guļu līdz 11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Ja maijā daudz odu – b</a:t>
                      </a:r>
                      <a:r>
                        <a:rPr b="1" lang="lv-LV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ū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bagāts rudens (Latviešu tautas ticējum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Taisnleņķa trijstūra šauro leņķu summa ir 9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Jo lielāks ir automašīnas ātrums, jo garāks ir tās bremzēšanas ceļš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Visiem trijstūriem iekšējo leņķu summa ir    18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420000"/>
                </a:solidFill>
                <a:latin typeface="Times New Roman"/>
              </a:rPr>
              <a:t>Uzdevums</a:t>
            </a:r>
            <a:r>
              <a:rPr b="0" lang="lv-LV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osaki, izteikums ir patiess vai apla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14600" y="3657600"/>
                <a:ext cx="533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1" name=""/>
          <p:cNvGraphicFramePr/>
          <p:nvPr/>
        </p:nvGraphicFramePr>
        <p:xfrm>
          <a:off x="838080" y="2286000"/>
          <a:ext cx="7086600" cy="4383000"/>
        </p:xfrm>
        <a:graphic>
          <a:graphicData uri="http://schemas.openxmlformats.org/drawingml/2006/table">
            <a:tbl>
              <a:tblPr/>
              <a:tblGrid>
                <a:gridCol w="4876920"/>
                <a:gridCol w="1143000"/>
                <a:gridCol w="1066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teiku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i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a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Zeme ir Saules sistēmas planē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Skaitlis 17 ir pirmskait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alatinoLinotype-Roman"/>
                        </a:rPr>
                        <a:t>3. Funkcijas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ks vienmē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rodas I un III  kvadrant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Vienādmalu trijstūrim visi iekšējie leņķi ir 6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Romba diagonāles ir perpendikulār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 Skaitlis 63 nedalās ar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Paralēlas taisnes krusto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1:38:01Z</dcterms:created>
  <dc:creator>Girsts</dc:creator>
  <dc:description/>
  <dc:language>en-US</dc:language>
  <cp:lastModifiedBy>Fizikas un Matemātikas fakultāte</cp:lastModifiedBy>
  <dcterms:modified xsi:type="dcterms:W3CDTF">2010-08-08T08:18:41Z</dcterms:modified>
  <cp:revision>65</cp:revision>
  <dc:subject/>
  <dc:title>Semestra darbs</dc:title>
</cp:coreProperties>
</file>