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3FF-57BB-47F8-BB13-EA3BB3BB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044-6174-4A76-B893-3089B05B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EB4-B873-4970-8921-C3685933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D02F-2076-46A1-B33C-25C90743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C05C-1B0B-405B-A00A-4F405D3F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89B6-F374-4B4D-895F-5DDED2CB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320D-1715-46EF-B281-761EE87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9732-E27E-4A61-8BC8-CBDD1F1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F0C7-A607-40E3-8E0C-B531877A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1E51-C874-4CC2-BEDF-2526FBD0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BD78-9ABF-4BD4-9CAC-943A3FB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5C6-7A4D-45B8-A7C2-D6FA27C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CAF9-7A4C-46CB-B1C1-998DC6EE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F2C3-5E07-4E73-8220-474E544D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ADBA-1E9E-4765-BB2D-56D6BA6F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557C-7368-4AF5-9667-29AE7E8D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8B16-49E8-44DE-BA27-76A42C90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B82-16ED-4EBF-BB9D-2960EB0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E5C-42D2-4C8F-8408-A79D8AE7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D34-0298-4276-9601-2F4ECD6B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F0E-D698-40BB-885E-87856027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A82-8895-4AE7-8112-37B3B965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E1A-776F-4AF6-8AF1-F81F0241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75A-4673-4C8E-8F11-7B92FD6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B92-F2D4-46DE-A169-72D2A4C4EE6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DFFE-2787-48F0-8ADE-04B1FF902EA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5800" spc="-1" strike="noStrike">
                <a:solidFill>
                  <a:srgbClr val="999900"/>
                </a:solidFill>
                <a:latin typeface="Garamond"/>
              </a:rPr>
              <a:t>Kopa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teorijas pamatelement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Verdana"/>
              </a:rPr>
              <a:t>Kas ir kop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628640"/>
            <a:ext cx="3456000" cy="41054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7600" y="2060640"/>
            <a:ext cx="39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ir kaut kādu priekšmetu kop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95640" y="4869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16000" y="2492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19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71640" y="2276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2997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37162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8160" y="170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5080" y="24210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kopas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2924280"/>
            <a:ext cx="39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kopas elementu var būt jebkā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riekšmets, kā reāls ,kā arī kaut k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reā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otajā gadījumā tie ir bur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4000" y="4149720"/>
            <a:ext cx="31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as ir tukša kop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6520" y="46530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Tukša kopa ir kopa kurā na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eviena ele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Apakško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1773360"/>
            <a:ext cx="3673800" cy="331128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2492280"/>
            <a:ext cx="1727280" cy="1657440"/>
          </a:xfrm>
          <a:prstGeom prst="ellipse">
            <a:avLst/>
          </a:prstGeom>
          <a:solidFill>
            <a:srgbClr val="17eb2b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800" y="270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8160" y="2349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49720" y="1413000"/>
            <a:ext cx="409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A ir kopas B apakškopa ja v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elementi (punkti), kas pieder kopa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A, pieder arī kopai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2781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2133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3068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3357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370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076720" y="2421000"/>
                <a:ext cx="244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,d,f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b,c,d,f,g,h</m:t>
                            </m:r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⊂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UB pieder visi tie elementi (punkti), kas pieder kopai A, vai 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1,2,3,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318280" y="2781360"/>
                <a:ext cx="35938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vai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apvieno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55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5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5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16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163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18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šķēl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1628640"/>
            <a:ext cx="36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B pieder visi tie elementi (punkti), kas vienlaicīgi pieder kopai A un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1280" y="357192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UB={4,5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281560" y="2997360"/>
                <a:ext cx="3524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∈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>
              <a:alpha val="50000"/>
            </a:srgbClr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9af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4160" y="3429000"/>
            <a:ext cx="124596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  <a:ea typeface="Arial"/>
              </a:rPr>
              <a:t>∩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19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19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199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01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0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0000"/>
                                      </p:to>
                                    </p:animClr>
                                    <p:set>
                                      <p:cBhvr>
                                        <p:cTn id="22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starpīb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1773360"/>
            <a:ext cx="367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A\B pieder visi tie elementi (punkti), kas vienlaicīgi pieder kopai A, bet nepieder kopai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Piemē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={1,2,3,4,5}; B={4,5,6,7,8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A\B={1,2,3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270828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2637000"/>
            <a:ext cx="359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3068640"/>
                <a:ext cx="3456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∈</m:t>
                    </m:r>
                    <m:m>
                      <m:mr>
                        <m:e>
                          <m:r>
                            <m:t xml:space="preserve">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n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∉</m:t>
                          </m:r>
                        </m:e>
                      </m:mr>
                    </m:m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11280" y="1773360"/>
            <a:ext cx="1439640" cy="1439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87640" y="1773360"/>
            <a:ext cx="1440000" cy="1439640"/>
          </a:xfrm>
          <a:prstGeom prst="ellipse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342900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720" y="342900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3440" y="3429000"/>
            <a:ext cx="11455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\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76360" y="2349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34936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1773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48000" y="256536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2436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6360" y="2276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184464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21965E-006 L -0.14757 4.21965E-006 E">
                                      <p:cBhvr>
                                        <p:cTn id="25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L -0.15034 -0.00463 E">
                                      <p:cBhvr>
                                        <p:cTn id="25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L -0.15017 -0.00486 E">
                                      <p:cBhvr>
                                        <p:cTn id="26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81481E-006 L -0.17448 0.01135 E">
                                      <p:cBhvr>
                                        <p:cTn id="262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-0.15816 0.00579 E">
                                      <p:cBhvr>
                                        <p:cTn id="26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27746E-006 L -0.15816 0.00578 E">
                                      <p:cBhvr>
                                        <p:cTn id="266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9900"/>
                </a:solidFill>
                <a:latin typeface="Garamond"/>
              </a:rPr>
              <a:t>Kopu papildināj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1628640"/>
            <a:ext cx="36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</a:rPr>
              <a:t>Kopai Ā pieder visi tie elementi (punkti), kas nepieder kopai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724360" y="2708280"/>
                <a:ext cx="1681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∉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826920" y="1628640"/>
            <a:ext cx="3673800" cy="3095640"/>
          </a:xfrm>
          <a:prstGeom prst="rect">
            <a:avLst/>
          </a:prstGeom>
          <a:solidFill>
            <a:srgbClr val="17eb2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989000"/>
            <a:ext cx="1944720" cy="2087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941720"/>
            <a:ext cx="936720" cy="368280"/>
          </a:xfrm>
          <a:prstGeom prst="rect">
            <a:avLst/>
          </a:prstGeom>
          <a:solidFill>
            <a:srgbClr val="f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p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360" y="4941720"/>
            <a:ext cx="981000" cy="368280"/>
          </a:xfrm>
          <a:prstGeom prst="rect">
            <a:avLst/>
          </a:prstGeom>
          <a:solidFill>
            <a:srgbClr val="17eb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Kopa 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1844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16000" y="38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2060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220500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56000" y="3141720"/>
            <a:ext cx="58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7964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87640" y="39337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v-LV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7440" y="220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51640" y="3860640"/>
                <a:ext cx="172872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4:32:08Z</dcterms:created>
  <dc:creator>HOMEEEE</dc:creator>
  <dc:description/>
  <dc:language>en-US</dc:language>
  <cp:lastModifiedBy>Fizikas un Matemātikas fakultāte</cp:lastModifiedBy>
  <dcterms:modified xsi:type="dcterms:W3CDTF">2010-08-08T08:10:50Z</dcterms:modified>
  <cp:revision>4</cp:revision>
  <dc:subject/>
  <dc:title>Matemātiskie spriedumi un sadzīve</dc:title>
</cp:coreProperties>
</file>