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FA5-A80A-4B2F-8998-51517042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3E8-F5B1-403A-9B0C-3801C733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89A-5B5A-4940-93C7-37158E3D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F73-5364-40E6-8C3A-8E44AB31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157D-DB9D-4203-8558-20DA80E9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E52A-9C50-43BC-AB12-A8058F1D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99BB-E640-44DF-AC4A-CA67687F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886C-DEB4-4921-B866-0207A44B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63E1-F72E-49BC-9FCE-B41659A8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E6F2-EB18-43E8-9B78-869B56DB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29E4-4773-425B-B1D9-7905FF4D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7A7-0642-477C-9A1D-2FB08521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22C8-64AB-40A9-97F1-69D403F8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D42A-B1C1-44B3-A833-C389A71E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E51B-4AC0-47A9-A737-758B1BBC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C757-AE02-4D73-8612-DB525992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6B7B-77AF-433B-A9B5-7B83C71E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9E9C5-AE13-4D5A-9678-8BF7B264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275F5-5A2A-4667-83F6-60A192D9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B9CEA-BB84-41AD-981A-EF25865E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545A0-A334-4D30-8279-E76BC26A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1E8AF-25E3-4771-80BE-C19D599C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880-9E6F-49CB-807C-ABA93FC1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FFA97-C9F1-4A49-A0BF-5EC46ECF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2AD7B-612C-4F2F-A4D9-EEBF584C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ED080-C9D1-40A2-8FF9-2B269232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184FC-3B20-4B3B-8EE8-55FA7F8A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89B75-58E3-4DA2-9034-AA52C3AF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15E8D-0C5F-4E23-8D10-AC0F5402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85DDA-F3B1-4E6D-9902-6A72AF60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E17A7-CCCB-4233-B80C-39219B99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463F-5D17-4CA6-BE56-0674F298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EF50E-EABF-4B66-94DF-152D70DD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C68-D79A-45EC-8E59-E131431D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5F5F-81B4-485C-B0D2-ADF14591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BF349-DFFB-41AE-92F9-09191D1D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019A4-5866-45D6-B191-79ADB489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06DEE-EF14-4CEA-A8E2-B0C6B2B3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96F95-BACE-4CF7-88DF-BB3E9F86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C4212-D632-4A6F-976C-A7AFA3BD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1CE40-A7D6-41D0-A9EF-A4BA9F3C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F8172-F6D8-4059-9A28-3BD11F83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2FF83-9F43-4F88-BBA4-96CF850D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AE1E59-9EE8-4F55-A771-594D6719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555-47BE-4FC2-8E8F-F1E9C521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F6BC4-9ECC-4B55-8017-A3F870BA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F68419-2FAB-4EE8-AEAD-2F5D2EF7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4F6BB-3104-42DA-9B0A-118080C6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002FB-B402-4C8B-A51C-DEED1A1D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4E3EC-6FDD-4280-9A25-6CDB4749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C4CE6-D666-4D2C-A7D7-535C2B8C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C24B1-1453-4861-A5E9-EFEED5A0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7D117-0EF0-41DF-9880-665479C5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84633-E042-41D7-883E-D219E891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3C9A3D-47E4-4A9F-B894-9A48D423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572-4050-4B1C-AEC7-38C166E4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E4C9B5-ACEF-43FB-84C2-6CEF488D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4E4A7-9DFC-416A-87E8-1C6D3BE1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19A4A6-F894-4F43-8493-439FBC1C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1B2D1-141B-40E8-B266-B1D792F8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9545D-26D0-4C65-92FC-575C2EC1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CD448E-61A9-447D-A39A-1A8CA7F7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03519F-A183-4C44-BD73-32BF533C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AFF22A-DF3C-415A-8BA1-D79DCF8B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629C9B-042B-4057-A37F-1C3B8EA0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A005B-97F2-441C-AB27-8E2A12B1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4C3-A4F0-485A-844E-2300B63D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87A78-5ABD-4119-BF2D-E078BE2E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8BF83-B61D-490E-9AB7-D99384CB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4F31D-8037-4404-86DF-128BC36E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2715D3-1DBC-44CF-AE9D-24425A3F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2A6FE3-C998-497F-8220-FE5588DE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10B8CB-00CA-4DF8-8E01-CC49A461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B713AB-13C6-4793-9C37-DA482075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5AD4F-028B-4328-B78D-EB2A712C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557F68-4495-4A32-B9D5-901BCA3C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56C002-664F-428F-990C-346DDF08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E0E-F7BE-458B-8985-B6038E14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E9027-5B35-4625-8AA2-1E6924F4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519159-526E-4882-9941-A5AFA820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FB1EEA-4F0F-4E3D-859B-C938171E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0ECF8-292B-4B4E-869B-9D7E5AE6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AF5086-72B9-4143-A1AB-4F68767C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9A5-A849-4A70-9A4A-994185BE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60FB-799B-4CE8-BD58-948C8C14C7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Taisns savienotājs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Taisnstūris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āls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āls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āls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āls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āls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ED00-5853-4153-9453-7CA59F0A8F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3768-4E53-4343-874A-DC32716DCF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Taisnstūris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āls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āls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āls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āls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āls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Taisns savienotājs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66AE-68F6-4EC5-B52C-9F62A721E6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C2E1-658C-449E-80AE-D24B7BA6F4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Taisns savienotājs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Taisns savienotājs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Taisns savienotājs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Taisnstūris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Taisns savienotājs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āls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8701-AB0F-4E47-857E-1981BEF972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āls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Taisns savienotājs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Taisnstūris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Taisns savienotājs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Taisns savienotājs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Taisns savienotājs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B888-2E7F-4EF2-B322-7764EE284F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40000" y="1988640"/>
            <a:ext cx="559584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Par kopām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OP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opa matemātikā ir dažādu atsevišķu objektu apvienojums vienā veselum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Objektus, no kuriem sastāv kopa, sauc par kopas elementi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Kopa A ar tas elementiem a,b,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To pieraksta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A={a,b,c} 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, kopa B ir ciparu kop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B={0,1,2,3,4,5,6,7,8,9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A sakrīt ar kopu B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B ir kopas A apakškop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Ovāls 4"/>
          <p:cNvSpPr/>
          <p:nvPr/>
        </p:nvSpPr>
        <p:spPr>
          <a:xfrm>
            <a:off x="5364000" y="2349360"/>
            <a:ext cx="1800360" cy="18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=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Ovāls 7"/>
          <p:cNvSpPr/>
          <p:nvPr/>
        </p:nvSpPr>
        <p:spPr>
          <a:xfrm>
            <a:off x="1187280" y="4869000"/>
            <a:ext cx="1800360" cy="180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Ovāls 8"/>
          <p:cNvSpPr/>
          <p:nvPr/>
        </p:nvSpPr>
        <p:spPr>
          <a:xfrm>
            <a:off x="2124000" y="5373720"/>
            <a:ext cx="792360" cy="79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4500720" y="5324400"/>
                <a:ext cx="2232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771640" y="2982960"/>
                <a:ext cx="18320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314520" cy="2552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3276360" cy="20858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280" y="169992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apvienojums-visi elemeti tieši vienu reiz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šķēlums-tikkai kopīgie eleme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076720" y="5084640"/>
                <a:ext cx="223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050920" y="2502000"/>
                <a:ext cx="19465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4356000" y="4221000"/>
            <a:ext cx="3257640" cy="21434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90960" cy="23810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pas atņemšan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Teksta vietturis 12"/>
              <p:cNvSpPr txBox="1"/>
              <p:nvPr/>
            </p:nvSpPr>
            <p:spPr>
              <a:xfrm>
                <a:off x="1835280" y="5013360"/>
                <a:ext cx="16729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003640" y="2492280"/>
                <a:ext cx="17290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0:12:24Z</dcterms:created>
  <dc:creator>Dzeralds</dc:creator>
  <dc:description/>
  <dc:language>en-US</dc:language>
  <cp:lastModifiedBy>Fizikas un Matemātikas fakultāte</cp:lastModifiedBy>
  <dcterms:modified xsi:type="dcterms:W3CDTF">2010-08-08T07:37:13Z</dcterms:modified>
  <cp:revision>46</cp:revision>
  <dc:subject/>
  <dc:title>Atkārtojuma uzdevumi</dc:title>
</cp:coreProperties>
</file>