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ECB6-D993-4C13-83DC-5DF70A73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2AEA-5108-4BF5-9C9A-EC0CED24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DAC6B-A86F-4D98-88E0-FEF2EC3B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CBF0-78C2-4F93-BBEE-8E2901F6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B098-DA16-41E8-A73B-AA5BACAF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0D9C-EB53-4F4B-9A83-88633B1F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3ACC-75E7-41F8-86FC-177C5DF2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4178-FA17-48FF-BB48-0670B66C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352A-49F8-4323-AAEF-40698852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848A-9CD6-4B34-812F-EA7ACAB0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1FEB-DDEA-4718-BA4D-B60D6D2F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474E-BBD3-4EA5-B96F-C0A23FCA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3953-9B8F-4F54-9A6A-DD399ED4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5AA9-F9CC-436D-B4B9-7802C91D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87DA-DFA5-4F10-908E-E30F44B1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9F9B-7B31-491A-96F4-2D68709F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D753-DC28-44FB-9FF8-8EEAA308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4A042-FCD8-4AAC-967E-C60812FB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D335-271E-40B9-8CED-17F9D4C2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FCD27-737E-48EB-9F8C-934E641C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76F23-5594-47FF-9588-856770AC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1B8F9-8486-4FBD-8145-8D7007A4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67C4-4D5D-492C-AF18-CDEC5FFE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9158E-D75C-4B69-9436-ECE9FAAF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6604-2F42-4EAC-B2F2-CFBF78041B25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91CA-1414-43D6-B50D-E1B689C448AE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</a:rPr>
              <a:t>Matemātiskie slēdzieni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kviens no mums ir kādreiz nonācis situācijā, kad nākas pamatot savu viedokl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izstāvēt pozīciju un argumentēt savu izvēli. Nereti no tā, cik veiksmīgi esam mācējuši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zdarīt, ir atkarīga mūs interesējošo lēmumu pieņemšana. Katru dienu mēs vēroja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alizējam, vērtējam un secinām. Lai varētu plānot dažādu procesu tālākās norises, mē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enšamies pamanīt vai noteikt šo procesu likumsakarības. Pamatot savu viedokli m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līdz ne tikai informācijas pieejamība, bet arī prasme loģiski spriest. Ir pazīstami dažā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priešanas paņēmieni, spriedumu un secinājumu iegūšanas vei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305680" cy="3981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657520" cy="3324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556000" y="2924280"/>
            <a:ext cx="4444920" cy="3105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348000" y="2997360"/>
            <a:ext cx="2978280" cy="3044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2987640" y="285264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3564000" y="3141720"/>
            <a:ext cx="2666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80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1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1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6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680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3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9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635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35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Kādi varbūt slēdzien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2997360"/>
            <a:ext cx="1368360" cy="151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lēdzi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V="1">
            <a:off x="4500360" y="2204280"/>
            <a:ext cx="108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3203640" y="1628640"/>
            <a:ext cx="2592360" cy="576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īri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4932000" y="4292280"/>
            <a:ext cx="63252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5003640" y="4869000"/>
            <a:ext cx="259272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ktī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/>
          <p:nvPr/>
        </p:nvCxnSpPr>
        <p:spPr>
          <a:xfrm flipH="1">
            <a:off x="3276000" y="4292280"/>
            <a:ext cx="70380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1258920" y="4869000"/>
            <a:ext cx="259236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uktī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5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450"/>
                            </p:stCondLst>
                            <p:childTnLst>
                              <p:par>
                                <p:cTn id="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95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95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45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45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95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Empīrisk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Empīriski slēdzieni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– ( no grieķu ‘empeiria’  - pieredze) slēdzieni, kas tiek izdarī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balstoties uz iepriekš gūtu pieredz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Tā kā cilvēku pieredze ir individuāla, tad vienā un tajā pašā situācijā esošu dažā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cilvēku gūtā pieredze var būt dažāda. Tieši tāpēc uz pieredzi balstīti jeb empīri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slēdzienii nevar kļūt par loģiska pierādījuma pamatu, jo tie ne vienmēr ir patiesi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attiecināmi uz visiem gadījum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1)Teksta uzdevumi parasti ir grūtāki par citiem uzdevum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2) Ģeometrija ir sarežģītāka nekā algeb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3)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5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45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5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55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6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965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16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245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78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Induktīv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Induktīvi slēdzieni- </a:t>
            </a: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(no latīņu ‘inductio’ — uzvedināšana, ierosināšana) slēdzien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kas tiek izdarīti balstoties uz vairāku eksperimentu vai vērojumu laikā gūtiem rezultāt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Induktīvās spriešanas pamatā ir vispārīgu secinājumu izdarīšana, balstoties uz atsevišķ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gadījumu rezultāt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1)Riharda, Aivara, Reinera, Imanta, Ivo meitenēm ir blondi mati, tātad zēniem vairāk patīk meitenes ar blondiem mati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2) Ja saule pēc saullēkta uzreiz ieiet mākoņos — būs lie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3)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5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55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4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85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67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23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25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Deduktīv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duktīvi slēdzieni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no latīņu valodas ‘deductio’ — izvešana, aizveš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lēdzieni, kad katrs nākamais secinājums tiek balstīts uz iepriekš pamatotu spriedu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duktīvas spriešanas gaitā secinājumi tiek iegūti, izmantojot iepriekš pierādītus fak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 patiesus apgalvojum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1)Romba diagonāles krustpunktā dalās uz pusēm, tātad arī kvadrāta diagonāles krustpunktā dalās uz pusēm, jo kvadrāts ir romba speciālgadīju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2)Jo lielāks automašīnas ātrums, jo garāks ir tās bremzēšanas ceļš. Jo garā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bremzēšanas ceļš, jo garāks apstāšanās ceļš. Tātad jo lielāks ātrums, jo garā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apstāšanās ceļ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3)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2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45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9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35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75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96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8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4:19:11Z</dcterms:created>
  <dc:creator>santa</dc:creator>
  <dc:description/>
  <dc:language>en-US</dc:language>
  <cp:lastModifiedBy>Fizikas un Matemātikas fakultāte</cp:lastModifiedBy>
  <dcterms:modified xsi:type="dcterms:W3CDTF">2010-08-08T08:02:33Z</dcterms:modified>
  <cp:revision>31</cp:revision>
  <dc:subject/>
  <dc:title>Matemātiskie spriedumi</dc:title>
</cp:coreProperties>
</file>