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39C7-F24E-449C-B437-1C813190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83E8-FBCB-405B-B81F-2E414AD9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37E4-201E-4A43-A1A0-7BDF418B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0FDB-EF47-4FAF-A680-9AF5E4B2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B0FE-52E6-47FF-9259-F5D22F0C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7CCC-7636-4C33-A006-6C225EE9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AB9B-2B99-4F3D-8D98-67A0AD9D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D9B6-33AD-4AAC-A359-534E9514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003F-CADB-4FD5-8BBF-DC3D3A2E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2631-1C66-4A19-BE09-A8DF8525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66D7-3561-4121-96EB-4E88DCFD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3093-88CA-42CD-9EEA-347A2EFF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7ED6-395B-4DC9-B482-EE44AA98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3048-F257-4337-924B-F50DA499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A08A-8F42-4509-A74F-7C68AC47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A1A4-6A2E-4A0C-BD27-E66BCF6A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A470-1329-44EB-A6E6-5CF18C74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16E-39ED-41EB-83D6-E401A7F1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AA41-255A-427C-BED2-75FB83B0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0DD-24DE-4773-8C91-A79E64D0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3C87-E5B0-455A-B575-1CE38F1F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95F2-AC18-4E60-BF4D-3A853CE7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F53A-046F-4FA1-9BD4-B9320682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2DFA-2652-4167-8347-3E208617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A0DE-A07C-4F0F-9D2F-C8450C5820A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B52C-63F0-4126-8674-E50C3F64A73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800" spc="-1" strike="noStrike">
                <a:solidFill>
                  <a:srgbClr val="999900"/>
                </a:solidFill>
                <a:latin typeface="Garamond"/>
              </a:rPr>
              <a:t>Kopa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teorijas pamatelement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Kas ir kop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628640"/>
            <a:ext cx="3456000" cy="41054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7600" y="2060640"/>
            <a:ext cx="39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ir kaut kādu priekšmetu kop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95640" y="4869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2492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1916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2276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2997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3716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2852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8160" y="170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5080" y="2421000"/>
            <a:ext cx="38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as ir kopas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2924280"/>
            <a:ext cx="396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ar kopas elementu var būt jebkā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riekšmets, kā reāls ,kā arī kaut k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ereā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otajā gadījumā tie ir bur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4000" y="414972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as ir tukša kop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6520" y="4653000"/>
            <a:ext cx="31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Tukša kopa ir kopa kurā n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eviena elem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Apakško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773360"/>
            <a:ext cx="3673800" cy="3311280"/>
          </a:xfrm>
          <a:prstGeom prst="ellipse">
            <a:avLst/>
          </a:prstGeom>
          <a:solidFill>
            <a:srgbClr val="17eb2b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2492280"/>
            <a:ext cx="1727280" cy="1657440"/>
          </a:xfrm>
          <a:prstGeom prst="ellipse">
            <a:avLst/>
          </a:prstGeom>
          <a:solidFill>
            <a:srgbClr val="17eb2b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81800" y="2708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8160" y="234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49720" y="1413000"/>
            <a:ext cx="409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A ir kopas B apakškopa ja v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elementi (punkti), kas pieder kop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A, pieder arī kopai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2781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21337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3068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3357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4360" y="26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076720" y="2421000"/>
                <a:ext cx="2448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,d,f</m:t>
                            </m:r>
                          </m:e>
                        </m:d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,b,c,d,f,g,h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⊂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292720" y="162864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UB pieder visi tie elementi (punkti), kas pieder kopai A, vai pieder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1280" y="357192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UB={1,2,3,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318280" y="2781360"/>
                <a:ext cx="3593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vai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4160" y="3429000"/>
            <a:ext cx="124596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apvienoj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15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155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15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15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16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163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18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šķēl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1628640"/>
            <a:ext cx="36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B pieder visi tie elementi (punkti), kas vienlaicīgi pieder kopai A un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91280" y="357192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UB={4,5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281560" y="2997360"/>
                <a:ext cx="352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n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9af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4160" y="3429000"/>
            <a:ext cx="124596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193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19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19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20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203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22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starpīb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5148360" y="1773360"/>
            <a:ext cx="36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\B pieder visi tie elementi (punkti), kas vienlaicīgi pieder kopai A, bet nepieder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364500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\B={1,2,3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270828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2637000"/>
            <a:ext cx="359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219640" y="3068640"/>
                <a:ext cx="3456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n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∉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3440" y="3429000"/>
            <a:ext cx="11455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\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25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25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26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262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264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266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papildināj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162864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Ā pieder visi tie elementi (punkti), kas nepieder kopa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724360" y="2708280"/>
                <a:ext cx="1681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∉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826920" y="1628640"/>
            <a:ext cx="3673800" cy="3095640"/>
          </a:xfrm>
          <a:prstGeom prst="rect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19280" y="1989000"/>
            <a:ext cx="1944720" cy="2087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94172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360" y="494172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20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31417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79640" y="2852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7440" y="220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651640" y="3860640"/>
                <a:ext cx="172872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∈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4:32:08Z</dcterms:created>
  <dc:creator>HOMEEEE</dc:creator>
  <dc:description/>
  <dc:language>en-US</dc:language>
  <cp:lastModifiedBy>Fizikas un Matemātikas fakultāte</cp:lastModifiedBy>
  <dcterms:modified xsi:type="dcterms:W3CDTF">2010-08-08T08:10:50Z</dcterms:modified>
  <cp:revision>4</cp:revision>
  <dc:subject/>
  <dc:title>Matemātiskie spriedumi un sadzīve</dc:title>
</cp:coreProperties>
</file>