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886-38B0-4625-95B1-6A82BC13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89D-FCFB-4A82-91F5-D1FAD266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EA9-833B-4980-9BF5-03704937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122-8A81-405D-8C2D-D4128CCA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65E-C0D0-4330-92DA-3AB8A30A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06EE-C024-4D1D-B85B-2676EE34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11D-EB34-4092-84E2-30A938A1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BC3-66B4-4BF9-A8B7-88A253F8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30C-50BC-4EF0-BC4D-52776708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85BE-324D-4785-AA93-B4D30AA9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777-6C1F-4A5C-95E1-A982D4EA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B04-5C8B-456C-938D-AD9BF5B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63EA-9CC7-463E-90CC-898A8999F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Times New Roman"/>
              </a:rPr>
              <a:t>Matemātiskie spriedum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140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Dota kopa</a:t>
            </a: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 = {8, 9, 15, 26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43040" y="188604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71560" y="401472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kopu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92680" y="4003560"/>
            <a:ext cx="3165480" cy="262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71560" y="505764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i="1" lang="lv-LV" sz="3600" spc="-1" strike="noStrike">
                <a:solidFill>
                  <a:srgbClr val="9933ff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524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Loģika ir viena no visvecākajām zinātnēm, kas radusies 4. gs. p.m.ē. Tā pēta likumsakarības, kurām seko organizēta un pareiza domāšana. Matemātiskā loģika pēta piemērotu matemātisko metožu izmantošanu loģikas zinātnē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22827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1474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33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0066"/>
                </a:solidFill>
                <a:latin typeface="Times New Roman"/>
              </a:rPr>
              <a:t>Ko matemātikā sauc par izteikumi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648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Par izteikumu sauc apgalvojumu, par kuru var viennozīmīgi pateikt, vai tas ir patiess, vai – apla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2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371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048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5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86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8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886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1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00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Lat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4800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Krie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5791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osaki, vai izteikums ir patiess, vai – aplam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762120"/>
            <a:ext cx="803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3333cc"/>
                </a:solidFill>
                <a:latin typeface="Times New Roman"/>
              </a:rPr>
              <a:t>Kas ir tieš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3623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00"/>
                </a:solidFill>
                <a:latin typeface="Times New Roman"/>
              </a:rPr>
              <a:t>Kas ir apgriezt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6160" y="454356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pretēj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8640" y="1957320"/>
            <a:ext cx="24685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990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ir četrstūris, tad tā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382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griezt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04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Tieš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048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a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, tad šis daudzstūris ir četrstūr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46483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0d523"/>
                </a:solidFill>
                <a:latin typeface="Times New Roman"/>
              </a:rPr>
              <a:t>Pretēj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2578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nav četrstūris, tad tā iekšējo leņķu summa nav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7621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66"/>
                </a:solidFill>
                <a:latin typeface="Times New Roman"/>
              </a:rPr>
              <a:t>Kā tu saproti jēdzienu “kopa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3623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ādas kopas sauc par tukš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6160" y="454356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c00cc"/>
                </a:solidFill>
                <a:latin typeface="Times New Roman"/>
              </a:rPr>
              <a:t>Kādas kopas sauc par galīgām, un kādas sauc par bezgalīg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43840" y="131436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52480" y="94788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933ff"/>
                </a:solidFill>
                <a:latin typeface="Times New Roman"/>
              </a:rPr>
              <a:t>Kas ir kopu šķēl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920" y="2824200"/>
            <a:ext cx="57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Kas ir kopu apvienoj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4700520"/>
            <a:ext cx="50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kopu starpīb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91240" y="866880"/>
            <a:ext cx="25527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228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otas kop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895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Atrod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905120"/>
            <a:ext cx="527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lv-LV" sz="3800" spc="-1" strike="noStrike">
                <a:solidFill>
                  <a:srgbClr val="00cc00"/>
                </a:solidFill>
                <a:latin typeface="Times New Roman"/>
              </a:rPr>
              <a:t> = {1, 10, 30, 45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066680"/>
            <a:ext cx="4083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lang="lv-LV" sz="3800" spc="-1" strike="noStrike">
                <a:solidFill>
                  <a:srgbClr val="fc6826"/>
                </a:solidFill>
                <a:latin typeface="Times New Roman"/>
              </a:rPr>
              <a:t> = {3, 4, 5, 7, 8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066680"/>
            <a:ext cx="494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lv-LV" sz="3800" spc="-1" strike="noStrike">
                <a:solidFill>
                  <a:srgbClr val="3333ff"/>
                </a:solidFill>
                <a:latin typeface="Times New Roman"/>
              </a:rPr>
              <a:t> = {2, 4, 6, 7, 9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657600"/>
            <a:ext cx="73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1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419720"/>
            <a:ext cx="63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2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181480"/>
            <a:ext cx="75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3) kopu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apvienojumu –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943600"/>
            <a:ext cx="68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4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starpīb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6:04:57Z</dcterms:created>
  <dc:creator>The Only One</dc:creator>
  <dc:description/>
  <dc:language>en-US</dc:language>
  <cp:lastModifiedBy>Fizikas un Matemātikas fakultāte</cp:lastModifiedBy>
  <dcterms:modified xsi:type="dcterms:W3CDTF">2010-08-08T08:08:42Z</dcterms:modified>
  <cp:revision>21</cp:revision>
  <dc:subject/>
  <dc:title>Matemātiskie spriedumi</dc:title>
</cp:coreProperties>
</file>