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A4E-14F4-4A7D-BDA0-72B93D56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0E1-121E-4831-8FA9-9D8A4E91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C67-9712-44A4-BF0A-8A272837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597-FC52-497C-A5E5-C66E9E5B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53A8-A2F8-4BF5-81BB-B357CC00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C43E-8321-4417-BC92-2F0FDF55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72F6-5024-44EF-870F-6A92ACA7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31E1-7138-4493-A1F9-2C6733C1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ED53-815C-4C1F-89DD-24815FAB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2A86-C7AA-4C4E-87E0-995237FA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470D-B902-473B-BA51-91BB23B6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15B-886A-4D90-A2A7-ADCE3452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92F9-0FED-44BC-8332-216868F1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1D79-758B-4DDB-99A4-859BF8ED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391F-0A79-43EB-9C44-4D366A2F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0C47-D0DD-4A36-A944-71EF999A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CB9B-4874-40B9-87D5-78DAB654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97A-474A-4DB7-AF26-0B1D91FD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5F6-579D-47AC-B93F-ABA76C7F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ED6-F6D7-402A-B9C3-87A705B9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CC9-49FC-45A1-AF1B-5760AF33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F35-DD4B-435C-9953-FA18B4C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E1F-392C-49B8-9403-A75D78C3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ED2-B596-47D5-BE88-33054D5F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B668-E72E-4DE6-8C1A-C8FF7350A28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14B4-D8F2-45AE-9F3F-1E14757F470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33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2637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vieno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376360" cy="1376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907920"/>
            <a:ext cx="2303640" cy="1609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2160720" cy="1809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580000" y="2492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Šķē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tarpī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2720" y="5300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akško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730520" y="2989440"/>
                <a:ext cx="898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769000" y="2768760"/>
                <a:ext cx="89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57440" y="5349960"/>
                <a:ext cx="749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468760" y="5559480"/>
                <a:ext cx="895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1332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4005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4520" y="10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8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0508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1816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8880" y="126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24360" y="42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1979280" y="2205000"/>
            <a:ext cx="144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0360" y="1773360"/>
            <a:ext cx="216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34920" y="4652640"/>
            <a:ext cx="144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96000" y="4581360"/>
            <a:ext cx="21600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40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052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Piemēri</a:t>
            </a:r>
            <a:r>
              <a:rPr b="1" i="1" lang="lv-LV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62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ādas skolas visi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i</a:t>
            </a: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133720"/>
            <a:ext cx="56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a, kā viena no visām skolām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apakš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2708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as  el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3213000"/>
            <a:ext cx="813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Meitenes klasē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starpība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, ja A – visi skolēni klasē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B – zēni , kuri mācās klasē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A\B – skolēni no klases, kuri nav zē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472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Klase, kurā mācās gan zēni, gan meitene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apvienoju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52:06Z</dcterms:created>
  <dc:creator>Nadja</dc:creator>
  <dc:description/>
  <dc:language>en-US</dc:language>
  <cp:lastModifiedBy>Fizikas un Matemātikas fakultāte</cp:lastModifiedBy>
  <dcterms:modified xsi:type="dcterms:W3CDTF">2010-08-08T08:34:51Z</dcterms:modified>
  <cp:revision>69</cp:revision>
  <dc:subject/>
  <dc:title>Palīgmateriāls</dc:title>
</cp:coreProperties>
</file>