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E90-D5FA-4361-96A0-A726BA2E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A3B0-5F25-4693-8039-546893BF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77C-FBC2-4494-8872-CC39DA68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E16-775C-4047-9598-A00F4777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CACF-37CE-4296-A829-665740B7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87FF-5EAC-475A-A3F7-DBC05AB1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D26B-5604-4060-BE69-A4B16F77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E5952-ABBE-4F58-A273-85A02C69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0857-66A2-4235-B2CB-3640F492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654A-C65A-4B61-A06C-BC830D78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9892-F3A8-44D9-BA26-C6AE2B35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45D-6870-48DA-9DBC-FBB8B1F1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171A-0416-409F-B177-6052281A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BD82-A4A9-4F49-8AA1-96C03177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98FD-3159-44B4-AFA8-91D9303E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9CAC-DC7B-48E0-8706-202E30B6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4651-4F0E-462E-8439-B32CE27C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F47-8047-41E8-8F57-09D76C36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0A6-5075-4961-9E15-1D2A7603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B6AF-DFDA-4607-94C2-5EF34561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A65-3929-4E7D-BEEE-2123F470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F38-36D4-4461-8698-1E0D6F44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E06B-588C-465D-AE8E-87D285D1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8700-BCEA-41FF-B1DB-EF264D9B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D593-1E25-4089-954A-A15188213CA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66CA-375F-4714-B0FA-BC79F050A33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33336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Matemātiskā loģika un sadzī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03280" y="2637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vienoj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2376360" cy="1376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76720" y="907920"/>
            <a:ext cx="2303640" cy="16099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1116000" y="3429000"/>
            <a:ext cx="2232000" cy="1631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5003640" y="3357720"/>
            <a:ext cx="2160720" cy="18097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5580000" y="2492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Šķēlu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76360" y="501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tarpī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292720" y="5300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pakško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730520" y="2989440"/>
                <a:ext cx="89856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769000" y="2768760"/>
                <a:ext cx="898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657440" y="5349960"/>
                <a:ext cx="74916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5468760" y="5559480"/>
                <a:ext cx="8956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⊂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133200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00360" y="40053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94520" y="105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5816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0508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18160" y="148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78880" y="126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24360" y="422100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1979280" y="2205000"/>
            <a:ext cx="14436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940360" y="1773360"/>
            <a:ext cx="216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1834920" y="4652640"/>
            <a:ext cx="14436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796000" y="4581360"/>
            <a:ext cx="21600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5e6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95640" y="40464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Matemātiskā loģika un sadzī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05264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000" spc="-1" strike="noStrike">
                <a:solidFill>
                  <a:srgbClr val="ffffff"/>
                </a:solidFill>
                <a:latin typeface="Arial"/>
              </a:rPr>
              <a:t>Piemēri</a:t>
            </a:r>
            <a:r>
              <a:rPr b="1" i="1" lang="lv-LV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16286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Kādas skolas visi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ēni</a:t>
            </a:r>
            <a:r>
              <a:rPr b="0" lang="lv-LV" sz="1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i="1" lang="lv-LV" sz="2000" spc="-1" strike="noStrike">
                <a:solidFill>
                  <a:srgbClr val="ffffff"/>
                </a:solidFill>
                <a:latin typeface="Arial"/>
              </a:rPr>
              <a:t>k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2133720"/>
            <a:ext cx="5688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a, kā viena no visām skolām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apakško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95280" y="2708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Skolēns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as  elem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68360" y="3213000"/>
            <a:ext cx="813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Meitenes klasē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u starpība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, ja A – visi skolēni klasē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B – zēni , kuri mācās klasē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A\B – skolēni no klases, kuri nav zē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68360" y="472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Arial"/>
              </a:rPr>
              <a:t>Klase, kurā mācās gan zēni, gan meitenes – </a:t>
            </a:r>
            <a:r>
              <a:rPr b="1" lang="lv-LV" sz="2000" spc="-1" strike="noStrike">
                <a:solidFill>
                  <a:srgbClr val="ffffff"/>
                </a:solidFill>
                <a:latin typeface="Arial"/>
              </a:rPr>
              <a:t>kopu apvienoju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1:52:06Z</dcterms:created>
  <dc:creator>Nadja</dc:creator>
  <dc:description/>
  <dc:language>en-US</dc:language>
  <cp:lastModifiedBy>Fizikas un Matemātikas fakultāte</cp:lastModifiedBy>
  <dcterms:modified xsi:type="dcterms:W3CDTF">2010-08-08T08:34:51Z</dcterms:modified>
  <cp:revision>69</cp:revision>
  <dc:subject/>
  <dc:title>Palīgmateriāls</dc:title>
</cp:coreProperties>
</file>