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2E35-3618-4A2F-B309-0A62D66A0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A5FD-DB3E-48F7-A301-628F669D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2F8D-5482-4431-BFD6-E0B3E383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DBFB-246A-4906-810D-C5075D4E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7674-5C55-45B8-991C-2CB8CAF72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C8BB-FDFA-4597-91AA-744977D6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012C-E995-493A-86F4-4BF11005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341E-6A20-488F-AD04-C3E765FC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6F59-5FAB-41DB-B80D-6FE8CCB5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CD5E-AAFE-4B53-92AC-B545E2E4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E70E-3AC7-4435-ADBA-4363D21F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0EB4-FA9F-42E9-9875-71CFE6F3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9FD7-6089-4639-9E34-D4AB145C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B52C-1326-4A62-918D-9E7C9F6A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068F-2817-4C61-AA33-ED93B40B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8942-9B6D-4503-9DF9-4F38B0B28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605B-190F-4E68-AD73-51270628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E1B2-8845-4EB6-B5B6-710ACF4A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928B-4193-4825-8FBF-21AFAA26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BEBE-D68A-45A2-BCB5-90F13239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409D-B789-4692-BCCA-7F025087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8E7F-07CB-4E6B-88E4-685BAED9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B811-0E00-49EF-84F7-1FD02BC6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0E5D-B58B-44B3-9962-E0887B01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FC2A-D91F-47FA-9987-7B044BFAB4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2EAC-C089-46CF-9FBB-F19E08C8B51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420000"/>
                </a:solidFill>
                <a:latin typeface="Times New Roman"/>
              </a:rPr>
              <a:t>Uzdevums</a:t>
            </a:r>
            <a:r>
              <a:rPr b="0" lang="lv-LV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</a:rPr>
              <a:t>Nosaki slēdziena veid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2209680"/>
          <a:ext cx="8229600" cy="4530960"/>
        </p:xfrm>
        <a:graphic>
          <a:graphicData uri="http://schemas.openxmlformats.org/drawingml/2006/table">
            <a:tbl>
              <a:tblPr/>
              <a:tblGrid>
                <a:gridCol w="4656240"/>
                <a:gridCol w="1244520"/>
                <a:gridCol w="1146240"/>
                <a:gridCol w="1182600"/>
              </a:tblGrid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īrisk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uktīv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duktīv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Kad saulei rietot gaiļi dzied, tad laik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nīsie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Tuvojoties semestra beigām, skolēni sāk labot atzīm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Vasarā es guļu līdz 11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Ja maijā daudz odu – b</a:t>
                      </a:r>
                      <a:r>
                        <a:rPr b="1" lang="lv-LV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ū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bagāts rudens (Latviešu tautas ticējum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Taisnleņķa trijstūra šauro leņķu summa ir 90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Jo lielāks ir automašīnas ātrums, jo garāks ir tās bremzēšanas ceļš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Visiem trijstūriem iekšējo leņķu summa ir    180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420000"/>
                </a:solidFill>
                <a:latin typeface="Times New Roman"/>
              </a:rPr>
              <a:t>Uzdevums</a:t>
            </a:r>
            <a:r>
              <a:rPr b="0" lang="lv-LV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osaki, izteikums ir patiess vai aplam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514600" y="3657600"/>
                <a:ext cx="533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01" name=""/>
          <p:cNvGraphicFramePr/>
          <p:nvPr/>
        </p:nvGraphicFramePr>
        <p:xfrm>
          <a:off x="838080" y="2286000"/>
          <a:ext cx="7086600" cy="4383000"/>
        </p:xfrm>
        <a:graphic>
          <a:graphicData uri="http://schemas.openxmlformats.org/drawingml/2006/table">
            <a:tbl>
              <a:tblPr/>
              <a:tblGrid>
                <a:gridCol w="4876920"/>
                <a:gridCol w="1143000"/>
                <a:gridCol w="1066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teiku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ti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a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Zeme ir Saules sistēmas planē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Skaitlis 17 ir pirmskaitl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alatinoLinotype-Roman"/>
                        </a:rPr>
                        <a:t>3. Funkcijas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fiks vienmē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rodas I un III  kvadrant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Vienādmalu trijstūrim visi iekšējie leņķi ir 6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Romba diagonāles ir perpendikulār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 Skaitlis 63 nedalās ar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Paralēlas taisnes krusto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1:38:01Z</dcterms:created>
  <dc:creator>Girsts</dc:creator>
  <dc:description/>
  <dc:language>en-US</dc:language>
  <cp:lastModifiedBy>Fizikas un Matemātikas fakultāte</cp:lastModifiedBy>
  <dcterms:modified xsi:type="dcterms:W3CDTF">2010-08-08T08:18:41Z</dcterms:modified>
  <cp:revision>65</cp:revision>
  <dc:subject/>
  <dc:title>Semestra darbs</dc:title>
</cp:coreProperties>
</file>