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B4D7-2D25-4F61-8A99-2D6C2A82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9C6-7529-4A89-BE48-9AF5457F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0605-B44D-49D5-A51E-96823994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F16-1ED2-470F-8864-5D30430C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F199-60C4-4161-B4CF-AC2223CA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4E5C-25F2-4E8C-8873-A0A661BA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2909-A652-4541-9D5E-FF9A1F50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2E85-B7C7-4448-8FA6-C7C857BE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4F82-E13D-4CA7-886A-77CD74FB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7BFC-8DDC-4FD3-8EFA-0D18FE90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A814-01F9-4590-A5A1-ED666A71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150-7C95-4668-BA34-0F57E2EB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1E9B-2F17-4369-B608-DE915454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A49E-B707-45CC-BD2A-FDD8A986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FD9D-3A8B-4D3A-80B0-FD7BCF28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7FA9-3A00-4542-8AA3-3D81652C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5E9E-78A5-4D3C-9F1E-25793FD8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220-0AE9-4F4F-BC8D-9F75CFEB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F80-892F-407A-A08B-477C6800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ECC-229C-4160-A1A3-916DEB29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7D1-6DE9-4E24-A1D6-B544841E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6EE-B755-4ED6-BC15-8AB34893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B11-3BD9-4F26-BF3B-A606029B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7ED1-4169-4E07-A2D6-34053FDB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6927-22D4-4CDB-B5CB-A4639E8BB8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1E76-CDBC-4FFC-BECF-77657257ADD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lv.wikipedia.org/wiki/1632" TargetMode="External"/><Relationship Id="rId2" Type="http://schemas.openxmlformats.org/officeDocument/2006/relationships/hyperlink" Target="http://lv.wikipedia.org/wiki/29._augusts" TargetMode="External"/><Relationship Id="rId3" Type="http://schemas.openxmlformats.org/officeDocument/2006/relationships/hyperlink" Target="http://lv.wikipedia.org/wiki/1704" TargetMode="External"/><Relationship Id="rId4" Type="http://schemas.openxmlformats.org/officeDocument/2006/relationships/hyperlink" Target="http://lv.wikipedia.org/wiki/28.oktobris" TargetMode="External"/><Relationship Id="rId5" Type="http://schemas.openxmlformats.org/officeDocument/2006/relationships/hyperlink" Target="http://lv.wikipedia.org/wiki/Apgaism&#299;ba" TargetMode="External"/><Relationship Id="rId6" Type="http://schemas.openxmlformats.org/officeDocument/2006/relationships/hyperlink" Target="http://lv.wikipedia.org/wiki/Ang&#316;i" TargetMode="External"/><Relationship Id="rId7" Type="http://schemas.openxmlformats.org/officeDocument/2006/relationships/hyperlink" Target="http://lv.wikipedia.org/wiki/Filozofija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ffcc"/>
                </a:solidFill>
                <a:latin typeface="Tahoma"/>
              </a:rPr>
              <a:t>Matemātiskā loģika un sadzīve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 u="sng">
                <a:solidFill>
                  <a:srgbClr val="962671"/>
                </a:solidFill>
                <a:uFillTx/>
                <a:latin typeface="Tahoma"/>
              </a:rPr>
              <a:t>Slēdzien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1680" y="4572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33520"/>
            <a:ext cx="1828800" cy="1447560"/>
          </a:xfrm>
          <a:prstGeom prst="pentagon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133360" y="533520"/>
            <a:ext cx="533160" cy="1447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133720" y="1066680"/>
            <a:ext cx="144756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95280" y="914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914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152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43400" y="533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is sastāv no trīs trijstūriem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19720" y="533520"/>
            <a:ext cx="358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419720" y="990720"/>
                <a:ext cx="838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GR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334120" y="990720"/>
                <a:ext cx="68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RV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172200" y="99072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FVH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7315200" y="114300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26708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57800" y="1600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iecstū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400800" y="1676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GRV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7315200" y="1600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iekšē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leņķu summa ir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629400" y="2590920"/>
                <a:ext cx="17524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914400" y="3276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733920" y="2647800"/>
                <a:ext cx="28954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295280" y="32767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plūkojot trijstūra, četrstūra, piecstūra iekšējo leņķu summu iegūšanu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ar saskatīt sakarību, ka n – stūra iekšējo leņķu summa 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925880" y="4800600"/>
                <a:ext cx="2313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523880" y="5257800"/>
            <a:ext cx="304920" cy="60948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523880" y="4571640"/>
            <a:ext cx="457200" cy="6858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4572000"/>
            <a:ext cx="914400" cy="7632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895480" y="4648320"/>
            <a:ext cx="609840" cy="457200"/>
          </a:xfrm>
          <a:prstGeom prst="line">
            <a:avLst/>
          </a:prstGeom>
          <a:ln w="255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5867280"/>
            <a:ext cx="1143000" cy="304920"/>
          </a:xfrm>
          <a:prstGeom prst="line">
            <a:avLst/>
          </a:prstGeom>
          <a:ln w="28440">
            <a:solidFill>
              <a:srgbClr val="99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46483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1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4572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2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51055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3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28800" y="5638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ffffff"/>
                </a:solidFill>
                <a:latin typeface="Tahoma"/>
              </a:rPr>
              <a:t>4,..............,n- stūr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48769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induktīv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darot vispārīgus secinājumus no atsevišķu gadījumu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āda figūra būs nākamā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Kāda figūra būs nākamā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š skaitlis būs nākamais 7; 11; 15; 19;.....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762120" y="2971800"/>
            <a:ext cx="121896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9528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2971800"/>
            <a:ext cx="1143000" cy="99072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286000" y="2971800"/>
            <a:ext cx="1143000" cy="99072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657600" y="2895480"/>
            <a:ext cx="121932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57600" y="2895480"/>
            <a:ext cx="1219320" cy="10670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962520" y="3200400"/>
            <a:ext cx="609480" cy="45720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14800" y="3352680"/>
            <a:ext cx="228600" cy="2286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57800" y="3124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334120" y="2590920"/>
            <a:ext cx="16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5400000">
            <a:off x="876240" y="4915080"/>
            <a:ext cx="990720" cy="761760"/>
          </a:xfrm>
          <a:custGeom>
            <a:avLst/>
            <a:gdLst>
              <a:gd name="textAreaLeft" fmla="*/ 330120 w 990720"/>
              <a:gd name="textAreaRight" fmla="*/ 848520 w 99072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10800000">
            <a:off x="1980720" y="4800600"/>
            <a:ext cx="762120" cy="838080"/>
          </a:xfrm>
          <a:custGeom>
            <a:avLst/>
            <a:gdLst>
              <a:gd name="textAreaLeft" fmla="*/ 254160 w 762120"/>
              <a:gd name="textAreaRight" fmla="*/ 653040 w 762120"/>
              <a:gd name="textAreaTop" fmla="*/ 53460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2971800" y="4800600"/>
            <a:ext cx="914400" cy="761760"/>
          </a:xfrm>
          <a:custGeom>
            <a:avLst/>
            <a:gdLst>
              <a:gd name="textAreaLeft" fmla="*/ 304920 w 914400"/>
              <a:gd name="textAreaRight" fmla="*/ 783360 w 914400"/>
              <a:gd name="textAreaTop" fmla="*/ 486000 h 761760"/>
              <a:gd name="textAreaBottom" fmla="*/ 6526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877"/>
                </a:moveTo>
                <a:lnTo>
                  <a:pt x="13777" y="16877"/>
                </a:lnTo>
                <a:lnTo>
                  <a:pt x="13777" y="7200"/>
                </a:lnTo>
                <a:lnTo>
                  <a:pt x="10677" y="7200"/>
                </a:lnTo>
                <a:lnTo>
                  <a:pt x="16139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5029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Arial"/>
              </a:rPr>
              <a:t>.....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44956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lv-LV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induktīvie slēdzien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ē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Situācijas, kurās induktīvo spriešanu nevaram pilnīgi droši apgalvot ir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žādu stereotipu rašanās pamatā un bieži vien var būt maldinoš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852480" y="3124080"/>
            <a:ext cx="2840040" cy="313380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4724280" y="3429000"/>
            <a:ext cx="1381320" cy="3286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257800" y="2514600"/>
            <a:ext cx="3352680" cy="914400"/>
          </a:xfrm>
          <a:prstGeom prst="cloudCallout">
            <a:avLst>
              <a:gd name="adj1" fmla="val -33523"/>
              <a:gd name="adj2" fmla="val 8003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Arial"/>
              </a:rPr>
              <a:t>Tātad visām meitenēm patīk sarkana krā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5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konstatējuši, ka 10 dažādos laikrakstos reklāma aizņem vismaz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20%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o avīzes laukuma, tad spriedums, ka “visās avīzēs reklām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izņem vismaz 20% no tā laukuma”, var būt nepaties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3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Ja esam novērojuši, ka visi mūsu paziņas vīrieši brauc ar automašīnā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uru dzinēja tilpums ir vismaz 2 litri, mēs nedrīkstam pilnīgi droši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pgalvot, ka visi vīrieši brauc tikai ar šādām mašīn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2362320" cy="16495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09680" y="2438280"/>
            <a:ext cx="21146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Ļaujot noformulēt idejas un izvirzīt hipotēzes par pētāmo procesu priekšmetu vai parādību. Vēlāk, šīs hipotēzes pamatojot, ir iespējams gūt apstiprinošu vai noliedzošu spriedumu par mūsu veiktajiem vērojum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zvirzi hipotēzi, kāda varētu būt nākamā figūr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337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rot="5400000">
            <a:off x="2933280" y="346716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733920" y="3429000"/>
            <a:ext cx="685800" cy="60948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0" y="3429000"/>
            <a:ext cx="685800" cy="609480"/>
          </a:xfrm>
          <a:prstGeom prst="flowChartPredefined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952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52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4290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19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96252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73392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5238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62940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95880" y="548640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72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51814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67280" y="47242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58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952880"/>
            <a:ext cx="228600" cy="228600"/>
          </a:xfrm>
          <a:prstGeom prst="flowChartConnector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6272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3352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04520" y="5257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6292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lv-LV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De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pamatotu spried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, ka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romba diagonāles krustpunktā dalās uz 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o  zinot, var droši apgalvot, ka arī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kvadrāta diagonāles krustpunktā dalās u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pusēm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, jo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kvadrāts ir romba speciālgadīju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828800" y="4495680"/>
            <a:ext cx="1676520" cy="1524240"/>
          </a:xfrm>
          <a:prstGeom prst="diamond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28800" y="52578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66880" y="44956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5146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81280" y="50292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51460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62320" y="4952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0400" y="41911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AO=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BO=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502920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5a5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15000" y="4572000"/>
            <a:ext cx="1219320" cy="1066680"/>
          </a:xfrm>
          <a:prstGeom prst="flowChartProcess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1500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14640" y="4572000"/>
            <a:ext cx="121932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562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3432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3432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7220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467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T=T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LT=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deduktīvā slēdzienā jauns paties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Izmantojot iepriekš pierādītus faktus, patiesus apgalvojumus un loģiski secin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lielāks automašīnas ātrums, jo garāks ir tās bremzēšana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pat ir pierādīts – </a:t>
            </a:r>
            <a:r>
              <a:rPr b="0" i="1" lang="lv-LV" sz="1800" spc="-1" strike="noStrike">
                <a:solidFill>
                  <a:srgbClr val="962671"/>
                </a:solidFill>
                <a:latin typeface="Tahoma"/>
              </a:rPr>
              <a:t>“jo garāks bremzēšanas ceļš, jo garāks apstāšanās ceļš”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Tā kā pirmie divi apgalvojumi ir patiesi, var secināt, ka patiess ir apgalvojums – </a:t>
            </a: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“jo lielāks ātrums, jo garāks apstāšanās ceļš”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, kas izriet no diviem patiesajiem apgalvojumie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Vai deduktīvā ceļā iegūti spriedumi vienmēr ir paties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J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715000" y="3657600"/>
            <a:ext cx="1676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Pierādīt teorēmas, pamatot faktu paties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3352680" y="2438280"/>
            <a:ext cx="221004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Eksperi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895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3124080"/>
            <a:ext cx="2286000" cy="60984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In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581280" y="4038480"/>
            <a:ext cx="1447920" cy="3812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44197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76720" y="4724280"/>
            <a:ext cx="2361960" cy="5335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Deduktīvā sprieš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5257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486400"/>
            <a:ext cx="4419360" cy="45720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Hipotēzes apstiprinājums vai nolieg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1523880"/>
            <a:ext cx="3581640" cy="10670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ffffff"/>
                </a:solidFill>
                <a:latin typeface="Arial"/>
              </a:rPr>
              <a:t>Slēdzie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343400" y="2590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57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29400" y="29718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Empīrisk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7672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In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715000" y="3352680"/>
            <a:ext cx="2286000" cy="8384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Deduktīv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01680" y="380880"/>
            <a:ext cx="8540640" cy="57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as ir slēdzien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Slēdziens ir domāšanas forma, kurā no viena vai vairākiem spriedumiem tiek iegūts jauns spriedums. Sākotnējos spriedumus sauc par slēdziena premisām (no latīņu v. “praemissa” – priekšnoteikums), bet jauniegūto spriedumu – par slēdziena secinājum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lēdziena piemērs, kur secinājums izriet no divām premisām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Sarūgtinājumi ir nepatīkam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i sarūgtinājumi ir derī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_____________________________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Dažas derīgas lietas ir nepatīkam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5410080" y="3962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Divas premi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76920" y="3733920"/>
            <a:ext cx="380880" cy="838080"/>
          </a:xfrm>
          <a:custGeom>
            <a:avLst/>
            <a:gdLst>
              <a:gd name="textAreaLeft" fmla="*/ 0 w 380880"/>
              <a:gd name="textAreaRight" fmla="*/ 137520 w 3808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4800600"/>
            <a:ext cx="152280" cy="304920"/>
          </a:xfrm>
          <a:custGeom>
            <a:avLst/>
            <a:gdLst>
              <a:gd name="textAreaLeft" fmla="*/ 0 w 152280"/>
              <a:gd name="textAreaRight" fmla="*/ 55080 w 15228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412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6fa9b7"/>
                </a:solidFill>
                <a:latin typeface="Tahoma"/>
              </a:rPr>
              <a:t>Secinā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Empīrisk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1600" indent="-56160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iepriekš gūto pieredzi, uz sajūtām (dzird, redz, saož), izlasot vai dzirdo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Sarkanā gaisma sāk mirgot, tātad drīz luksoforā iedegsies dzeltenā gaisma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“Pulksten astoņos no rīta, ejot garām maizes ceptuvei, var saost ceptas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aizes smarž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3. “Ejam uz stundu, tikko nozvanīja zvans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6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7160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ā tiek iegūts empīriskā slēdzienā jauns spriedum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No Individuālas pieredzes.</a:t>
            </a:r>
            <a:r>
              <a:rPr b="0" lang="lv-LV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.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.”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17524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962671"/>
                </a:solidFill>
                <a:uFillTx/>
                <a:latin typeface="Tahoma"/>
              </a:rPr>
              <a:t>Vai empīriskie slēdzieni vienmēr ir paties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Nē.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lang="lv-LV" sz="2800" spc="-1" strike="noStrike">
                <a:solidFill>
                  <a:srgbClr val="962671"/>
                </a:solidFill>
                <a:latin typeface="Tahoma"/>
              </a:rPr>
              <a:t>Tā kā cilvēku pieredze ir individuāla, tad vienā un tajā pašā situācijā esošu dažādu cilvēku gūtā pieredze var būt dažāda.</a:t>
            </a:r>
            <a:r>
              <a:rPr b="0" lang="lv-LV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Piemēri: No iepriekšējiem piemēri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1. “Dienu pirms algas nekad nav brīvu naudas līdzekļu” </a:t>
            </a: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būs patiess tiem cilvēkiem, kas neplāno savus izdevumus un ienākumu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2. “Teksta uzdevumi parasti ir grūtāki par citiem uzdevumiem” ir spēkā tikai  kādai skolēnu daļa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Kur var noderē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Var palīdzēt pierādījuma veidošanā. Zināšanu  attīstīšanai, sevis pilnveidošana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Džons Lok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John Locke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1632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29. august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170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g.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28.oktobri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) -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5"/>
              </a:rPr>
              <a:t>apgaismība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laikmeta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6"/>
              </a:rPr>
              <a:t>angļu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a3c145"/>
                </a:solidFill>
                <a:uFillTx/>
                <a:latin typeface="Tahoma"/>
                <a:hlinkClick r:id="rId7"/>
              </a:rPr>
              <a:t>filozofs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Empīrists. Viens no liberālisma pamatlicējie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96720" indent="-39672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Loks uzsvēra maņu, nevis intuīcijas vai dedukcijas, nozīmi zināšanu iegūšanā. Loks uzskatīja, ka piedzimstot cilvēka prāts ir k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tabula ra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tīra tāfele, uz kuras maņas atstāj nospiedumus, kas veido zināšanas. Viņš uzskatīja arī, ka visi cilvēki piedzimst labi, vienlīdzīgi un neatkarīg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3581280" y="1676520"/>
            <a:ext cx="19051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cc"/>
                </a:solidFill>
                <a:latin typeface="Tahoma"/>
              </a:rPr>
              <a:t>Induktīvie slēdzien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962671"/>
                </a:solidFill>
                <a:uFillTx/>
                <a:latin typeface="Tahoma"/>
              </a:rPr>
              <a:t>Uz ko balstā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lang="lv-LV" sz="2400" spc="-1" strike="noStrike">
                <a:solidFill>
                  <a:srgbClr val="962671"/>
                </a:solidFill>
                <a:latin typeface="Tahoma"/>
              </a:rPr>
              <a:t>Uz vairāku eksperimentu vai vērojumu laikā gūtiem  rezultāti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Piemēri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962671"/>
                </a:solidFill>
                <a:latin typeface="Tahoma"/>
              </a:rPr>
              <a:t>    </a:t>
            </a:r>
            <a:r>
              <a:rPr b="0" i="1" lang="lv-LV" sz="2000" spc="-1" strike="noStrike">
                <a:solidFill>
                  <a:srgbClr val="962671"/>
                </a:solidFill>
                <a:latin typeface="Tahoma"/>
              </a:rPr>
              <a:t> </a:t>
            </a:r>
            <a:r>
              <a:rPr b="0" i="1" lang="lv-LV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lv-LV" sz="2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Ticējumi, kas atticas uz laika apstākļiem – cilvēku novērojum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daudzu gadu garumā ļauj secināt: “ja saule pēc saullēkta uzreiz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ieiet mākoņos – būs lietus”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304560"/>
            <a:ext cx="8385120" cy="57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00120" y="382680"/>
          <a:ext cx="6051600" cy="92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82680"/>
                    <a:ext cx="6051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685800" y="16765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318600">
            <a:off x="2133720" y="2285640"/>
            <a:ext cx="1600200" cy="685800"/>
          </a:xfrm>
          <a:prstGeom prst="flowChartExtra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905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419720" y="2590920"/>
                <a:ext cx="3124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1295280" y="40384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962671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9680" y="4343400"/>
            <a:ext cx="144792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09680" y="4343400"/>
            <a:ext cx="14479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4038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576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5410080" y="4191120"/>
                <a:ext cx="6937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800600" y="4191120"/>
                <a:ext cx="3808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572000" y="4495680"/>
                <a:ext cx="2057400" cy="2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K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NL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4572000" y="36576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648320" y="4724280"/>
                <a:ext cx="380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334120" y="4724280"/>
                <a:ext cx="6858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L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5029200"/>
                <a:ext cx="2210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N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rPr>
                        <m:lit/>
                        <m:nor/>
                      </m:rPr>
                      <m:t xml:space="preserve">ML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6858000" y="4038480"/>
            <a:ext cx="304920" cy="129564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429000" y="5562720"/>
                <a:ext cx="41911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7315200" y="4572000"/>
            <a:ext cx="1371600" cy="152280"/>
          </a:xfrm>
          <a:prstGeom prst="rightArrow">
            <a:avLst>
              <a:gd name="adj1" fmla="val 50000"/>
              <a:gd name="adj2" fmla="val 225177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71500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8:59:48Z</dcterms:created>
  <dc:creator>user</dc:creator>
  <dc:description/>
  <dc:language>en-US</dc:language>
  <cp:lastModifiedBy>Fizikas un Matemātikas fakultāte</cp:lastModifiedBy>
  <dcterms:modified xsi:type="dcterms:W3CDTF">2010-08-08T07:34:03Z</dcterms:modified>
  <cp:revision>94</cp:revision>
  <dc:subject/>
  <dc:title>Matemātiskā loģika un sadzīve.</dc:title>
</cp:coreProperties>
</file>