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A3EB-9400-4D4D-BBDB-D197F3C6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CF39-1379-40FC-8F79-E6524EA2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DA282-7565-4513-8E7B-5CDD89E8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3D3F-0E37-42E0-B2BD-793F1B62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0F05-74EF-414D-9181-426FE08C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1D74-922A-4D8E-A785-6BC8E436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5625-7602-4ABB-A7B9-D2DAC92C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7E28-BC80-4D69-AF61-3F25891C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8FBB-E757-48B3-BD4D-88DDDFCA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B92C-3D92-448A-A073-5CCC424A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AFEB-9B85-4997-8064-263C0244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035A8-F571-4656-9E0E-2C414472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6DC1-19C2-40E1-B339-AECBB6FC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14AD-158E-450F-A1E6-C66CC67A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EDD5-293A-4826-B158-AED3D7B6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F085-F4BF-46E2-9FCD-DBBE0345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45D8-853D-41DA-A2A6-746E194C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0219F-7E10-4035-8579-40609E94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B47A-D349-46A4-AAB0-BE9F0AFC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4D2FC-B74F-43AE-A751-6787C653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2601A-7BAB-4DAF-AA93-0996E936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8F01-1599-49C7-A53F-F5C26E59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99A40-0C59-4F8D-A190-E819045C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CA04-B1D8-444F-9BD3-C4AD6838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F3A7-FF33-4F48-AB60-B9123FEF0C7C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98FD-5028-4E58-8818-2B8A2AE26813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Matemātiskie slēdzieni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kviens no mums ir kādreiz nonācis situācijā, kad nākas pamatot savu viedok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izstāvēt pozīciju un argumentēt savu izvēli. Nereti no tā, cik veiksmīgi esam mācējuši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zdarīt, ir atkarīga mūs interesējošo lēmumu pieņemšana. Katru dienu mēs vēroja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alizējam, vērtējam un secinām. Lai varētu plānot dažādu procesu tālākās norises, mē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enšamies pamanīt vai noteikt šo procesu likumsakarības. Pamatot savu viedokli m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līdz ne tikai informācijas pieejamība, bet arī prasme loģiski spriest. Ir pazīstami dažā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priešanas paņēmieni, spriedumu un secinājumu iegūšanas vei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305680" cy="3981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657520" cy="332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556000" y="2924280"/>
            <a:ext cx="4444920" cy="3105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348000" y="2997360"/>
            <a:ext cx="2978280" cy="3044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2987640" y="285264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3564000" y="3141720"/>
            <a:ext cx="2666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8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1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6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8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3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9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635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35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Kādi varbūt slēdzie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2997360"/>
            <a:ext cx="1368360" cy="151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lēdzi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V="1">
            <a:off x="4500360" y="2204280"/>
            <a:ext cx="1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203640" y="1628640"/>
            <a:ext cx="2592360" cy="576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īri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4932000" y="4292280"/>
            <a:ext cx="63252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5003640" y="4869000"/>
            <a:ext cx="259272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/>
          <p:nvPr/>
        </p:nvCxnSpPr>
        <p:spPr>
          <a:xfrm flipH="1">
            <a:off x="3276000" y="4292280"/>
            <a:ext cx="70380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1258920" y="4869000"/>
            <a:ext cx="259236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5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450"/>
                            </p:stCondLst>
                            <p:childTnLst>
                              <p:par>
                                <p:cTn id="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5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95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45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45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95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Empīrisk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Empīriski slēdzieni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– ( no grieķu ‘empeiria’  - pieredze) slēdzieni, kas tiek izdarī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balstoties uz iepriekš gūtu pieredz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Tā kā cilvēku pieredze ir individuāla, tad vienā un tajā pašā situācijā esošu dažā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cilvēku gūtā pieredze var būt dažāda. Tieši tāpēc uz pieredzi balstīti jeb empīri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slēdzienii nevar kļūt par loģiska pierādījuma pamatu, jo tie ne vienmēr ir patiesi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attiecināmi uz visiem gadīj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Teksta uzdevumi parasti ir grūtāki par citiem uzdev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Ģeometrija ir sarežģītāka nekā algeb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5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45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5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55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6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965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16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45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78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In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Induktīvi slēdzieni-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(no latīņu ‘inductio’ — uzvedināšana, ierosināšana) slēdzien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kas tiek izdarīti balstoties uz vairāku eksperimentu vai vērojumu laikā gūtiem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Induktīvās spriešanas pamatā ir vispārīgu secinājumu izdarīšana, balstoties uz atsevišķ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gadījumu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Riharda, Aivara, Reinera, Imanta, Ivo meitenēm ir blondi mati, tātad zēniem vairāk patīk meitenes ar blondiem mati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Ja saule pēc saullēkta uzreiz ieiet mākoņos — būs lie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5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5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4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85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7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23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25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De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duktīvi slēdzieni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o latīņu valodas ‘deductio’ — izvešana, aizveš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lēdzieni, kad katrs nākamais secinājums tiek balstīts uz iepriekš pamatotu spriedu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duktīvas spriešanas gaitā secinājumi tiek iegūti, izmantojot iepriekš pierādītus fak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 patiesus apgalvojum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1)Romba diagonāles krustpunktā dalās uz pusēm, tātad arī kvadrāta diagonāles krustpunktā dalās uz pusēm, jo kvadrāts ir romba speciālgadīju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2)Jo lielāks automašīnas ātrums, jo garāks ir tās bremzēšanas ceļš.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bremzēšanas ceļš, jo garāks apstāšanās ceļš. Tātad jo lielāks ātrums,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apstāšanās ceļ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3)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2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45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9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35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75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96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8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4:19:11Z</dcterms:created>
  <dc:creator>santa</dc:creator>
  <dc:description/>
  <dc:language>en-US</dc:language>
  <cp:lastModifiedBy>Fizikas un Matemātikas fakultāte</cp:lastModifiedBy>
  <dcterms:modified xsi:type="dcterms:W3CDTF">2010-08-08T08:02:33Z</dcterms:modified>
  <cp:revision>31</cp:revision>
  <dc:subject/>
  <dc:title>Matemātiskie spriedumi</dc:title>
</cp:coreProperties>
</file>