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252-0905-4C13-BEC1-E69BF025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C8D-6325-409F-A938-30CFE674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9C3-0F5B-4E70-9088-59E36CB7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45E-48B8-409C-8AA5-301E6BAC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D166-DEB2-47DA-B7F6-E9522ACD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AD40-3577-409D-AA16-063C825E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BAF0-278C-4FD3-85C3-E6FB6563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7D1F-F7C0-427C-8907-BB61FD5D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425AD-F207-400E-8A79-41526801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2710-62C2-40F0-8F14-9BC460A8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2EA5-1FE1-4C42-B59B-FE31937E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447-983C-4CD2-BAA9-9C13AD79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7323-0A01-4BCD-BCD3-2EB5F771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AED3-B58F-4900-8DE6-A9DA46D0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FD50-2016-4D12-A87D-A607B038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FB02-B75F-40EC-B9DB-5BE42B7F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82C3-B5CC-4FBC-BD8D-50D796FC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1B25B-4C61-4D89-A5E8-62C21CD7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3CBB2-47AF-4E46-B20C-3367AEFB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66537-5101-4573-BF2D-774B4219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1D25B-F7F9-42DB-B9EC-1401FFFB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C5B67-6DA5-451B-87B8-5349A5BC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BCE-438B-4EFB-A0B8-5EAA0675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C09A-9722-4189-8783-C62306C1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800F-3B04-428B-B027-E123CF38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3074-C0E7-4FD0-AA36-C97A743E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18C5D-2E37-45A5-BA66-881137D6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3A4FC-B03B-464C-B270-7C21B8E4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2E219-356B-4EA9-8F43-8E02B206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2CF5-9FEB-432E-885E-1AC5B8FE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669E3-4D14-40FC-AAAD-B64BC7BF4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3587C-124A-4B2D-BA82-772A128A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F10A4-A6F1-4F79-8B04-EF66B2C9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9CF-64F8-4AC0-8BB8-90D1F198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45294-F7CE-4510-8B08-C9263FA2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9F42E-6078-4BB3-A11E-2830371C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7A6F5-8551-4BE1-9FE0-BDAD558C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20493-B007-455E-BC07-8F2769E6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06A47-C831-4971-B5A5-24118640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7C7A5-D56F-4778-B967-5EF91D5A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5F84A-D48B-46EF-A402-07FEEC14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7E4EA-60A5-4752-80FB-A3CF3F81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5CAA8-DA3A-4211-B52D-FF2CACD1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6EC-D584-4FC8-B688-68C64507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79F-0D88-45BD-973F-483B2B7C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3F9-D613-40F2-9FFE-DCE15A85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3AD-E255-4974-ABF9-99E8E532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7D7-18AF-4091-8045-4727B7D3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7D9E-88EB-40FC-8A32-52DE431D7B7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546A-5389-4B5B-955C-98994FA3134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3990-0CF4-44FE-BE55-C599EAA5223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6701-89B1-4141-B373-FA5F26E29F6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tle 1"/>
          <p:cNvSpPr/>
          <p:nvPr/>
        </p:nvSpPr>
        <p:spPr>
          <a:xfrm>
            <a:off x="250920" y="260280"/>
            <a:ext cx="866304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Kopu teorijas pamatjēdzie</a:t>
            </a: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ni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opu teorijas pamatjēdzien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5840" y="1642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Kopa-Kopas jēdziens ir viens no matemātikas pamatjēdzieniem.  Par kopu matemātikā var uzskatīt atsevišķu objektu veidotu jaunu un vienotu apvienojumu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urpmāk pieņemsim un darbosimies ar divām kopām: A un B (darīsim tā tikai uzskatāmības dēļ, faktiski, visi atzinumi ir derīgi jebkādam kopu skaitam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1576440" y="4000680"/>
            <a:ext cx="2781360" cy="2714400"/>
            <a:chOff x="1576440" y="4000680"/>
            <a:chExt cx="2781360" cy="2714400"/>
          </a:xfrm>
        </p:grpSpPr>
        <p:sp>
          <p:nvSpPr>
            <p:cNvPr id="199" name="Oval 3"/>
            <p:cNvSpPr/>
            <p:nvPr/>
          </p:nvSpPr>
          <p:spPr>
            <a:xfrm>
              <a:off x="1643040" y="400068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6"/>
            <p:cNvSpPr/>
            <p:nvPr/>
          </p:nvSpPr>
          <p:spPr>
            <a:xfrm>
              <a:off x="1576440" y="400068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"/>
          <p:cNvGrpSpPr/>
          <p:nvPr/>
        </p:nvGrpSpPr>
        <p:grpSpPr>
          <a:xfrm>
            <a:off x="5214960" y="4000680"/>
            <a:ext cx="2857320" cy="2724120"/>
            <a:chOff x="5214960" y="4000680"/>
            <a:chExt cx="2857320" cy="2724120"/>
          </a:xfrm>
        </p:grpSpPr>
        <p:sp>
          <p:nvSpPr>
            <p:cNvPr id="202" name="Oval 5"/>
            <p:cNvSpPr/>
            <p:nvPr/>
          </p:nvSpPr>
          <p:spPr>
            <a:xfrm>
              <a:off x="5214960" y="4000680"/>
              <a:ext cx="2724120" cy="2724120"/>
            </a:xfrm>
            <a:prstGeom prst="ellipse">
              <a:avLst/>
            </a:prstGeom>
            <a:solidFill>
              <a:srgbClr val="55a839"/>
            </a:solidFill>
            <a:ln w="25560">
              <a:solidFill>
                <a:srgbClr val="3870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7"/>
            <p:cNvSpPr/>
            <p:nvPr/>
          </p:nvSpPr>
          <p:spPr>
            <a:xfrm>
              <a:off x="7607160" y="4000680"/>
              <a:ext cx="46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elementi- matemātiskie objekti, no kā sastāv kop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0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1"/>
          <p:cNvSpPr/>
          <p:nvPr/>
        </p:nvSpPr>
        <p:spPr>
          <a:xfrm>
            <a:off x="3571920" y="35719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2214720" y="38577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9"/>
          <p:cNvSpPr/>
          <p:nvPr/>
        </p:nvSpPr>
        <p:spPr>
          <a:xfrm>
            <a:off x="3071880" y="26431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2571840" y="32860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0"/>
          <p:cNvSpPr/>
          <p:nvPr/>
        </p:nvSpPr>
        <p:spPr>
          <a:xfrm>
            <a:off x="5504760" y="3500280"/>
            <a:ext cx="17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b;c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kša kopa-kopa, kas nesatur nevienu elemen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6" name="Group 3"/>
          <p:cNvGrpSpPr/>
          <p:nvPr/>
        </p:nvGrpSpPr>
        <p:grpSpPr>
          <a:xfrm>
            <a:off x="1643040" y="2571840"/>
            <a:ext cx="2781360" cy="2714400"/>
            <a:chOff x="1643040" y="2571840"/>
            <a:chExt cx="2781360" cy="2714400"/>
          </a:xfrm>
        </p:grpSpPr>
        <p:sp>
          <p:nvSpPr>
            <p:cNvPr id="217" name="Oval 4"/>
            <p:cNvSpPr/>
            <p:nvPr/>
          </p:nvSpPr>
          <p:spPr>
            <a:xfrm>
              <a:off x="1709640" y="257184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5"/>
            <p:cNvSpPr/>
            <p:nvPr/>
          </p:nvSpPr>
          <p:spPr>
            <a:xfrm>
              <a:off x="1643040" y="257184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20"/>
          <p:cNvSpPr/>
          <p:nvPr/>
        </p:nvSpPr>
        <p:spPr>
          <a:xfrm>
            <a:off x="5525280" y="350028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={} jeb A=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Galīga kopa-kopa, kas satur galīgu skaitu elementu. Piemēram, kopa A (Latvijas Valsts prezidenti pēc 1991.gada)={Guntis Ulmanis, Vaira Vīķe-Freiberga, Valdis Zatlers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onstantia"/>
              </a:rPr>
              <a:t>Bezgalīga kopa-kopa, kas satur bezgalīgu skaitu elementu. Piemēram, kopa B (pozitīvo naturālo skaitļu kopa)={1,2,3,4,....}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rbības ar kopā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šķēlums-par divu kopu A un B šķēlumu sauc kopu C, tādu kuras elementi pieder abām dotajām kopām A un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1500120" y="3571920"/>
            <a:ext cx="2781360" cy="2714760"/>
            <a:chOff x="1500120" y="3571920"/>
            <a:chExt cx="2781360" cy="2714760"/>
          </a:xfrm>
        </p:grpSpPr>
        <p:sp>
          <p:nvSpPr>
            <p:cNvPr id="225" name="Oval 4"/>
            <p:cNvSpPr/>
            <p:nvPr/>
          </p:nvSpPr>
          <p:spPr>
            <a:xfrm>
              <a:off x="1566720" y="3571920"/>
              <a:ext cx="2714760" cy="271476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5"/>
            <p:cNvSpPr/>
            <p:nvPr/>
          </p:nvSpPr>
          <p:spPr>
            <a:xfrm>
              <a:off x="1500120" y="357192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Group 6" descr=""/>
          <p:cNvPicPr/>
          <p:nvPr/>
        </p:nvPicPr>
        <p:blipFill>
          <a:blip r:embed="rId2"/>
          <a:stretch/>
        </p:blipFill>
        <p:spPr>
          <a:xfrm>
            <a:off x="3054240" y="3584520"/>
            <a:ext cx="2932200" cy="28036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0"/>
          <p:cNvSpPr/>
          <p:nvPr/>
        </p:nvSpPr>
        <p:spPr>
          <a:xfrm flipH="1">
            <a:off x="3999960" y="32860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3500280" y="48578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2428920" y="51436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429000" y="42148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4500720" y="52149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92896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6072120" y="4000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  B=C={b;c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6357960" y="4071960"/>
                <a:ext cx="4842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apvienojums-par divu kopu A un B apvienojumu sauc kopu C, tādu kuras elementi pieder kopai A vai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40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0"/>
          <p:cNvSpPr/>
          <p:nvPr/>
        </p:nvSpPr>
        <p:spPr>
          <a:xfrm flipH="1">
            <a:off x="2928240" y="250020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4071960" y="49291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2928960" y="4643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3786120" y="3429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4286160" y="3929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150012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    B=C={a;b;c;d;e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3"/>
              <p:cNvSpPr txBox="1"/>
              <p:nvPr/>
            </p:nvSpPr>
            <p:spPr>
              <a:xfrm>
                <a:off x="5643720" y="4071960"/>
                <a:ext cx="40932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u starpība-par divu kopu A un B starpību sauc kopu C, tādu kuras elementi pieder kopai A ,bet nepieder kopai 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1000080" y="3214800"/>
            <a:ext cx="2781360" cy="2714400"/>
            <a:chOff x="1000080" y="3214800"/>
            <a:chExt cx="2781360" cy="2714400"/>
          </a:xfrm>
        </p:grpSpPr>
        <p:sp>
          <p:nvSpPr>
            <p:cNvPr id="255" name="Oval 4"/>
            <p:cNvSpPr/>
            <p:nvPr/>
          </p:nvSpPr>
          <p:spPr>
            <a:xfrm>
              <a:off x="106668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5"/>
            <p:cNvSpPr/>
            <p:nvPr/>
          </p:nvSpPr>
          <p:spPr>
            <a:xfrm>
              <a:off x="100008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Group 6" descr=""/>
          <p:cNvPicPr/>
          <p:nvPr/>
        </p:nvPicPr>
        <p:blipFill>
          <a:blip r:embed="rId2"/>
          <a:stretch/>
        </p:blipFill>
        <p:spPr>
          <a:xfrm>
            <a:off x="2481120" y="3157560"/>
            <a:ext cx="2938680" cy="27986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10"/>
          <p:cNvSpPr/>
          <p:nvPr/>
        </p:nvSpPr>
        <p:spPr>
          <a:xfrm flipH="1">
            <a:off x="2928240" y="25718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2857680" y="464328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4286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1643040" y="4500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/>
          <p:cNvSpPr/>
          <p:nvPr/>
        </p:nvSpPr>
        <p:spPr>
          <a:xfrm>
            <a:off x="2571840" y="41432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500120" y="3643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3143160" y="42861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143080" y="35719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\B=C={b;f;g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opas papildinājums-kopas A papildinājumu sauc visus tos elementus, kas nepieder kopai 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2000160" y="3214800"/>
            <a:ext cx="2781360" cy="2714400"/>
            <a:chOff x="2000160" y="3214800"/>
            <a:chExt cx="2781360" cy="2714400"/>
          </a:xfrm>
        </p:grpSpPr>
        <p:sp>
          <p:nvSpPr>
            <p:cNvPr id="269" name="Oval 4"/>
            <p:cNvSpPr/>
            <p:nvPr/>
          </p:nvSpPr>
          <p:spPr>
            <a:xfrm>
              <a:off x="2066760" y="3214800"/>
              <a:ext cx="2714760" cy="2714400"/>
            </a:xfrm>
            <a:prstGeom prst="ellipse">
              <a:avLst/>
            </a:prstGeom>
            <a:solidFill>
              <a:srgbClr val="0f6fc6"/>
            </a:solidFill>
            <a:ln w="25560">
              <a:solidFill>
                <a:srgbClr val="0850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5"/>
            <p:cNvSpPr/>
            <p:nvPr/>
          </p:nvSpPr>
          <p:spPr>
            <a:xfrm>
              <a:off x="2000160" y="3214800"/>
              <a:ext cx="46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nstanti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11"/>
          <p:cNvSpPr/>
          <p:nvPr/>
        </p:nvSpPr>
        <p:spPr>
          <a:xfrm>
            <a:off x="3071880" y="50720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328608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1357200" y="44290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00068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286000" y="3500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9"/>
          <p:cNvSpPr/>
          <p:nvPr/>
        </p:nvSpPr>
        <p:spPr>
          <a:xfrm>
            <a:off x="5429160" y="40006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onstantia"/>
              </a:rPr>
              <a:t>A={a;d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0"/>
          <p:cNvSpPr/>
          <p:nvPr/>
        </p:nvSpPr>
        <p:spPr>
          <a:xfrm>
            <a:off x="5500800" y="4071960"/>
            <a:ext cx="214200" cy="14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4429080" y="27860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2571840" y="43578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9:33:16Z</dcterms:created>
  <dc:creator>***</dc:creator>
  <dc:description/>
  <dc:language>en-US</dc:language>
  <cp:lastModifiedBy>Fizikas un Matemātikas fakultāte</cp:lastModifiedBy>
  <dcterms:modified xsi:type="dcterms:W3CDTF">2010-08-06T16:10:26Z</dcterms:modified>
  <cp:revision>18</cp:revision>
  <dc:subject/>
  <dc:title>Slide 1</dc:title>
</cp:coreProperties>
</file>