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482-16DB-4D3B-9237-BA5267AB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014-E333-48CC-B0C1-78DB3AB7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9F7-A327-4002-B413-6DDEE98D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FF7E-EEEC-446C-87B1-720C4704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40DB-EE47-4A04-B354-CD5E2880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D6D4-AA4B-47BA-B183-214E5940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7ED1-BD94-4825-8E44-F6A10EE6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29B1-4757-453E-B8A4-24CCE63A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A269-C522-4D09-AF25-BB6F8B59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EE0F-F0F9-4E7E-9AD6-B1C1771C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1CC9-F0C4-4951-B8C5-56A587C6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53B-C4DD-45E5-B156-10214056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E46E-67A2-4798-BB59-B3C2A03F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4C23-83B1-4A72-B54F-BFD60466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7DAC-72DC-42BA-BF23-1038C997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5D7C-0CBD-4447-B66E-5789276D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37C1-6D07-426B-9C54-81D01341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D07-96B7-4480-9207-004448C3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299-6A4D-490D-B27C-9DBF00F9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BD3-7520-4F9B-B4BA-1B61D6B5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A26-9576-465D-B0D1-E64E754C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A3B-7199-485A-9507-A25B319B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9FA-97EE-4830-8968-2A827428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1D0-5103-4C85-9B55-41506475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2580-1B0A-4CAA-B593-19BC490ADDA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50F4-EFC7-4737-B1BE-8CFBCA28FA2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333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03280" y="2637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vieno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376360" cy="1376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907920"/>
            <a:ext cx="2303640" cy="1609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2232000" cy="1631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5003640" y="3357720"/>
            <a:ext cx="2160720" cy="1809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580000" y="2492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Šķē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76360" y="501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tarpī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92720" y="5300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akško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730520" y="2989440"/>
                <a:ext cx="898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769000" y="2768760"/>
                <a:ext cx="898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657440" y="5349960"/>
                <a:ext cx="749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468760" y="5559480"/>
                <a:ext cx="8956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133200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40053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94520" y="10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58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0508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18160" y="148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78880" y="126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24360" y="42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1979280" y="2205000"/>
            <a:ext cx="14436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0360" y="1773360"/>
            <a:ext cx="216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1834920" y="4652640"/>
            <a:ext cx="14436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796000" y="4581360"/>
            <a:ext cx="21600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95640" y="404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052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Piemēri</a:t>
            </a:r>
            <a:r>
              <a:rPr b="1" i="1" lang="lv-LV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1628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ādas skolas visi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i</a:t>
            </a: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2133720"/>
            <a:ext cx="56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a, kā viena no visām skolām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apakš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2708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as  el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8360" y="3213000"/>
            <a:ext cx="813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Meitenes klasē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starpība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, ja A – visi skolēni klasē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B – zēni , kuri mācās klasē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A\B – skolēni no klases, kuri nav zē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472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Klase, kurā mācās gan zēni, gan meitene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apvienoju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52:06Z</dcterms:created>
  <dc:creator>Nadja</dc:creator>
  <dc:description/>
  <dc:language>en-US</dc:language>
  <cp:lastModifiedBy>Fizikas un Matemātikas fakultāte</cp:lastModifiedBy>
  <dcterms:modified xsi:type="dcterms:W3CDTF">2010-08-08T08:34:51Z</dcterms:modified>
  <cp:revision>69</cp:revision>
  <dc:subject/>
  <dc:title>Palīgmateriāls</dc:title>
</cp:coreProperties>
</file>