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A8B-D469-40F1-9A63-6BBAA08C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B1C-818B-4A9A-A355-D384E703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1132-D3B0-4288-953C-C8E10B7C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87B-575C-4DE5-8FF9-AEF92E58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EF24-E040-47E0-81A2-56231F9C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216D-FE86-4001-831B-4DC1972F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BB09-8673-4836-97BC-75A31F9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595-68D1-4095-97A5-98343E9C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725-084D-4D9C-9843-853748A0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3BB-474E-40AF-8404-124A8B7E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5B65-1F3F-42A5-81D7-0D3AC99B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430-38B1-4A03-ACC2-A7662AC3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9BE4-B1E9-4253-93D4-49B62C2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8887-CF23-4F8F-A137-992CE60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EC9D-E09D-47FB-8579-4BF54F30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6A05-8759-4B8F-B4F5-391364112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7146-7F80-417A-86A0-2FDD0DFE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1B534-F311-4FCA-BEF6-86D13D60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1EA1A-FA15-42C8-A465-C3ABF9E9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2CC7E-C724-4055-9B13-E8D17388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20504-87E6-4357-867F-8F0A2495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DA866-F1EE-4653-B051-6575DA1F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46D-96E2-4D6A-8B16-7D50836C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52302-EE87-4D71-AB71-51CDE98D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55BB9-4194-43CA-B026-3EF9FD7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AFDEB-0197-48AA-8AE7-8D14C5B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94FEE-DE54-492B-9762-01ED4919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8F4C7-DFB3-42CD-BFFF-A4CD8CEE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25FD9-0424-498F-AD61-4B904891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EEEE48-02AC-48E6-93A7-77D4C3F5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EED7-42CB-4B35-9367-80C8FF63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2832-1594-4E64-A353-6C2A0810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6548-3066-48A2-AF28-780429D9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5FF-EE6A-4931-9C1D-02C48DE6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5663-B281-4540-B7CF-C9C1A6A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F4AC-BC59-4A75-B13B-A2C983AD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A5FD-F2FF-4918-A2E4-F8B9260F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9774-B7B0-4C1F-B0DB-C47B0A3C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0D3EF-4F9B-4B26-990B-506C72F7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2B54B-8FE0-43C2-A402-10C8E13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95BEB-CCB3-4642-BD50-D157D11C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38B89-5823-4131-A455-F8DEE97B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40F9-DBAE-4F62-9177-68534D0F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E73A9A-6614-481D-B11A-E67B17B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A01D-D9D5-4C06-BA92-99F4C00F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548515-6599-4F2A-B3F8-B8BCE5C7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B0C46-B885-40EB-8BB1-E37972F2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EE937-4E3A-49BA-9CDE-688E36E5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710B4-D6A1-401B-9254-F286DDCD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A1801-D8A8-4DCA-B7CE-A41AA9C5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332F6-AB30-485E-9F68-DBA4CA6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96ECB-A2BF-4A6E-99BE-6CE5B3F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4A221-0837-487C-A9D3-4B5F7298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58E4B-9A8D-48DC-9CAF-545137EF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C2252-8481-48FC-B9D4-2DB95770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D530-DB45-4E74-9856-5276450B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9A119-C3FA-471A-B5B0-8B085AE3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D9F65-31F7-4269-8B19-6AAE0149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9C3B1-FE1D-473A-8A34-1C27132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D2301D-071C-44EC-9324-C44DDED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41750-3725-43B5-899D-F2DB2677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0AC3F-5F99-44FA-8574-EFCF3B9D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CAED2E-34E7-4646-B2D7-DF7ACCE1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24594-D15F-4154-A929-C68B099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8FC59-4FD8-48D2-9342-15012B17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3829AB-61D1-43E6-AE04-BC1C5822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B6E-2CE1-4F3E-80DD-9C53740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B92E2E-96F8-42C1-8D29-008885BB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68599-F91C-4650-9CBB-2255FF41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A65A5-410C-453B-BB7B-85168BBC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8934A-8598-44F0-B050-684549DF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A5504-29DA-409A-AEB7-19CF19D1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26FD3-736D-425E-AF53-2CCB70BF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BE771-FBF0-4A59-B92D-53ABFFF0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5E72A-F78B-4887-BCB2-B810B3BB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B73662-3B10-482A-92EA-E5B3295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0A3B76-DA7A-4E22-96DB-D7CDBB7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369-7AFE-467F-AC4E-8330657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A5FF28-C45A-4192-84A9-B53CE65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0B94F-D62E-4D52-9ACB-0D63DEF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E2DE44-CD19-49D4-AFFC-A4052C46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899412-A329-4FC1-98F4-BD033DA3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EA6175-2D4C-4C98-89A6-EC77F2AC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3F7B-C16B-403B-9A42-8B724C6D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A549-AFA0-4CB5-A838-F1D95224CFD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Taisns savienotājs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Taisnstūris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āls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āls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āls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āls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āls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8E89-3928-419F-9A01-771B37D4F5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23BE-B951-4642-9E4A-8832C49242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aisnstūris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Taisnstūris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Taisnstūris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Taisnstūris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Taisns savienotājs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Taisns savienotājs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Taisns savienotājs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Taisns savienotājs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Taisns savienotājs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Taisnstūris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āls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āls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āls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āls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āls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Taisns savienotājs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4ED-EF61-4F86-B9E6-3C111E7578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aisns savienotājs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Taisns savienotājs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Taisns savienotājs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Taisnstūris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Taisns savienotājs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āls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93D-1EB3-4C9C-BEEB-29BCE4D270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Taisns savienotājs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Taisns savienotājs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Taisns savienotājs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Taisnstūris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Taisns savienotājs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āls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A8C1-793D-41B9-AC28-37A6A588FA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aisns savienotājs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āls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Taisns savienotājs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Taisnstūris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Taisns savienotājs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Taisns savienotājs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Taisns savienotājs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D18E-14E7-4814-9391-EF04666A16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40000" y="1988640"/>
            <a:ext cx="5595840" cy="18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575f6d"/>
                </a:solidFill>
                <a:latin typeface="Times New Roman"/>
              </a:rPr>
              <a:t>Par kopām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P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opa matemātikā ir dažādu atsevišķu objektu apvienojums vienā veselum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Objektus, no kuriem sastāv kopa, sauc par kopas elementiem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Kopa A ar tas elementiem a,b,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To pieraksta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A={a,b,c} </a:t>
            </a: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iemēram, kopa B ir ciparu ko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entury Schoolbook"/>
              </a:rPr>
              <a:t>B={0,1,2,3,4,5,6,7,8,9}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10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0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A sakrīt ar kopu B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pa B ir kopas A apakškop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Ovāls 4"/>
          <p:cNvSpPr/>
          <p:nvPr/>
        </p:nvSpPr>
        <p:spPr>
          <a:xfrm>
            <a:off x="5364000" y="2349360"/>
            <a:ext cx="180036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Ovāls 7"/>
          <p:cNvSpPr/>
          <p:nvPr/>
        </p:nvSpPr>
        <p:spPr>
          <a:xfrm>
            <a:off x="1187280" y="4869000"/>
            <a:ext cx="1800360" cy="180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Ovāls 8"/>
          <p:cNvSpPr/>
          <p:nvPr/>
        </p:nvSpPr>
        <p:spPr>
          <a:xfrm>
            <a:off x="2124000" y="5373720"/>
            <a:ext cx="792360" cy="79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"/>
              <p:cNvSpPr txBox="1"/>
              <p:nvPr/>
            </p:nvSpPr>
            <p:spPr>
              <a:xfrm>
                <a:off x="4500720" y="5324400"/>
                <a:ext cx="223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2771640" y="2982960"/>
                <a:ext cx="18320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971640" y="3933720"/>
            <a:ext cx="3314520" cy="25527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3276360" cy="2085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280" y="169992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apvienojums-visi elemeti tieši vienu reiz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opas šķēlums-tikkai kopīgie eleme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076720" y="5084640"/>
                <a:ext cx="223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050920" y="2502000"/>
                <a:ext cx="19465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4356000" y="4221000"/>
            <a:ext cx="3257640" cy="21434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990960" cy="23810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KOPAS UZSKATĀMI VAR PARĀDĪT AR EILERE-VENNA DIAGRAMMĀ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pas atņemšan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B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ikai tie elemeti, kas nepieder kopai 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Teksta vietturis 12"/>
              <p:cNvSpPr txBox="1"/>
              <p:nvPr/>
            </p:nvSpPr>
            <p:spPr>
              <a:xfrm>
                <a:off x="1835280" y="5013360"/>
                <a:ext cx="16729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003640" y="2492280"/>
                <a:ext cx="17290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1000"/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0:12:24Z</dcterms:created>
  <dc:creator>Dzeralds</dc:creator>
  <dc:description/>
  <dc:language>en-US</dc:language>
  <cp:lastModifiedBy>Fizikas un Matemātikas fakultāte</cp:lastModifiedBy>
  <dcterms:modified xsi:type="dcterms:W3CDTF">2010-08-08T07:37:13Z</dcterms:modified>
  <cp:revision>46</cp:revision>
  <dc:subject/>
  <dc:title>Atkārtojuma uzdevumi</dc:title>
</cp:coreProperties>
</file>