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082-3EB0-4613-A81D-B16F5B62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649-A8F8-4134-B257-2D2C4D44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AE9-AEB8-4170-90CF-E36F7E07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435-EF67-432D-B9BD-A776CD59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4B5E-398B-4A26-A133-3E7B371F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F988-384E-441C-9F81-7D7AAB6C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AB6E-A76A-45D3-B961-F6C64FEE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9678-1B7F-45B7-9859-294E40DF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F4E3-1310-469C-A0D6-0E4AA8E5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541C-50D5-4545-892C-56051E8E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518B-9CB1-4358-A619-67053C36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38D-993B-47DC-920C-1252E674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56DF-2544-4E6C-93E9-41B3A3A6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5128-8261-43DF-974D-2E699F94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DD3B-FA79-4BC0-B49E-1E544DBF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7A6F-925C-4F3F-AC96-9F7D90EE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5A03-70F4-495F-B900-617CB3F4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14A-2E61-4558-8002-DCE81F22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0DE-3A29-4498-8DC0-1C6B82C9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1C7-262A-428A-A304-E1FF59BA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C31-681F-4C4A-B9EA-708B7760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012-6B71-48D0-ACF3-FDEBE6F7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7D0-662B-494A-8323-9245DB4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3FB-1BE1-420B-B852-AFD3B3A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18B0-B7C2-440D-8FB4-0CA5C6B2032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AFFB-E189-4F31-ADAD-6DEC4FAB5C1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63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vieno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376360" cy="1376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2303640" cy="1609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216072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8000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ķē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tarpī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530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akšk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30520" y="2989440"/>
                <a:ext cx="89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69000" y="2768760"/>
                <a:ext cx="89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7440" y="5349960"/>
                <a:ext cx="749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68760" y="5559480"/>
                <a:ext cx="895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33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005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4520" y="10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50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8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88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42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979280" y="2205000"/>
            <a:ext cx="144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0360" y="1773360"/>
            <a:ext cx="216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34920" y="465264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96000" y="458136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0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052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Piemēri</a:t>
            </a:r>
            <a:r>
              <a:rPr b="1" i="1" lang="lv-LV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ādas skolas visi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i</a:t>
            </a: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133720"/>
            <a:ext cx="56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a, kā viena no visām skolām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apakš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2708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as  el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3213000"/>
            <a:ext cx="81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Meitenes klasē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starpība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, ja A – visi skolēni klasē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B – zēni , kuri mācās klasē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\B – skolēni no klases, kuri nav zē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7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Klase, kurā mācās gan zēni, gan meitene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apvienoju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52:06Z</dcterms:created>
  <dc:creator>Nadja</dc:creator>
  <dc:description/>
  <dc:language>en-US</dc:language>
  <cp:lastModifiedBy>Fizikas un Matemātikas fakultāte</cp:lastModifiedBy>
  <dcterms:modified xsi:type="dcterms:W3CDTF">2010-08-08T08:34:51Z</dcterms:modified>
  <cp:revision>69</cp:revision>
  <dc:subject/>
  <dc:title>Palīgmateriāls</dc:title>
</cp:coreProperties>
</file>