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8B0C-F029-4AAC-8B98-0A7174FE3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EC0B-BE1D-45A1-99E8-6E243F01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10E8-723A-452A-89EC-75F05F8FE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F344-F067-48B6-AA93-0B64F04AF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4E39-EB15-4FE8-B416-D54554648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7318-7103-422E-B35B-DE4D2A3A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CE29-32A1-449C-AC1A-EE2D8E11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22A9-65EF-4187-A55D-B4AA17FF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80E7-573A-428B-90E2-5FFCC485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F6F6-F840-43E3-90BD-807AD3BD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33FD-26C7-4C08-8A87-8A7CFE57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41DE-1823-4754-ACF0-CFA811D6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EF02-0691-495A-97C2-8EDBF3CD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7D1E-2D7C-488B-9655-7E3EC1F2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AC26-A39C-407A-89BA-2CFB08D9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659F-E26D-4AEB-8145-6F1AAB491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B6A4-A156-4EEB-8CCA-D7EF2A17A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A9226B-7607-466F-AB1D-E50D5BB85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254CCB-F3A6-42D9-B0B4-1145DA73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C87B39-7BDD-4FD6-88D3-5655336B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F4788E-8641-4883-930C-DA398ACF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79B899-3578-40EC-9881-9D8E202A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CB5A-62C9-453A-8A32-3FB9B2B4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7989BE-D051-462C-B7DC-FBC4961C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0C9024-ABEA-49C5-B194-EFF0A8C6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8D16CC-43B8-4EC1-9B18-6816A269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213A0B-DE81-444A-88F0-2CD98DC7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B078AA-28EF-4E8A-8A37-AFA580BC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546E8C-42C2-4734-8C0D-67713D84D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8DF17D-D86B-4567-8D67-C33CDFB3F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727F5-DC71-4D94-B495-5AACFBBD1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03AEA-6203-44A0-9DCA-7093B9F1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4D4FB-89A2-46D0-92BC-280CCA9C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6B55-4FD3-4F4F-BFD3-76E31D9B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C1808-C340-4A66-928F-3A781E37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3E997-7B19-47A3-A1F9-B059CF14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A893C-6C1C-4073-9FEF-F2E57F23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B496E-199A-4A0A-B3AC-7C26C5CC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B6D80-E48A-457A-B476-F700459C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39388-762D-4F71-A288-1B4BBD2D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DA429-8ABC-4671-9269-FEC85DCF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9487F-99C7-4123-ABCB-9C10817E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582F8-2433-454D-8305-ADA250A96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B13107-7491-4084-9EBB-D28E177C6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AA77-CCCE-4F93-AA5D-19891964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D1C225-02B5-4FAF-905A-72B9B63A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20F655-17BA-48F1-82B0-96E7DFE0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AE5C02-2F91-4291-920A-4D79FE24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8ACF2E-9EB9-4A88-B7B1-8CA0972C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42F9A7-840F-41BE-9A0E-6C12C1B8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10A1EF-401C-4764-A290-C28B02D7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260930-0725-42F8-9A8B-97BEB285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435977-A19B-423C-8942-50998632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98E9EE-9C0C-4854-8132-E24C843C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6C9DCF-7AAF-4532-AA42-FDE300E6D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5114-711C-466E-A908-ABEBA719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AE806D-0014-46F6-BAA3-ED5683FF9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017E14-865F-4F89-9DDF-19B53763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AA88D2-B3B9-4032-8187-D43F948A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F50884-4D5E-470F-AB3D-1EAE4AD8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09E52F-6BB5-488C-A90C-CF6A4DE9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5DD678-3F3A-4911-85A9-61399786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4DA17A-9FD9-4C2B-9B70-FCE5A01F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F7ADF0-E3E5-4420-8796-9B5A3801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242AF9-8DF3-4249-BF88-903C11EB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26C466-9CD1-4046-8F1D-F495003E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2736-E1B3-445C-9971-22F3A0DD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F9A57E-4DC4-4C6B-9C06-5311BA6A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5B6F13-0FE5-4245-931C-125C37D15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23F098-4932-4362-8655-66ADB5FDB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BB9E82-BBE1-4D50-A231-42C7B0D95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24F20B-BC8B-4F46-841B-5E46FAC1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9ED244-4287-4B4B-8878-10292FE4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A58681-EBD6-426B-AAAE-56C2426D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E0F4A4-6CA1-4E7E-84FD-12ADBA62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45ECC1-782C-45E9-BB49-16C72AE9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5D1BE4-0C3C-434B-8767-0DC2552E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83E1-ABD8-4098-9D4E-C82704DB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B743F4-E1AB-4C80-B239-0AD8DF4E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860E93-0E1E-4501-B7C7-0FD6A776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39E65C-D7CD-430F-91BA-BCE2005F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C5F3CF-8D22-4127-91D8-8A6949DC2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52FE28-331B-42B9-93B4-198D93830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11E4-DE24-4EA6-822A-A81DBFB6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aisns savienotājs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Taisns savienotājs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Taisns savienotājs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Taisnstūris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Taisns savienotājs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āls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BC34-A3E9-47DA-BEA5-21E3E276CC0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aisnstūris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Taisnstūris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Taisnstūris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Taisnstūris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Taisns savienotājs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Taisns savienotājs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Taisns savienotājs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Taisns savienotājs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Taisns savienotājs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Taisns savienotājs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Taisnstūris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āls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āls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āls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āls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āls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6439-8890-43C7-9746-418E4545FC1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aisns savienotājs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Taisns savienotājs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Taisns savienotājs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Taisnstūris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Taisns savienotājs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āls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7AED-1A1E-4F67-BFC6-7C7E788F9B3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aisnstūris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Taisnstūris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Taisnstūris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Taisnstūris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Taisns savienotājs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Taisns savienotājs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Taisns savienotājs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Taisns savienotājs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Taisns savienotājs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Taisnstūris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āls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āls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āls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āls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āls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Taisns savienotājs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D228-F458-4354-8DD8-F42E2ED519A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aisns savienotājs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Taisns savienotājs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Taisns savienotājs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Taisnstūris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Taisns savienotājs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āls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7B0A-A8AE-4757-AD24-E2DA4F0FFDD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aisns savienotājs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Taisns savienotājs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Taisns savienotājs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Taisns savienotājs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Taisnstūris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Taisns savienotājs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āls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A7C9-3065-42E8-8002-7CE0D4A6959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aisns savienotājs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āls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Taisns savienotājs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Taisnstūris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Taisns savienotājs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Taisns savienotājs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Taisns savienotājs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E92D-3986-4C8A-A70B-E2935492DCB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340000" y="1988640"/>
            <a:ext cx="5595840" cy="18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75f6d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575f6d"/>
                </a:solidFill>
                <a:latin typeface="Times New Roman"/>
              </a:rPr>
              <a:t>Par kopām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KOP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Kopa matemātikā ir dažādu atsevišķu objektu apvienojums vienā veselum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Objektus, no kuriem sastāv kopa, sauc par kopas elementiem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iemēram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Kopa A ar tas elementiem a,b,c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To pieraksta: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A={a,b,c} </a:t>
            </a: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iemēram, kopa B ir ciparu kop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B={0,1,2,3,4,5,6,7,8,9}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1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1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10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10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00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10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KOPAS UZSKATĀMI VAR PARĀDĪT AR EILERE-VENNA DIAGRAMMĀ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pa A sakrīt ar kopu B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pa B ir kopas A apakškop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Ovāls 4"/>
          <p:cNvSpPr/>
          <p:nvPr/>
        </p:nvSpPr>
        <p:spPr>
          <a:xfrm>
            <a:off x="5364000" y="2349360"/>
            <a:ext cx="1800360" cy="180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=B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Ovāls 7"/>
          <p:cNvSpPr/>
          <p:nvPr/>
        </p:nvSpPr>
        <p:spPr>
          <a:xfrm>
            <a:off x="1187280" y="4869000"/>
            <a:ext cx="1800360" cy="1800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Ovāls 8"/>
          <p:cNvSpPr/>
          <p:nvPr/>
        </p:nvSpPr>
        <p:spPr>
          <a:xfrm>
            <a:off x="2124000" y="5373720"/>
            <a:ext cx="792360" cy="79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2"/>
              <p:cNvSpPr txBox="1"/>
              <p:nvPr/>
            </p:nvSpPr>
            <p:spPr>
              <a:xfrm>
                <a:off x="4500720" y="5324400"/>
                <a:ext cx="22320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⊂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3"/>
              <p:cNvSpPr txBox="1"/>
              <p:nvPr/>
            </p:nvSpPr>
            <p:spPr>
              <a:xfrm>
                <a:off x="2771640" y="2982960"/>
                <a:ext cx="18320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"/>
          <p:cNvPicPr/>
          <p:nvPr/>
        </p:nvPicPr>
        <p:blipFill>
          <a:blip r:embed="rId1"/>
          <a:stretch/>
        </p:blipFill>
        <p:spPr>
          <a:xfrm>
            <a:off x="971640" y="3933720"/>
            <a:ext cx="3314520" cy="25527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"/>
          <p:cNvPicPr/>
          <p:nvPr/>
        </p:nvPicPr>
        <p:blipFill>
          <a:blip r:embed="rId2"/>
          <a:stretch/>
        </p:blipFill>
        <p:spPr>
          <a:xfrm>
            <a:off x="5148360" y="2205000"/>
            <a:ext cx="3276360" cy="208584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KOPAS UZSKATĀMI VAR PARĀDĪT AR EILERE-VENNA DIAGRAMMĀ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39280" y="169992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opas apvienojums-visi elemeti tieši vienu reiz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opas šķēlums-tikkai kopīgie eleme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5076720" y="5084640"/>
                <a:ext cx="2232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2050920" y="2502000"/>
                <a:ext cx="19465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"/>
          <p:cNvPicPr/>
          <p:nvPr/>
        </p:nvPicPr>
        <p:blipFill>
          <a:blip r:embed="rId1"/>
          <a:stretch/>
        </p:blipFill>
        <p:spPr>
          <a:xfrm>
            <a:off x="4356000" y="4221000"/>
            <a:ext cx="3257640" cy="21434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3990960" cy="238104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KOPAS UZSKATĀMI VAR PARĀDĪT AR EILERE-VENNA DIAGRAMMĀ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94920" y="1600200"/>
            <a:ext cx="84978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opas atņemšan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ikai tie elemeti, kas nepieder kopai B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ikai tie elemeti, kas nepieder kopai 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Teksta vietturis 12"/>
              <p:cNvSpPr txBox="1"/>
              <p:nvPr/>
            </p:nvSpPr>
            <p:spPr>
              <a:xfrm>
                <a:off x="1835280" y="5013360"/>
                <a:ext cx="16729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5003640" y="2492280"/>
                <a:ext cx="172908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10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1000"/>
                                        <p:tgtEl>
                                          <p:spTgt spid="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0:12:24Z</dcterms:created>
  <dc:creator>Dzeralds</dc:creator>
  <dc:description/>
  <dc:language>en-US</dc:language>
  <cp:lastModifiedBy>Fizikas un Matemātikas fakultāte</cp:lastModifiedBy>
  <dcterms:modified xsi:type="dcterms:W3CDTF">2010-08-08T07:37:13Z</dcterms:modified>
  <cp:revision>46</cp:revision>
  <dc:subject/>
  <dc:title>Atkārtojuma uzdevumi</dc:title>
</cp:coreProperties>
</file>