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A53-5760-45AD-914B-4F29A91C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2FC-9BC0-45A8-99C9-177EF77F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93BB-948B-4184-BDE3-1378841A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7A17-F9D4-42F0-8391-ADCCCE60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792A-0790-4187-BB06-8E537833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579D-D245-473D-AE7F-8B1A19E8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AEC5-708E-4304-9397-C52BF812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271C-C39F-4740-9D26-62B6151E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5A26-1195-4568-94D6-AE568303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0A73-E9CF-41FF-8BCC-CF570AC4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9C6F-FE6C-4981-B71E-55E0D562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9F9-E15E-4324-9690-CAE3515E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B17D-7254-421C-B46C-DB4BDA0F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864D-54C1-439C-A313-8FF93F61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1D26-4675-43FF-AAE0-A0AB9D6E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F8E8-1E23-4B1D-9C2F-59C2124F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CC09-44A8-4BB0-8C0A-A3A7BA13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A8260-E456-43D5-8278-E6A9A05E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A2427-CC79-4C4A-A599-7C9369F6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C5C3B-0C2C-43F3-9AA3-7FF69333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3CA9A-11EF-425B-907B-D777B631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3DFC8-6D2D-49BA-8CD0-971282FC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2760-06C5-45E7-BE25-61BCD4F6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057B4-DFDF-49AC-8874-D1022CC5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52738-C3D5-41D0-9063-696A317E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2262B-03E7-4434-8ED3-24C264EB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AA833-D2EB-40B5-94B0-0089F75E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B59F4-6907-4CB6-A56C-A496FF60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403E0-68AD-400A-8015-65511239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12C56-C190-4F16-80AB-E5772F9C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A1A78-DFCE-431E-8FAC-37E85E74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E9D22-EFD4-437F-B7B7-76831C36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23A11-1654-4A66-8D98-1233977C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0254-17D8-45BA-A10F-7E6FF77E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CF05E-E514-4B8C-8A2D-3B1F2ED4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B9B07-5CD7-4F0F-9E9B-6CF731F4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3C9CE-96E1-43EF-91CC-103DB343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1A236-858D-4EE5-AFE1-5EF43828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D0BB6-BEDB-48C8-BB56-51AC611D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D6BFF-C4BD-47C2-B158-5BC5B32D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82FF8-082B-44D0-9A27-D884CC62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98F80-72F1-4C0E-896F-E2CC74C3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58E73-8834-44AA-9B9B-74B42187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E55E-22FB-4F69-A323-7F09C682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179-7932-4C24-9EB5-D9707DBD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F11A-4524-44B7-BA9E-655C2BD4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624-9546-490B-8F47-BA649BEE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7C6D-CACE-4649-9875-DF1C4B6A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DE81-8D3D-4570-BF88-E65845E9B32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DEF6-851E-4D42-AB7E-E2147834657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E804-36C1-4B0F-804B-A25028B9670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B3A5-B7F1-45CC-BF80-9E1365E356B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tle 1"/>
          <p:cNvSpPr/>
          <p:nvPr/>
        </p:nvSpPr>
        <p:spPr>
          <a:xfrm>
            <a:off x="250920" y="260280"/>
            <a:ext cx="86630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Kopu teorijas pamatjēdzie</a:t>
            </a: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ni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opu teorijas pamatjēdzien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58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opa-Kopas jēdziens ir viens no matemātikas pamatjēdzieniem.  Par kopu matemātikā var uzskatīt atsevišķu objektu veidotu jaunu un vienotu apvienojumu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urpmāk pieņemsim un darbosimies ar divām kopām: A un B (darīsim tā tikai uzskatāmības dēļ, faktiski, visi atzinumi ir derīgi jebkādam kopu skaitam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1576440" y="4000680"/>
            <a:ext cx="2781360" cy="2714400"/>
            <a:chOff x="1576440" y="4000680"/>
            <a:chExt cx="2781360" cy="2714400"/>
          </a:xfrm>
        </p:grpSpPr>
        <p:sp>
          <p:nvSpPr>
            <p:cNvPr id="199" name="Oval 3"/>
            <p:cNvSpPr/>
            <p:nvPr/>
          </p:nvSpPr>
          <p:spPr>
            <a:xfrm>
              <a:off x="1643040" y="400068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6"/>
            <p:cNvSpPr/>
            <p:nvPr/>
          </p:nvSpPr>
          <p:spPr>
            <a:xfrm>
              <a:off x="1576440" y="400068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"/>
          <p:cNvGrpSpPr/>
          <p:nvPr/>
        </p:nvGrpSpPr>
        <p:grpSpPr>
          <a:xfrm>
            <a:off x="5214960" y="4000680"/>
            <a:ext cx="2857320" cy="2724120"/>
            <a:chOff x="5214960" y="4000680"/>
            <a:chExt cx="2857320" cy="2724120"/>
          </a:xfrm>
        </p:grpSpPr>
        <p:sp>
          <p:nvSpPr>
            <p:cNvPr id="202" name="Oval 5"/>
            <p:cNvSpPr/>
            <p:nvPr/>
          </p:nvSpPr>
          <p:spPr>
            <a:xfrm>
              <a:off x="5214960" y="4000680"/>
              <a:ext cx="2724120" cy="2724120"/>
            </a:xfrm>
            <a:prstGeom prst="ellipse">
              <a:avLst/>
            </a:prstGeom>
            <a:solidFill>
              <a:srgbClr val="55a839"/>
            </a:solidFill>
            <a:ln w="25560">
              <a:solidFill>
                <a:srgbClr val="387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7"/>
            <p:cNvSpPr/>
            <p:nvPr/>
          </p:nvSpPr>
          <p:spPr>
            <a:xfrm>
              <a:off x="7607160" y="4000680"/>
              <a:ext cx="46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as elementi- matemātiskie objekti, no kā sastāv kop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1643040" y="2571840"/>
            <a:ext cx="2781360" cy="2714400"/>
            <a:chOff x="1643040" y="2571840"/>
            <a:chExt cx="2781360" cy="2714400"/>
          </a:xfrm>
        </p:grpSpPr>
        <p:sp>
          <p:nvSpPr>
            <p:cNvPr id="207" name="Oval 4"/>
            <p:cNvSpPr/>
            <p:nvPr/>
          </p:nvSpPr>
          <p:spPr>
            <a:xfrm>
              <a:off x="1709640" y="257184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5"/>
            <p:cNvSpPr/>
            <p:nvPr/>
          </p:nvSpPr>
          <p:spPr>
            <a:xfrm>
              <a:off x="1643040" y="257184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1"/>
          <p:cNvSpPr/>
          <p:nvPr/>
        </p:nvSpPr>
        <p:spPr>
          <a:xfrm>
            <a:off x="3571920" y="35719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2214720" y="38577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3071880" y="26431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2571840" y="32860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0"/>
          <p:cNvSpPr/>
          <p:nvPr/>
        </p:nvSpPr>
        <p:spPr>
          <a:xfrm>
            <a:off x="5504760" y="35002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={a;b;c;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kša kopa-kopa, kas nesatur nevienu elemen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1643040" y="2571840"/>
            <a:ext cx="2781360" cy="2714400"/>
            <a:chOff x="1643040" y="2571840"/>
            <a:chExt cx="2781360" cy="2714400"/>
          </a:xfrm>
        </p:grpSpPr>
        <p:sp>
          <p:nvSpPr>
            <p:cNvPr id="217" name="Oval 4"/>
            <p:cNvSpPr/>
            <p:nvPr/>
          </p:nvSpPr>
          <p:spPr>
            <a:xfrm>
              <a:off x="1709640" y="257184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5"/>
            <p:cNvSpPr/>
            <p:nvPr/>
          </p:nvSpPr>
          <p:spPr>
            <a:xfrm>
              <a:off x="1643040" y="257184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Box 20"/>
          <p:cNvSpPr/>
          <p:nvPr/>
        </p:nvSpPr>
        <p:spPr>
          <a:xfrm>
            <a:off x="5525280" y="350028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={} jeb A=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onstantia"/>
              </a:rPr>
              <a:t>Galīga kopa-kopa, kas satur galīgu skaitu elementu. Piemēram, kopa A (Latvijas Valsts prezidenti pēc 1991.gada)={Guntis Ulmanis, Vaira Vīķe-Freiberga, Valdis Zatlers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onstantia"/>
              </a:rPr>
              <a:t>Bezgalīga kopa-kopa, kas satur bezgalīgu skaitu elementu. Piemēram, kopa B (pozitīvo naturālo skaitļu kopa)={1,2,3,4,....}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arbības ar kopā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šķēlums-par divu kopu A un B šķēlumu sauc kopu C, tādu kuras elementi pieder abām dotajām kopām A un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1500120" y="3571920"/>
            <a:ext cx="2781360" cy="2714760"/>
            <a:chOff x="1500120" y="3571920"/>
            <a:chExt cx="2781360" cy="2714760"/>
          </a:xfrm>
        </p:grpSpPr>
        <p:sp>
          <p:nvSpPr>
            <p:cNvPr id="225" name="Oval 4"/>
            <p:cNvSpPr/>
            <p:nvPr/>
          </p:nvSpPr>
          <p:spPr>
            <a:xfrm>
              <a:off x="1566720" y="3571920"/>
              <a:ext cx="2714760" cy="271476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"/>
            <p:cNvSpPr/>
            <p:nvPr/>
          </p:nvSpPr>
          <p:spPr>
            <a:xfrm>
              <a:off x="1500120" y="357192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Group 6" descr=""/>
          <p:cNvPicPr/>
          <p:nvPr/>
        </p:nvPicPr>
        <p:blipFill>
          <a:blip r:embed="rId2"/>
          <a:stretch/>
        </p:blipFill>
        <p:spPr>
          <a:xfrm>
            <a:off x="3054240" y="3584520"/>
            <a:ext cx="2932200" cy="28036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0"/>
          <p:cNvSpPr/>
          <p:nvPr/>
        </p:nvSpPr>
        <p:spPr>
          <a:xfrm flipH="1">
            <a:off x="3999960" y="32860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3500280" y="48578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2428920" y="51436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3429000" y="42148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4286160" y="3929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4500720" y="52149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2928960" y="36432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9"/>
          <p:cNvSpPr/>
          <p:nvPr/>
        </p:nvSpPr>
        <p:spPr>
          <a:xfrm>
            <a:off x="6072120" y="40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      B=C={b;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6357960" y="4071960"/>
                <a:ext cx="4842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apvienojums-par divu kopu A un B apvienojumu sauc kopu C, tādu kuras elementi pieder kopai A vai kopai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000080" y="3214800"/>
            <a:ext cx="2781360" cy="2714400"/>
            <a:chOff x="1000080" y="3214800"/>
            <a:chExt cx="2781360" cy="2714400"/>
          </a:xfrm>
        </p:grpSpPr>
        <p:sp>
          <p:nvSpPr>
            <p:cNvPr id="240" name="Oval 4"/>
            <p:cNvSpPr/>
            <p:nvPr/>
          </p:nvSpPr>
          <p:spPr>
            <a:xfrm>
              <a:off x="106668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5"/>
            <p:cNvSpPr/>
            <p:nvPr/>
          </p:nvSpPr>
          <p:spPr>
            <a:xfrm>
              <a:off x="100008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Group 6" descr=""/>
          <p:cNvPicPr/>
          <p:nvPr/>
        </p:nvPicPr>
        <p:blipFill>
          <a:blip r:embed="rId2"/>
          <a:stretch/>
        </p:blipFill>
        <p:spPr>
          <a:xfrm>
            <a:off x="2481120" y="3157560"/>
            <a:ext cx="2938680" cy="27986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 flipH="1">
            <a:off x="2928240" y="25002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4071960" y="49291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2928960" y="4643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3786120" y="3429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4286160" y="3929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1500120" y="44290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2143080" y="35719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    B=C={a;b;c;d;e;f;g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3"/>
              <p:cNvSpPr txBox="1"/>
              <p:nvPr/>
            </p:nvSpPr>
            <p:spPr>
              <a:xfrm>
                <a:off x="5643720" y="4071960"/>
                <a:ext cx="4093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starpība-par divu kopu A un B starpību sauc kopu C, tādu kuras elementi pieder kopai A ,bet nepieder kopai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1000080" y="3214800"/>
            <a:ext cx="2781360" cy="2714400"/>
            <a:chOff x="1000080" y="3214800"/>
            <a:chExt cx="2781360" cy="2714400"/>
          </a:xfrm>
        </p:grpSpPr>
        <p:sp>
          <p:nvSpPr>
            <p:cNvPr id="255" name="Oval 4"/>
            <p:cNvSpPr/>
            <p:nvPr/>
          </p:nvSpPr>
          <p:spPr>
            <a:xfrm>
              <a:off x="106668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5"/>
            <p:cNvSpPr/>
            <p:nvPr/>
          </p:nvSpPr>
          <p:spPr>
            <a:xfrm>
              <a:off x="100008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Group 6" descr=""/>
          <p:cNvPicPr/>
          <p:nvPr/>
        </p:nvPicPr>
        <p:blipFill>
          <a:blip r:embed="rId2"/>
          <a:stretch/>
        </p:blipFill>
        <p:spPr>
          <a:xfrm>
            <a:off x="2481120" y="3157560"/>
            <a:ext cx="2938680" cy="27986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0"/>
          <p:cNvSpPr/>
          <p:nvPr/>
        </p:nvSpPr>
        <p:spPr>
          <a:xfrm flipH="1">
            <a:off x="2928240" y="25718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2857680" y="46432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4286160" y="42861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1643040" y="4500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500120" y="36432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3143160" y="42861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143080" y="35719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\B=C={b;f;g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as papildinājums-kopas A papildinājumu sauc visus tos elementus, kas nepieder kopai 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2000160" y="3214800"/>
            <a:ext cx="2781360" cy="2714400"/>
            <a:chOff x="2000160" y="3214800"/>
            <a:chExt cx="2781360" cy="2714400"/>
          </a:xfrm>
        </p:grpSpPr>
        <p:sp>
          <p:nvSpPr>
            <p:cNvPr id="269" name="Oval 4"/>
            <p:cNvSpPr/>
            <p:nvPr/>
          </p:nvSpPr>
          <p:spPr>
            <a:xfrm>
              <a:off x="206676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5"/>
            <p:cNvSpPr/>
            <p:nvPr/>
          </p:nvSpPr>
          <p:spPr>
            <a:xfrm>
              <a:off x="200016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1"/>
          <p:cNvSpPr/>
          <p:nvPr/>
        </p:nvSpPr>
        <p:spPr>
          <a:xfrm>
            <a:off x="3071880" y="50720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3286080" y="3500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1357200" y="44290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4000680" y="43578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2286000" y="3500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={a;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0"/>
          <p:cNvSpPr/>
          <p:nvPr/>
        </p:nvSpPr>
        <p:spPr>
          <a:xfrm>
            <a:off x="5500800" y="4071960"/>
            <a:ext cx="21420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4429080" y="2786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2571840" y="43578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19:33:16Z</dcterms:created>
  <dc:creator>***</dc:creator>
  <dc:description/>
  <dc:language>en-US</dc:language>
  <cp:lastModifiedBy>Fizikas un Matemātikas fakultāte</cp:lastModifiedBy>
  <dcterms:modified xsi:type="dcterms:W3CDTF">2010-08-06T16:10:26Z</dcterms:modified>
  <cp:revision>18</cp:revision>
  <dc:subject/>
  <dc:title>Slide 1</dc:title>
</cp:coreProperties>
</file>