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22656-D389-40E1-B1D7-37E7DD624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B4972-15D3-47B5-A948-71B4336E4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97EC7-B61F-4BF1-B6E7-C711576FB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96915-2A35-4DAE-BF87-B4FDF0108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7E12C-22F3-4A25-AB4E-55E90AD6D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C794F-E9D1-426C-94E8-492EA62F0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EEA4C-BA16-4E19-BC48-97A08DA4D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67823-408F-4FAB-8614-C274D05F8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61D79-DEB7-49F4-9B2C-98D6BAEA3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7D085-90A0-4B14-9F8C-F8E9E1F6C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64BC5-332D-481D-A1D7-0990948BA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CE2BA-2938-47B6-BF51-9F87DBCCB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C77FB-20A9-44A9-9F87-6E4E0DFB9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D06F8-4360-44DE-BF9C-E8A3991C0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5A744-D2C0-4430-9E3E-F27EA6157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C6FA3C-2CD4-4936-8C29-2E0E775E7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2D4EF9-ED3A-4F7F-A424-18B549EEB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9A51EE-A640-4833-BA97-ADD899B711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DA3881-F33D-4217-8ED7-6307F8DA82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B7813A-5A48-408B-B5AE-17788D08D9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201C1C-A1C9-4787-B067-3C4191B20C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7853A5-61D5-4F24-9D96-8EA59E187B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8DC94-581A-4606-B69A-B91A6635E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11D1CD-1DC6-41BC-AE68-901DDCAF1A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834A6-AA0B-411B-9B83-6A21EBF698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B3D048-A390-42E1-891F-360F7857BA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C0A5F9-0436-4ABC-99F9-DD0ACEE1ED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3B794B-789B-46ED-BAAC-B83F89E9A2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D139AB-19D7-4A35-88D9-8739A02EF4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4F1911-05CA-43DD-B894-DB96BCFCB7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C3537F-1ED5-4FAE-B867-E83422FB41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1B3FDF-3428-4C68-93C1-2AC9EF453A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7BBABC-0BD6-4380-AA5B-0E3492255B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83405-A3AB-462D-9450-9E9503D72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BD3085-689B-4AAB-88FC-2109AC824C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8DF0E9-D3AA-4893-A9EE-C3D5B20DD1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EC427B-6CF1-44B1-A646-3236854DDB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EFBA4-32BE-4771-B71F-6E63AC5F0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4191E3-0B8A-4F43-B379-D6096FE9A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6F709C-0CB2-4EC4-A9E3-777D960B7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8D21A3-117F-45FD-92A6-A6FF978CF0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CDFA3A-9BF2-4B16-BB19-8BCCC09625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9FEC65-E765-4D1F-924D-F069B6EC3B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F8D83-0590-4C61-9C83-134AE23DD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9E9C2-287E-4D8C-81A7-D646231A7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5E144-D999-4DD3-9832-C992E4BD0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64485-26F9-4ED1-B076-DC6172137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C7F19-23AA-4C3E-BC86-03D4FC0B4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7A78-28B4-49FE-9E37-25EEBB52C246}"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44" name="Rounded Rectangle 10"/>
          <p:cNvGrpSpPr/>
          <p:nvPr/>
        </p:nvGrpSpPr>
        <p:grpSpPr>
          <a:xfrm>
            <a:off x="60480" y="60480"/>
            <a:ext cx="9028080" cy="6711840"/>
            <a:chOff x="60480" y="60480"/>
            <a:chExt cx="9028080" cy="6711840"/>
          </a:xfrm>
        </p:grpSpPr>
        <p:pic>
          <p:nvPicPr>
            <p:cNvPr id="45" name="Rounded Rectangle 10" descr=""/>
            <p:cNvPicPr/>
            <p:nvPr/>
          </p:nvPicPr>
          <p:blipFill>
            <a:blip r:embed="rId3"/>
            <a:stretch/>
          </p:blipFill>
          <p:spPr>
            <a:xfrm>
              <a:off x="60480" y="60480"/>
              <a:ext cx="9028080" cy="6711840"/>
            </a:xfrm>
            <a:prstGeom prst="rect">
              <a:avLst/>
            </a:prstGeom>
            <a:ln w="0">
              <a:noFill/>
            </a:ln>
          </p:spPr>
        </p:pic>
        <p:sp>
          <p:nvSpPr>
            <p:cNvPr id="46"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47"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9"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3" name="PlaceHolder 4"/>
          <p:cNvSpPr>
            <a:spLocks noGrp="1"/>
          </p:cNvSpPr>
          <p:nvPr>
            <p:ph type="ftr" idx="5"/>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4" name="PlaceHolder 5"/>
          <p:cNvSpPr>
            <a:spLocks noGrp="1"/>
          </p:cNvSpPr>
          <p:nvPr>
            <p:ph type="sldNum" idx="6"/>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F207-B2EA-4AC3-BDCB-3A7CD8EA2825}"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7"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98"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9"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417E-E843-4F2E-B970-3BF58A35E887}"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144" name="PlaceHolder 4"/>
          <p:cNvSpPr>
            <a:spLocks noGrp="1"/>
          </p:cNvSpPr>
          <p:nvPr>
            <p:ph type="ftr" idx="11"/>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96C5-EF9C-4AB6-83B3-C8039DEC298C}"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9280" y="549360"/>
            <a:ext cx="8147160" cy="868320"/>
          </a:xfrm>
          <a:prstGeom prst="rect">
            <a:avLst/>
          </a:prstGeom>
          <a:solidFill>
            <a:srgbClr val="ffff99"/>
          </a:solid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Franklin Gothic Book"/>
              </a:rPr>
              <a:t>Matemātika. Loģika. Sadzīve.</a:t>
            </a:r>
            <a:endParaRPr b="0" lang="en-US" sz="4000" spc="-1" strike="noStrike">
              <a:solidFill>
                <a:srgbClr val="696464"/>
              </a:solidFill>
              <a:latin typeface="Franklin Gothic Book"/>
            </a:endParaRPr>
          </a:p>
        </p:txBody>
      </p:sp>
      <p:sp>
        <p:nvSpPr>
          <p:cNvPr id="183" name="TextBox 3"/>
          <p:cNvSpPr/>
          <p:nvPr/>
        </p:nvSpPr>
        <p:spPr>
          <a:xfrm>
            <a:off x="826920" y="1844640"/>
            <a:ext cx="777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Bieži vien nākas dzirdēt: “Algebra un ģeometrija...? Kāpēc man tas vajadzīgs? Kur tas noderēs?”</a:t>
            </a:r>
            <a:endParaRPr b="0" lang="en-US" sz="2400" spc="-1" strike="noStrike">
              <a:solidFill>
                <a:srgbClr val="000000"/>
              </a:solidFill>
              <a:latin typeface="Perpetua"/>
            </a:endParaRPr>
          </a:p>
        </p:txBody>
      </p:sp>
      <p:sp>
        <p:nvSpPr>
          <p:cNvPr id="184" name="TextBox 4"/>
          <p:cNvSpPr/>
          <p:nvPr/>
        </p:nvSpPr>
        <p:spPr>
          <a:xfrm>
            <a:off x="826920" y="2997360"/>
            <a:ext cx="7345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kdienā nereti piedzīvojam situācijas, kur nepieciešams kaut ko izrēķināt. Bet pat aizmirstot šo faktu, varu apgalvot, ka jebkuram cilvēkam algebra un ģeometrija dzīvē noder, tikai varbūt ne tiešā veidā - logaritmi nav jārēķina, bet ikdienas situācijās mēs bieži varam ieekonomēt laiku un naudu, varam uzturēt labākas attiecības, būt radošāki utt., ja mūsos ir kaut nedaudz no loģikas, kuru attīsta tieši algebra un ģeometrija.</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Box 3"/>
          <p:cNvSpPr/>
          <p:nvPr/>
        </p:nvSpPr>
        <p:spPr>
          <a:xfrm>
            <a:off x="539640" y="3333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Apskatīsim piemēru, kā ikdienas sarunā tiek izmantota loģika, pievēršot uzmanību “un” un “vai” lietojumam.</a:t>
            </a:r>
            <a:endParaRPr b="0" lang="en-US" sz="2400" spc="-1" strike="noStrike">
              <a:solidFill>
                <a:srgbClr val="000000"/>
              </a:solidFill>
              <a:latin typeface="Perpetua"/>
            </a:endParaRPr>
          </a:p>
        </p:txBody>
      </p:sp>
      <p:sp>
        <p:nvSpPr>
          <p:cNvPr id="186" name="TextBox 4"/>
          <p:cNvSpPr/>
          <p:nvPr/>
        </p:nvSpPr>
        <p:spPr>
          <a:xfrm>
            <a:off x="684360" y="126828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Salīdzini abus teikumus!</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un pildspalvu.</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vai pildspalvu.</a:t>
            </a:r>
            <a:endParaRPr b="0" lang="en-US" sz="2400" spc="-1" strike="noStrike">
              <a:solidFill>
                <a:srgbClr val="000000"/>
              </a:solidFill>
              <a:latin typeface="Perpetua"/>
            </a:endParaRPr>
          </a:p>
        </p:txBody>
      </p:sp>
      <p:sp>
        <p:nvSpPr>
          <p:cNvPr id="187" name="TextBox 5"/>
          <p:cNvSpPr/>
          <p:nvPr/>
        </p:nvSpPr>
        <p:spPr>
          <a:xfrm>
            <a:off x="684360" y="2637000"/>
            <a:ext cx="7991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1) Pirmajā teikumā tiek pateikts, ka ir nepieciešama gan pildspalva, gan zīmulis. Tātad uz šo teikumu pareiza reakcija būtu, ja pasniegtu gan zīmuli, gan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skolā ir semestra sākums un skolēnam nav ne zīmuļa, ne pildspalvas).</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2) Otrajā teikumā tiek pateikts, ka ir vienalga, vai ir tikai zīmulis, vai tikai pildspalva. Tātad uz šo teikumu ir divi varianti, kā var pareizi reaģēt: </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zīmuli;</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vajag aši pierakstīt adresi, bet nav ar k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Box 1"/>
          <p:cNvSpPr/>
          <p:nvPr/>
        </p:nvSpPr>
        <p:spPr>
          <a:xfrm>
            <a:off x="611280" y="47628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epriekš bija piemērs, kur vienā teikumā bija izmantots viens no abiem: “un” vai “vai”. Bet var būt arī teikumi, kur “un” un “vai” tiek kombinēti.</a:t>
            </a:r>
            <a:endParaRPr b="0" lang="en-US" sz="2400" spc="-1" strike="noStrike">
              <a:solidFill>
                <a:srgbClr val="000000"/>
              </a:solidFill>
              <a:latin typeface="Perpetua"/>
            </a:endParaRPr>
          </a:p>
        </p:txBody>
      </p:sp>
      <p:sp>
        <p:nvSpPr>
          <p:cNvPr id="189" name="TextBox 2"/>
          <p:cNvSpPr/>
          <p:nvPr/>
        </p:nvSpPr>
        <p:spPr>
          <a:xfrm>
            <a:off x="539640" y="191628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ea typeface="Arial"/>
              </a:rPr>
              <a:t>Piemērs. </a:t>
            </a:r>
            <a:r>
              <a:rPr b="0" lang="lv-LV" sz="2400" spc="-1" strike="noStrike">
                <a:solidFill>
                  <a:srgbClr val="000000"/>
                </a:solidFill>
                <a:latin typeface="Arial"/>
                <a:ea typeface="Arial"/>
              </a:rPr>
              <a:t>Man vajag papīru un rakstāmo vai telefonu.</a:t>
            </a:r>
            <a:endParaRPr b="0" lang="en-US" sz="2400" spc="-1" strike="noStrike">
              <a:solidFill>
                <a:srgbClr val="000000"/>
              </a:solidFill>
              <a:latin typeface="Perpetua"/>
            </a:endParaRPr>
          </a:p>
        </p:txBody>
      </p:sp>
      <p:sp>
        <p:nvSpPr>
          <p:cNvPr id="190" name="TextBox 3"/>
          <p:cNvSpPr/>
          <p:nvPr/>
        </p:nvSpPr>
        <p:spPr>
          <a:xfrm>
            <a:off x="684360" y="278136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r divas dažādas pareizas reakcijas uz šādu teikumu:</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papīru un rakstāmo;</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telefon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ir nepieciešams pierakstīt telefona nummuru - to var izdarīt, vai nu ar rakstāmo uz lapas, vai arī ieraksīt telefonā.</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8:53:30Z</dcterms:created>
  <dc:creator>Lenovo User</dc:creator>
  <dc:description/>
  <dc:language>en-US</dc:language>
  <cp:lastModifiedBy>Fizikas un Matemātikas fakultāte</cp:lastModifiedBy>
  <dcterms:modified xsi:type="dcterms:W3CDTF">2010-08-08T08:13:39Z</dcterms:modified>
  <cp:revision>94</cp:revision>
  <dc:subject/>
  <dc:title>Matemātika. Loģika. Sadzīve.</dc:title>
</cp:coreProperties>
</file>