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8AF-EE38-4C9A-8322-7A522439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857-2605-4B75-8A0A-F976C694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088-55CB-44FA-B6DD-63061E58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B08-5F3A-404F-AFD9-DB2DEBB8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9762-DD90-4572-B6FD-99255FB0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3131-293F-4B76-9218-3D364055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7368-BFA3-4209-8627-271E9EF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9FBB-6D69-4D1C-BBED-23DFD9D2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3E1B-B273-4CAA-8E86-6DE462E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7B0A-F2A8-4B06-91B0-953192B2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3262-1676-4E2A-AA5B-DAF9240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7A0-A8E5-4777-BC73-02B98084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A385-7DC6-4CAB-9D7D-EF1B970C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F93B-33A8-4BD9-A1F6-3A6812A6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1450-E6C0-4E98-AFA5-45C782C3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0A0F-2E49-44A2-BEA0-88F49D11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9732-F326-450D-8DD5-127303CA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AF0-608A-484D-A802-148AC3B8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FFC-614D-4CCC-80D8-5FF4817A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A30-E0BD-4AED-BEB7-85D4309B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032-D6F4-4CD8-BB0E-7DA2C76B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BC8-1596-443F-BB0E-289F83D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CB5-E243-4F75-A276-D4FA016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0F3-4A45-4740-A157-4897328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F52-C477-49FC-8419-1A0F056F3D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114-1BE9-4007-BA4E-F1D864B8324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v.wikipedia.org/wiki/1632" TargetMode="External"/><Relationship Id="rId2" Type="http://schemas.openxmlformats.org/officeDocument/2006/relationships/hyperlink" Target="http://lv.wikipedia.org/wiki/29._augusts" TargetMode="External"/><Relationship Id="rId3" Type="http://schemas.openxmlformats.org/officeDocument/2006/relationships/hyperlink" Target="http://lv.wikipedia.org/wiki/1704" TargetMode="External"/><Relationship Id="rId4" Type="http://schemas.openxmlformats.org/officeDocument/2006/relationships/hyperlink" Target="http://lv.wikipedia.org/wiki/28.oktobris" TargetMode="External"/><Relationship Id="rId5" Type="http://schemas.openxmlformats.org/officeDocument/2006/relationships/hyperlink" Target="http://lv.wikipedia.org/wiki/Apgaism&#299;ba" TargetMode="External"/><Relationship Id="rId6" Type="http://schemas.openxmlformats.org/officeDocument/2006/relationships/hyperlink" Target="http://lv.wikipedia.org/wiki/Ang&#316;i" TargetMode="External"/><Relationship Id="rId7" Type="http://schemas.openxmlformats.org/officeDocument/2006/relationships/hyperlink" Target="http://lv.wikipedia.org/wiki/Filozofija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cc"/>
                </a:solidFill>
                <a:latin typeface="Tahoma"/>
              </a:rPr>
              <a:t>Matemātiskā loģika un sadzī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 u="sng">
                <a:solidFill>
                  <a:srgbClr val="962671"/>
                </a:solidFill>
                <a:uFillTx/>
                <a:latin typeface="Tahoma"/>
              </a:rPr>
              <a:t>Slēdzie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33520"/>
            <a:ext cx="1828800" cy="1447560"/>
          </a:xfrm>
          <a:prstGeom prst="pentagon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3360" y="533520"/>
            <a:ext cx="5331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133720" y="1066680"/>
            <a:ext cx="14475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914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152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is sastāv no trīs trijstūriem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19720" y="990720"/>
                <a:ext cx="838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G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334120" y="9907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R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172200" y="990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V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315200" y="11430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400800" y="1676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RV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31520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iekšē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leņķu summa ir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29400" y="2590920"/>
                <a:ext cx="175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9144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733920" y="2647800"/>
                <a:ext cx="2895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95280" y="32767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plūkojot trijstūra, četrstūra, piecstūra iekšējo leņķu summu iegūšan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ar saskatīt sakarību, ka n – stūra iekšējo leņķu summa 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5880" y="4800600"/>
                <a:ext cx="231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523880" y="5257800"/>
            <a:ext cx="304920" cy="60948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523880" y="4571640"/>
            <a:ext cx="457200" cy="6858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572000"/>
            <a:ext cx="914400" cy="7632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648320"/>
            <a:ext cx="609840" cy="4572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867280"/>
            <a:ext cx="1143000" cy="304920"/>
          </a:xfrm>
          <a:prstGeom prst="line">
            <a:avLst/>
          </a:prstGeom>
          <a:ln w="2844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5105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3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638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4,..............,n- stū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4876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induktīv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darot vispārīgus secinājumus no atsevišķu gadījumu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āda figūra būs nākamā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Kāda figūra būs nākamā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š skaitlis būs nākamais 7; 11; 15; 19;.....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971800"/>
            <a:ext cx="12189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71800"/>
            <a:ext cx="114300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2971800"/>
            <a:ext cx="1143000" cy="99072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2895480"/>
            <a:ext cx="12193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2895480"/>
            <a:ext cx="1219320" cy="10670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200400"/>
            <a:ext cx="609480" cy="45720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124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59092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876240" y="491508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1980720" y="4800600"/>
            <a:ext cx="762120" cy="838080"/>
          </a:xfrm>
          <a:custGeom>
            <a:avLst/>
            <a:gdLst>
              <a:gd name="textAreaLeft" fmla="*/ 254160 w 762120"/>
              <a:gd name="textAreaRight" fmla="*/ 653040 w 762120"/>
              <a:gd name="textAreaTop" fmla="*/ 5346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971800" y="4800600"/>
            <a:ext cx="914400" cy="76176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029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4495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induktīvie slēdzien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ē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Situācijas, kurās induktīvo spriešanu nevaram pilnīgi droši apgalvot i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žādu stereotipu rašanās pamatā un bieži vien var būt maldinoš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52480" y="3124080"/>
            <a:ext cx="2840040" cy="3133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1381320" cy="3286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257800" y="2514600"/>
            <a:ext cx="3352680" cy="914400"/>
          </a:xfrm>
          <a:prstGeom prst="cloudCallout">
            <a:avLst>
              <a:gd name="adj1" fmla="val -33523"/>
              <a:gd name="adj2" fmla="val 8003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Arial"/>
              </a:rPr>
              <a:t>Tātad visām meitenēm patīk sarkana krā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konstatējuši, ka 10 dažādos laikrakstos reklāma aizņem visma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20%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o avīzes laukuma, tad spriedums, ka “visās avīzēs reklā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izņem vismaz 20% no tā laukuma”, var būt nepati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novērojuši, ka visi mūsu paziņas vīrieši brauc ar automašīnā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u dzinēja tilpums ir vismaz 2 litri, mēs nedrīkstam pilnīgi droš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pgalvot, ka visi vīrieši brauc tikai ar šādām mašīn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11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Ļaujot noformulēt idejas un izvirzīt hipotēzes par pētāmo procesu priekšmetu vai parādību. Vēlāk, šīs hipotēzes pamatojot, ir iespējams gūt apstiprinošu vai noliedzošu spriedumu par mūsu veiktajiem vērojum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zvirzi hipotēzi, kāda varētu būt nākamā figū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2933280" y="346716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47242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04520" y="5257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De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pamatotu spried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, ka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romba diagonāles krustpunktā dalās uz 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o  zinot, var droši apgalvot, ka arī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kvadrāta diagonāles krustpunktā dalās u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, jo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kvadrāts ir romba speciālgadīju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4495680"/>
            <a:ext cx="1676520" cy="15242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257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495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41911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O=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O=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572000"/>
            <a:ext cx="1219320" cy="106668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500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1464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T=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T=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deduktīvā slēdzienā jauns paties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mantojot iepriekš pierādītus faktus, patiesus apgalvojumus un loģiski seci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lielāks automašīnas ātrums, jo garāks ir tās bremzēšana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pat 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garāks bremzēšanas ceļš, jo garāks apstāšanā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 kā pirmie divi apgalvojumi ir patiesi, var secināt, ka patiess ir apgalvojums –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“jo lielāks ātrums, jo garāks apstāšanās ceļš”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, kas izriet no diviem patiesajiem apgalvojumi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deduktīvā ceļā iegūti spriedum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J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Pierādīt teorēmas, pamatot faktu paties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Eksper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3124080"/>
            <a:ext cx="2286000" cy="609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In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038480"/>
            <a:ext cx="144792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19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4724280"/>
            <a:ext cx="2361960" cy="533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e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486400"/>
            <a:ext cx="441936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s apstiprinājums vai nolieg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1523880"/>
            <a:ext cx="358164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Slēdzi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Empīris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as ir slēdzie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Slēdziens ir domāšanas forma, kurā no viena vai vairākiem spriedumiem tiek iegūts jauns spriedums. Sākotnējos spriedumus sauc par slēdziena premisām (no latīņu v. “praemissa” – priekšnoteikums), bet jauniegūto spriedumu – par slēdziena secināj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lēdziena piemērs, kur secinājums izriet no divām premisā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arūgtinājumi ir nepatīk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i sarūgtinājumi ir derī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as derīgas lietas ir nepatīk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962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Divas premi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3733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8006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Secinā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Empīrisk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gūto pieredzi, uz sajūtām (dzird, redz, saož), izlasot vai dzird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Sarkanā gaisma sāk mirgot, tātad drīz luksoforā iedegsies dzeltenā gaisma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Pulksten astoņos no rīta, ejot garām maizes ceptuvei, var saost cepta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izes smarž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3. “Ejam uz stundu, tikko nozvanīja zvan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71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empīrisk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o Individuālas pieredzes.</a:t>
            </a: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752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962671"/>
                </a:solidFill>
                <a:uFillTx/>
                <a:latin typeface="Tahoma"/>
              </a:rPr>
              <a:t>Vai empīriskie slēdzieni vienmēr ir paties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Nē.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Tā kā cilvēku pieredze ir individuāla, tad vienā un tajā pašā situācijā esošu dažādu cilvēku gūtā pieredze var būt dažāda.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Piemēri: No iepriekšējiem piemēr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” </a:t>
            </a: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būs patiess tiem cilvēkiem, kas neplāno savus izdevumus un ienākum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” ir spēkā tikai  kādai skolēnu daļa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Var palīdzēt pierādījuma veidošanā. Zināšanu  attīstīšanai, sevis pilnveidošan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Džons Lo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John Lock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3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29. augus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0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28.oktobri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pgaismība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laikmeta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ngļ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filozof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Empīrists. Viens no liberālisma pamatlicēji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Loks uzsvēra maņu, nevis intuīcijas vai dedukcijas, nozīmi zināšanu iegūšanā. Loks uzskatīja, ka piedzimstot cilvēka prāts ir k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tabula ra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tīra tāfele, uz kuras maņas atstāj nospiedumus, kas veido zināšanas. Viņš uzskatīja arī, ka visi cilvēki piedzimst labi, vienlīdzīgi un neatkarīg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581280" y="167652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In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vairāku eksperimentu vai vērojumu laikā gūtiem 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i="1" lang="lv-LV" sz="20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Ticējumi, kas atticas uz laika apstākļiem – cilvēku novērojum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udzu gadu garumā ļauj secināt: “ja saule pēc saullēkta uzrei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eiet mākoņos – būs lietu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3851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00120" y="382680"/>
          <a:ext cx="605160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82680"/>
                    <a:ext cx="6051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6858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18600">
            <a:off x="2133720" y="2285640"/>
            <a:ext cx="1600200" cy="68580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2590920"/>
                <a:ext cx="312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1295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4343400"/>
            <a:ext cx="144792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434340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10080" y="4191120"/>
                <a:ext cx="693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4191120"/>
                <a:ext cx="380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0" y="4495680"/>
                <a:ext cx="20574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K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NL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57200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724280"/>
                <a:ext cx="38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4120" y="4724280"/>
                <a:ext cx="6858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5029200"/>
                <a:ext cx="2210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L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858000" y="4038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429000" y="5562720"/>
                <a:ext cx="419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7315200" y="4572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7150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59:48Z</dcterms:created>
  <dc:creator>user</dc:creator>
  <dc:description/>
  <dc:language>en-US</dc:language>
  <cp:lastModifiedBy>Fizikas un Matemātikas fakultāte</cp:lastModifiedBy>
  <dcterms:modified xsi:type="dcterms:W3CDTF">2010-08-08T07:34:03Z</dcterms:modified>
  <cp:revision>94</cp:revision>
  <dc:subject/>
  <dc:title>Matemātiskā loģika un sadzīve.</dc:title>
</cp:coreProperties>
</file>